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A5CA-F6EA-43DB-8A0A-C8C56C23F298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lvc.ele.puc-rio.br/projects/interimage/" TargetMode="External"/><Relationship Id="rId2" Type="http://schemas.openxmlformats.org/officeDocument/2006/relationships/hyperlink" Target="http://www.lvc.ele.puc-rio.br/projects/interimage/" TargetMode="External"/><Relationship Id="rId3" Type="http://schemas.openxmlformats.org/officeDocument/2006/relationships/hyperlink" Target="http://wiki.dpi.inpe.br/doku.php?id=interimage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Fuzzy 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Proces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04640" y="1062000"/>
            <a:ext cx="8299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retation process i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uided by the 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has two step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p-d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enerates object hypotheses by executing top-down operators and top-down decision ru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ttom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idates/discards object hypotheses b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decision rules – creates object in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1172" b="20716"/>
          <a:stretch/>
        </p:blipFill>
        <p:spPr>
          <a:xfrm>
            <a:off x="2114640" y="3570120"/>
            <a:ext cx="5129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07960" y="3990960"/>
            <a:ext cx="1492200" cy="1730520"/>
            <a:chOff x="507960" y="3990960"/>
            <a:chExt cx="1492200" cy="1730520"/>
          </a:xfrm>
        </p:grpSpPr>
        <p:sp>
          <p:nvSpPr>
            <p:cNvPr id="134" name=""/>
            <p:cNvSpPr/>
            <p:nvPr/>
          </p:nvSpPr>
          <p:spPr>
            <a:xfrm>
              <a:off x="930240" y="439740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640" y="46386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p-dow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cep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0960" y="3990960"/>
            <a:ext cx="1492200" cy="1730520"/>
            <a:chOff x="7230960" y="3990960"/>
            <a:chExt cx="1492200" cy="1730520"/>
          </a:xfrm>
        </p:grpSpPr>
        <p:sp>
          <p:nvSpPr>
            <p:cNvPr id="139" name=""/>
            <p:cNvSpPr/>
            <p:nvPr/>
          </p:nvSpPr>
          <p:spPr>
            <a:xfrm rot="10800000">
              <a:off x="7651440" y="439704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0200" y="46767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ottom-u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0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ta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920" y="3767040"/>
            <a:ext cx="31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320040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de semân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4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1" name=""/>
            <p:cNvCxnSpPr>
              <a:stCxn id="152" idx="2"/>
              <a:endCxn id="14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2" idx="2"/>
              <a:endCxn id="14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7" idx="2"/>
              <a:endCxn id="14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2"/>
              <a:endCxn id="15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6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-233280" y="3683160"/>
            <a:ext cx="3519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ssoci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 conceito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6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2" name=""/>
            <p:cNvCxnSpPr>
              <a:stCxn id="173" idx="2"/>
              <a:endCxn id="16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2"/>
              <a:endCxn id="16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8" idx="2"/>
              <a:endCxn id="17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8" idx="2"/>
              <a:endCxn id="17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-232560" y="3683160"/>
            <a:ext cx="3134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8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186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189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1" name=""/>
          <p:cNvCxnSpPr>
            <a:stCxn id="189" idx="0"/>
            <a:endCxn id="192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6" idx="0"/>
            <a:endCxn id="192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4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192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9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"/>
            <p:cNvCxnSpPr>
              <a:stCxn id="204" idx="2"/>
              <a:endCxn id="19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4" idx="2"/>
              <a:endCxn id="20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9" idx="2"/>
              <a:endCxn id="20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9" idx="2"/>
              <a:endCxn id="20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14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17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220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2" name=""/>
          <p:cNvCxnSpPr>
            <a:stCxn id="220" idx="0"/>
            <a:endCxn id="2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7" idx="0"/>
            <a:endCxn id="2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3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"/>
            <p:cNvCxnSpPr>
              <a:stCxn id="235" idx="2"/>
              <a:endCxn id="23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5" idx="2"/>
              <a:endCxn id="23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0" idx="2"/>
              <a:endCxn id="23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0" idx="2"/>
              <a:endCxn id="23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"/>
          <p:cNvCxnSpPr>
            <a:endCxn id="245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"/>
          <p:cNvCxnSpPr>
            <a:endCxn id="249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5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256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"/>
          <p:cNvCxnSpPr>
            <a:stCxn id="256" idx="0"/>
            <a:endCxn id="26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5" idx="0"/>
            <a:endCxn id="26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6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6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75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"/>
            <p:cNvCxnSpPr>
              <a:stCxn id="280" idx="2"/>
              <a:endCxn id="275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80" idx="2"/>
              <a:endCxn id="276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5" idx="2"/>
              <a:endCxn id="277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2"/>
              <a:endCxn id="278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"/>
          <p:cNvCxnSpPr>
            <a:endCxn id="289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"/>
          <p:cNvCxnSpPr>
            <a:endCxn id="291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"/>
          <p:cNvCxnSpPr>
            <a:endCxn id="293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297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00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0"/>
            <a:endCxn id="304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4" idx="2"/>
            <a:endCxn id="297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8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04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4" name=""/>
          <p:cNvCxnSpPr>
            <a:stCxn id="304" idx="2"/>
            <a:endCxn id="300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1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03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06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22" name=""/>
          <p:cNvCxnSpPr>
            <a:stCxn id="304" idx="0"/>
            <a:endCxn id="3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endCxn id="3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32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3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"/>
            <p:cNvCxnSpPr>
              <a:stCxn id="342" idx="2"/>
              <a:endCxn id="33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42" idx="2"/>
              <a:endCxn id="33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337" idx="2"/>
              <a:endCxn id="33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7" idx="2"/>
              <a:endCxn id="34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"/>
          <p:cNvCxnSpPr>
            <a:endCxn id="351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"/>
          <p:cNvCxnSpPr>
            <a:endCxn id="353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"/>
          <p:cNvCxnSpPr>
            <a:endCxn id="355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358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61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3" name=""/>
          <p:cNvCxnSpPr>
            <a:stCxn id="364" idx="0"/>
            <a:endCxn id="365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67" idx="0"/>
            <a:endCxn id="365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5" idx="2"/>
            <a:endCxn id="358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65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75" name=""/>
          <p:cNvCxnSpPr>
            <a:stCxn id="365" idx="2"/>
            <a:endCxn id="361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77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64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67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83" name=""/>
          <p:cNvCxnSpPr>
            <a:stCxn id="365" idx="0"/>
            <a:endCxn id="384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endCxn id="384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84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93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9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2" name=""/>
            <p:cNvCxnSpPr>
              <a:stCxn id="403" idx="2"/>
              <a:endCxn id="39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403" idx="2"/>
              <a:endCxn id="39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8" idx="2"/>
              <a:endCxn id="40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8" idx="2"/>
              <a:endCxn id="40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The InterIMAGE Projec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5240" indent="-233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Knowledge Based Image Interpretation System for the interpretation of Remote Sensing Ima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VC (PUC-Rio), INPE (Brazilian Space Research Institute), TNT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bniz Universität Hanno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lines for innovation projects 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s: FINEP, SEBRAE, FAPE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4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94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"/>
          <p:cNvCxnSpPr>
            <a:endCxn id="41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8" name=""/>
          <p:cNvCxnSpPr>
            <a:endCxn id="41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2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2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6" name=""/>
          <p:cNvCxnSpPr>
            <a:stCxn id="427" idx="0"/>
            <a:endCxn id="42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0"/>
            <a:endCxn id="42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8" idx="2"/>
            <a:endCxn id="42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2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8" name=""/>
          <p:cNvCxnSpPr>
            <a:stCxn id="428" idx="2"/>
            <a:endCxn id="42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44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2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43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8" name=""/>
          <p:cNvCxnSpPr>
            <a:stCxn id="428" idx="0"/>
            <a:endCxn id="44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5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44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1" name=""/>
          <p:cNvCxnSpPr>
            <a:stCxn id="459" idx="0"/>
            <a:endCxn id="41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0"/>
            <a:endCxn id="41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46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46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73" name=""/>
            <p:cNvCxnSpPr>
              <a:stCxn id="474" idx="2"/>
              <a:endCxn id="46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"/>
            <p:cNvCxnSpPr>
              <a:stCxn id="474" idx="2"/>
              <a:endCxn id="47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69" idx="2"/>
              <a:endCxn id="47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69" idx="2"/>
              <a:endCxn id="47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7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4" name=""/>
          <p:cNvCxnSpPr>
            <a:endCxn id="48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6" name=""/>
          <p:cNvCxnSpPr>
            <a:endCxn id="48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"/>
          <p:cNvCxnSpPr>
            <a:endCxn id="48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do o processame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s nós folha é concluí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fase bottom-up tem iní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9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9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6" name=""/>
          <p:cNvCxnSpPr>
            <a:stCxn id="497" idx="0"/>
            <a:endCxn id="49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8" idx="2"/>
            <a:endCxn id="49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9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8" name=""/>
          <p:cNvCxnSpPr>
            <a:stCxn id="498" idx="2"/>
            <a:endCxn id="49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9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0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8" name=""/>
          <p:cNvCxnSpPr>
            <a:stCxn id="498" idx="0"/>
            <a:endCxn id="51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51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1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"/>
          <p:cNvCxnSpPr>
            <a:stCxn id="529" idx="0"/>
            <a:endCxn id="48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0"/>
            <a:endCxn id="48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53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53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3" name=""/>
            <p:cNvCxnSpPr>
              <a:stCxn id="544" idx="2"/>
              <a:endCxn id="53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44" idx="2"/>
              <a:endCxn id="54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9" idx="2"/>
              <a:endCxn id="54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"/>
          <p:cNvCxnSpPr>
            <a:endCxn id="55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6" name=""/>
          <p:cNvCxnSpPr>
            <a:endCxn id="55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8" name=""/>
          <p:cNvCxnSpPr>
            <a:endCxn id="55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56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56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6" name=""/>
          <p:cNvCxnSpPr>
            <a:stCxn id="567" idx="0"/>
            <a:endCxn id="56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70" idx="0"/>
            <a:endCxn id="56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8" idx="2"/>
            <a:endCxn id="56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56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8" name=""/>
          <p:cNvCxnSpPr>
            <a:stCxn id="568" idx="2"/>
            <a:endCxn id="56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8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56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7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88" name=""/>
          <p:cNvCxnSpPr>
            <a:stCxn id="568" idx="0"/>
            <a:endCxn id="58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endCxn id="58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8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"/>
          <p:cNvCxnSpPr>
            <a:stCxn id="599" idx="0"/>
            <a:endCxn id="55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600" idx="0"/>
            <a:endCxn id="55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0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1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4" name=""/>
            <p:cNvCxnSpPr>
              <a:stCxn id="615" idx="2"/>
              <a:endCxn id="61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>
              <a:stCxn id="615" idx="2"/>
              <a:endCxn id="61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>
              <a:stCxn id="610" idx="2"/>
              <a:endCxn id="61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>
              <a:stCxn id="610" idx="2"/>
              <a:endCxn id="61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6" name=""/>
          <p:cNvCxnSpPr>
            <a:endCxn id="62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8" name=""/>
          <p:cNvCxnSpPr>
            <a:endCxn id="62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63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63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6" name=""/>
          <p:cNvCxnSpPr>
            <a:stCxn id="637" idx="0"/>
            <a:endCxn id="63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40" idx="0"/>
            <a:endCxn id="63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8" idx="2"/>
            <a:endCxn id="63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63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8" name=""/>
          <p:cNvCxnSpPr>
            <a:stCxn id="638" idx="2"/>
            <a:endCxn id="63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65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63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64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8" name=""/>
          <p:cNvCxnSpPr>
            <a:stCxn id="638" idx="0"/>
            <a:endCxn id="65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endCxn id="65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65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1" name=""/>
          <p:cNvCxnSpPr>
            <a:stCxn id="669" idx="0"/>
            <a:endCxn id="62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70" idx="0"/>
            <a:endCxn id="62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7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4" name=""/>
            <p:cNvCxnSpPr>
              <a:stCxn id="685" idx="2"/>
              <a:endCxn id="6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"/>
            <p:cNvCxnSpPr>
              <a:stCxn id="685" idx="2"/>
              <a:endCxn id="6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"/>
            <p:cNvCxnSpPr>
              <a:stCxn id="680" idx="2"/>
              <a:endCxn id="6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"/>
            <p:cNvCxnSpPr>
              <a:stCxn id="680" idx="2"/>
              <a:endCxn id="6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"/>
          <p:cNvCxnSpPr>
            <a:endCxn id="6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8" name=""/>
          <p:cNvCxnSpPr>
            <a:endCxn id="6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70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70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6" name=""/>
          <p:cNvCxnSpPr>
            <a:stCxn id="707" idx="0"/>
            <a:endCxn id="70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710" idx="0"/>
            <a:endCxn id="70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1" name=""/>
          <p:cNvCxnSpPr>
            <a:stCxn id="708" idx="2"/>
            <a:endCxn id="70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1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70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18" name=""/>
          <p:cNvCxnSpPr>
            <a:stCxn id="708" idx="2"/>
            <a:endCxn id="70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2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0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1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28" name=""/>
          <p:cNvCxnSpPr>
            <a:stCxn id="708" idx="0"/>
            <a:endCxn id="72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endCxn id="72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3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72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1" name=""/>
          <p:cNvCxnSpPr>
            <a:stCxn id="739" idx="0"/>
            <a:endCxn id="6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0"/>
            <a:endCxn id="6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74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75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4" name=""/>
            <p:cNvCxnSpPr>
              <a:stCxn id="755" idx="2"/>
              <a:endCxn id="75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5" idx="2"/>
              <a:endCxn id="75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50" idx="2"/>
              <a:endCxn id="75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50" idx="2"/>
              <a:endCxn id="75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4" name=""/>
          <p:cNvCxnSpPr>
            <a:endCxn id="76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6" name=""/>
          <p:cNvCxnSpPr>
            <a:endCxn id="76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8" name=""/>
          <p:cNvCxnSpPr>
            <a:endCxn id="76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4" name=""/>
          <p:cNvCxnSpPr>
            <a:stCxn id="775" idx="0"/>
            <a:endCxn id="77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8" idx="0"/>
            <a:endCxn id="77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"/>
          <p:cNvCxnSpPr>
            <a:stCxn id="776" idx="2"/>
            <a:endCxn id="77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"/>
          <p:cNvCxnSpPr>
            <a:stCxn id="776" idx="2"/>
            <a:endCxn id="77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78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86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7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7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94" name=""/>
          <p:cNvCxnSpPr>
            <a:stCxn id="776" idx="0"/>
            <a:endCxn id="795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endCxn id="795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6" name=""/>
          <p:cNvCxnSpPr>
            <a:stCxn id="804" idx="0"/>
            <a:endCxn id="76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5" idx="0"/>
            <a:endCxn id="76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14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8" name=""/>
            <p:cNvCxnSpPr>
              <a:stCxn id="819" idx="2"/>
              <a:endCxn id="814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819" idx="2"/>
              <a:endCxn id="815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4" idx="2"/>
              <a:endCxn id="816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4" idx="2"/>
              <a:endCxn id="817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1" name=""/>
          <p:cNvCxnSpPr>
            <a:endCxn id="830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9" name=""/>
          <p:cNvCxnSpPr>
            <a:stCxn id="840" idx="0"/>
            <a:endCxn id="841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3" idx="0"/>
            <a:endCxn id="841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2"/>
            <a:endCxn id="835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"/>
          <p:cNvCxnSpPr>
            <a:stCxn id="841" idx="2"/>
            <a:endCxn id="837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850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851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840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843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9" name=""/>
          <p:cNvCxnSpPr>
            <a:stCxn id="841" idx="0"/>
            <a:endCxn id="860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endCxn id="860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1" name=""/>
          <p:cNvCxnSpPr>
            <a:stCxn id="869" idx="0"/>
            <a:endCxn id="828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70" idx="0"/>
            <a:endCxn id="828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4" name=""/>
            <p:cNvCxnSpPr>
              <a:stCxn id="885" idx="2"/>
              <a:endCxn id="8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>
              <a:stCxn id="885" idx="2"/>
              <a:endCxn id="8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80" idx="2"/>
              <a:endCxn id="8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"/>
            <p:cNvCxnSpPr>
              <a:stCxn id="880" idx="2"/>
              <a:endCxn id="8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4" name=""/>
          <p:cNvCxnSpPr>
            <a:endCxn id="8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6" name=""/>
          <p:cNvCxnSpPr>
            <a:endCxn id="8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8" name=""/>
          <p:cNvCxnSpPr>
            <a:endCxn id="8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228600" y="3683160"/>
            <a:ext cx="27432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4" name=""/>
          <p:cNvCxnSpPr>
            <a:stCxn id="905" idx="0"/>
            <a:endCxn id="90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8" idx="0"/>
            <a:endCxn id="90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6" idx="2"/>
            <a:endCxn id="90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0" name=""/>
          <p:cNvCxnSpPr>
            <a:stCxn id="906" idx="2"/>
            <a:endCxn id="90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911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912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90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90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0" name=""/>
          <p:cNvCxnSpPr>
            <a:stCxn id="906" idx="0"/>
            <a:endCxn id="921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endCxn id="921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0" name=""/>
          <p:cNvCxnSpPr>
            <a:stCxn id="928" idx="0"/>
            <a:endCxn id="8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9" idx="0"/>
            <a:endCxn id="8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2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153120" y="1371600"/>
            <a:ext cx="619200" cy="595440"/>
            <a:chOff x="6153120" y="1371600"/>
            <a:chExt cx="619200" cy="595440"/>
          </a:xfrm>
        </p:grpSpPr>
        <p:sp>
          <p:nvSpPr>
            <p:cNvPr id="935" name=""/>
            <p:cNvSpPr/>
            <p:nvPr/>
          </p:nvSpPr>
          <p:spPr>
            <a:xfrm>
              <a:off x="6153120" y="137160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70560" y="1447920"/>
              <a:ext cx="401760" cy="492120"/>
            </a:xfrm>
            <a:custGeom>
              <a:avLst/>
              <a:gdLst/>
              <a:ahLst/>
              <a:rect l="l" t="t" r="r" b="b"/>
              <a:pathLst>
                <a:path w="253" h="310">
                  <a:moveTo>
                    <a:pt x="0" y="280"/>
                  </a:moveTo>
                  <a:cubicBezTo>
                    <a:pt x="38" y="234"/>
                    <a:pt x="26" y="244"/>
                    <a:pt x="30" y="216"/>
                  </a:cubicBezTo>
                  <a:cubicBezTo>
                    <a:pt x="34" y="192"/>
                    <a:pt x="58" y="189"/>
                    <a:pt x="61" y="176"/>
                  </a:cubicBezTo>
                  <a:cubicBezTo>
                    <a:pt x="64" y="163"/>
                    <a:pt x="49" y="151"/>
                    <a:pt x="47" y="140"/>
                  </a:cubicBezTo>
                  <a:cubicBezTo>
                    <a:pt x="45" y="129"/>
                    <a:pt x="49" y="133"/>
                    <a:pt x="49" y="112"/>
                  </a:cubicBezTo>
                  <a:cubicBezTo>
                    <a:pt x="45" y="79"/>
                    <a:pt x="53" y="70"/>
                    <a:pt x="47" y="14"/>
                  </a:cubicBezTo>
                  <a:cubicBezTo>
                    <a:pt x="56" y="0"/>
                    <a:pt x="67" y="13"/>
                    <a:pt x="83" y="8"/>
                  </a:cubicBezTo>
                  <a:cubicBezTo>
                    <a:pt x="92" y="5"/>
                    <a:pt x="154" y="25"/>
                    <a:pt x="154" y="25"/>
                  </a:cubicBezTo>
                  <a:cubicBezTo>
                    <a:pt x="179" y="28"/>
                    <a:pt x="188" y="31"/>
                    <a:pt x="196" y="55"/>
                  </a:cubicBezTo>
                  <a:cubicBezTo>
                    <a:pt x="202" y="105"/>
                    <a:pt x="222" y="152"/>
                    <a:pt x="244" y="196"/>
                  </a:cubicBezTo>
                  <a:cubicBezTo>
                    <a:pt x="253" y="258"/>
                    <a:pt x="249" y="295"/>
                    <a:pt x="190" y="310"/>
                  </a:cubicBezTo>
                  <a:cubicBezTo>
                    <a:pt x="169" y="309"/>
                    <a:pt x="148" y="309"/>
                    <a:pt x="127" y="307"/>
                  </a:cubicBezTo>
                  <a:cubicBezTo>
                    <a:pt x="118" y="306"/>
                    <a:pt x="100" y="298"/>
                    <a:pt x="100" y="298"/>
                  </a:cubicBezTo>
                  <a:cubicBezTo>
                    <a:pt x="88" y="286"/>
                    <a:pt x="28" y="294"/>
                    <a:pt x="0" y="28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526000" y="3125880"/>
            <a:ext cx="401760" cy="492120"/>
          </a:xfrm>
          <a:custGeom>
            <a:avLst/>
            <a:gdLst/>
            <a:ahLst/>
            <a:rect l="l" t="t" r="r" b="b"/>
            <a:pathLst>
              <a:path w="253" h="310">
                <a:moveTo>
                  <a:pt x="0" y="280"/>
                </a:moveTo>
                <a:cubicBezTo>
                  <a:pt x="38" y="234"/>
                  <a:pt x="26" y="244"/>
                  <a:pt x="30" y="216"/>
                </a:cubicBezTo>
                <a:cubicBezTo>
                  <a:pt x="34" y="192"/>
                  <a:pt x="58" y="189"/>
                  <a:pt x="61" y="176"/>
                </a:cubicBezTo>
                <a:cubicBezTo>
                  <a:pt x="64" y="163"/>
                  <a:pt x="49" y="151"/>
                  <a:pt x="47" y="140"/>
                </a:cubicBezTo>
                <a:cubicBezTo>
                  <a:pt x="45" y="129"/>
                  <a:pt x="49" y="133"/>
                  <a:pt x="49" y="112"/>
                </a:cubicBezTo>
                <a:cubicBezTo>
                  <a:pt x="45" y="79"/>
                  <a:pt x="53" y="70"/>
                  <a:pt x="47" y="14"/>
                </a:cubicBezTo>
                <a:cubicBezTo>
                  <a:pt x="56" y="0"/>
                  <a:pt x="67" y="13"/>
                  <a:pt x="83" y="8"/>
                </a:cubicBezTo>
                <a:cubicBezTo>
                  <a:pt x="92" y="5"/>
                  <a:pt x="154" y="25"/>
                  <a:pt x="154" y="25"/>
                </a:cubicBezTo>
                <a:cubicBezTo>
                  <a:pt x="179" y="28"/>
                  <a:pt x="188" y="31"/>
                  <a:pt x="196" y="55"/>
                </a:cubicBezTo>
                <a:cubicBezTo>
                  <a:pt x="202" y="105"/>
                  <a:pt x="222" y="152"/>
                  <a:pt x="244" y="196"/>
                </a:cubicBezTo>
                <a:cubicBezTo>
                  <a:pt x="253" y="258"/>
                  <a:pt x="249" y="295"/>
                  <a:pt x="190" y="310"/>
                </a:cubicBezTo>
                <a:cubicBezTo>
                  <a:pt x="169" y="309"/>
                  <a:pt x="148" y="309"/>
                  <a:pt x="127" y="307"/>
                </a:cubicBezTo>
                <a:cubicBezTo>
                  <a:pt x="118" y="306"/>
                  <a:pt x="100" y="298"/>
                  <a:pt x="100" y="298"/>
                </a:cubicBezTo>
                <a:cubicBezTo>
                  <a:pt x="88" y="286"/>
                  <a:pt x="28" y="294"/>
                  <a:pt x="0" y="28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"/>
          <p:cNvSpPr/>
          <p:nvPr/>
        </p:nvSpPr>
        <p:spPr>
          <a:xfrm>
            <a:off x="6991200" y="3048120"/>
            <a:ext cx="357480" cy="595080"/>
          </a:xfrm>
          <a:custGeom>
            <a:avLst/>
            <a:gdLst/>
            <a:ahLst/>
            <a:rect l="l" t="t" r="r" b="b"/>
            <a:pathLst>
              <a:path w="225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204" y="86"/>
                  <a:pt x="204" y="116"/>
                </a:cubicBezTo>
                <a:cubicBezTo>
                  <a:pt x="204" y="132"/>
                  <a:pt x="222" y="140"/>
                  <a:pt x="224" y="156"/>
                </a:cubicBezTo>
                <a:cubicBezTo>
                  <a:pt x="225" y="167"/>
                  <a:pt x="220" y="200"/>
                  <a:pt x="220" y="200"/>
                </a:cubicBezTo>
                <a:cubicBezTo>
                  <a:pt x="219" y="218"/>
                  <a:pt x="216" y="250"/>
                  <a:pt x="204" y="268"/>
                </a:cubicBezTo>
                <a:cubicBezTo>
                  <a:pt x="198" y="277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"/>
          <p:cNvSpPr/>
          <p:nvPr/>
        </p:nvSpPr>
        <p:spPr>
          <a:xfrm>
            <a:off x="6331680" y="144792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94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3" name=""/>
            <p:cNvCxnSpPr>
              <a:stCxn id="954" idx="2"/>
              <a:endCxn id="94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>
              <a:stCxn id="954" idx="2"/>
              <a:endCxn id="95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>
              <a:stCxn id="949" idx="2"/>
              <a:endCxn id="95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49" idx="2"/>
              <a:endCxn id="95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95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rcRect l="0" t="0" r="15733" b="3232"/>
          <a:stretch/>
        </p:blipFill>
        <p:spPr>
          <a:xfrm>
            <a:off x="0" y="119052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964" name="Espaço Reservado para Conteúdo 2"/>
          <p:cNvSpPr/>
          <p:nvPr/>
        </p:nvSpPr>
        <p:spPr>
          <a:xfrm>
            <a:off x="216000" y="782640"/>
            <a:ext cx="892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2360" indent="-23076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interpretation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0" t="0" r="15556" b="3232"/>
          <a:stretch/>
        </p:blipFill>
        <p:spPr>
          <a:xfrm>
            <a:off x="3240" y="1201680"/>
            <a:ext cx="9140760" cy="5656320"/>
          </a:xfrm>
          <a:prstGeom prst="rect">
            <a:avLst/>
          </a:prstGeom>
          <a:ln w="0">
            <a:noFill/>
          </a:ln>
        </p:spPr>
      </p:pic>
      <p:sp>
        <p:nvSpPr>
          <p:cNvPr id="968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Top-down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0160" y="1265400"/>
            <a:ext cx="8326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d for th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mated interpretation of complex sc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ultisens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ular architectural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the inclusion of specific operators for object extraction/image segmentation and dec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lti-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indows (v1.13) and LINUX (v0.9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++, Qt4 and TerraLib (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rcRect l="0" t="0" r="15644" b="3232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972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Bottom-up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rcRect l="0" t="0" r="7367" b="5249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97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rule outcome’s in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rcRect l="0" t="0" r="7618" b="5249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980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feature 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4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hist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8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scatter pl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541520" y="1671480"/>
            <a:ext cx="6207120" cy="4646880"/>
          </a:xfrm>
          <a:prstGeom prst="rect">
            <a:avLst/>
          </a:prstGeom>
          <a:ln w="0">
            <a:noFill/>
          </a:ln>
        </p:spPr>
      </p:pic>
      <p:sp>
        <p:nvSpPr>
          <p:cNvPr id="992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Editor: definition of Region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files or binary raster fi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65960" cy="5207040"/>
          </a:xfrm>
          <a:prstGeom prst="rect">
            <a:avLst/>
          </a:prstGeom>
          <a:ln w="0">
            <a:noFill/>
          </a:ln>
        </p:spPr>
      </p:pic>
      <p:sp>
        <p:nvSpPr>
          <p:cNvPr id="99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ditor: definition of sampl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classification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Final Remark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plications already develo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ically in 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king on support for large i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few bugs are expe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ase of the focuses on the development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unctionality to deal with Rada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partn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2999"/>
              </a:spcAft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Documentation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’s site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http://www.lvc.ele.puc-rio.br/projects/interimage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wiki.dpi.inpe.br/doku.php?id=inter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523880" y="2382840"/>
            <a:ext cx="621504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0520" y="1265400"/>
            <a:ext cx="8362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d on Geo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veloped at TNT Institute from Leibniz Universität Han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ame interpreta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(praticaly) the sam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is to provide interactivity support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eate and adjust a knowledg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is to make the system it available to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rger user 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1199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74160" indent="-6768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the area into: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ountains; Sedimentary Hills; Aluvial Plains; and Lakes and Reservo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3574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Input 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Elevation Model generated (externally) from a ASTER/Terra stereoscopic p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ural and Geomorphometric variables extracted from the DEM (entropy and elev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ctor drainag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2100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98000" y="1074240"/>
            <a:ext cx="8379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39720" y="2021040"/>
          <a:ext cx="8039160" cy="3119400"/>
        </p:xfrm>
        <a:graphic>
          <a:graphicData uri="http://schemas.openxmlformats.org/drawingml/2006/table">
            <a:tbl>
              <a:tblPr/>
              <a:tblGrid>
                <a:gridCol w="3524400"/>
                <a:gridCol w="45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orpholog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rainag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72 and 2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4,9º and 34,9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H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60 and 68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1,2 and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2,5º and 12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vi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-0,01 and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1,4º and 10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9800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 in InterIM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89080" y="1874880"/>
            <a:ext cx="2311200" cy="2158920"/>
          </a:xfrm>
          <a:prstGeom prst="rect">
            <a:avLst/>
          </a:prstGeom>
          <a:ln w="0">
            <a:noFill/>
          </a:ln>
        </p:spPr>
      </p:pic>
      <p:sp>
        <p:nvSpPr>
          <p:cNvPr id="1012" name="Espaço Reservado para Conteúdo 2"/>
          <p:cNvSpPr/>
          <p:nvPr/>
        </p:nvSpPr>
        <p:spPr>
          <a:xfrm>
            <a:off x="2674800" y="1747800"/>
            <a:ext cx="646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96120" indent="-874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imports shapefile of the limits of the Municip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edimentaryH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lluvialPl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performs a segmentation (Baatz and Shäpe algorithm) of the DEM (geographically coincident hypothes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s: operator that imports a shapefile of the region’s hydr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ision rule that decides among the concurrent hypotheses associated to the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4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4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5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87280" y="1608120"/>
            <a:ext cx="2859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6357960" y="1519200"/>
            <a:ext cx="2389320" cy="1701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333216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87280" y="1608120"/>
            <a:ext cx="5577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85800" y="1608120"/>
            <a:ext cx="5042160" cy="4905360"/>
          </a:xfrm>
          <a:prstGeom prst="rect">
            <a:avLst/>
          </a:prstGeom>
          <a:ln w="0">
            <a:noFill/>
          </a:ln>
        </p:spPr>
      </p:pic>
      <p:sp>
        <p:nvSpPr>
          <p:cNvPr id="106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679040" y="898560"/>
            <a:ext cx="2349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en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rcRect l="38828" t="0" r="0" b="0"/>
          <a:stretch/>
        </p:blipFill>
        <p:spPr>
          <a:xfrm>
            <a:off x="806400" y="1405080"/>
            <a:ext cx="3659400" cy="41115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rcRect l="36229" t="0" r="0" b="0"/>
          <a:stretch/>
        </p:blipFill>
        <p:spPr>
          <a:xfrm>
            <a:off x="4808520" y="1419120"/>
            <a:ext cx="3813120" cy="4110120"/>
          </a:xfrm>
          <a:prstGeom prst="rect">
            <a:avLst/>
          </a:prstGeom>
          <a:ln w="0">
            <a:noFill/>
          </a:ln>
        </p:spPr>
      </p:pic>
      <p:sp>
        <p:nvSpPr>
          <p:cNvPr id="1065" name="Espaço Reservado para Conteúdo 2"/>
          <p:cNvSpPr/>
          <p:nvPr/>
        </p:nvSpPr>
        <p:spPr>
          <a:xfrm>
            <a:off x="5452920" y="898560"/>
            <a:ext cx="278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matic Interpre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1295280" y="5759280"/>
            <a:ext cx="228600" cy="127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Espaço Reservado para Conteúdo 2"/>
          <p:cNvSpPr/>
          <p:nvPr/>
        </p:nvSpPr>
        <p:spPr>
          <a:xfrm>
            <a:off x="1533600" y="5697360"/>
            <a:ext cx="180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Espaço Reservado para Conteúdo 2"/>
          <p:cNvSpPr/>
          <p:nvPr/>
        </p:nvSpPr>
        <p:spPr>
          <a:xfrm>
            <a:off x="3249720" y="5697360"/>
            <a:ext cx="153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dimentary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Espaço Reservado para Conteúdo 2"/>
          <p:cNvSpPr/>
          <p:nvPr/>
        </p:nvSpPr>
        <p:spPr>
          <a:xfrm>
            <a:off x="5383080" y="5695920"/>
            <a:ext cx="1233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luvial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Espaço Reservado para Conteúdo 2"/>
          <p:cNvSpPr/>
          <p:nvPr/>
        </p:nvSpPr>
        <p:spPr>
          <a:xfrm>
            <a:off x="7209000" y="5695920"/>
            <a:ext cx="1012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5759280"/>
            <a:ext cx="228600" cy="127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>
            <a:off x="5153040" y="5759280"/>
            <a:ext cx="228600" cy="127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>
            <a:off x="6962760" y="5759280"/>
            <a:ext cx="228600" cy="127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Espaço Reservado para Conteúdo 2"/>
          <p:cNvSpPr/>
          <p:nvPr/>
        </p:nvSpPr>
        <p:spPr>
          <a:xfrm>
            <a:off x="2300400" y="6153120"/>
            <a:ext cx="23493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lobal Accuracy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95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Espaço Reservado para Conteúdo 2"/>
          <p:cNvSpPr/>
          <p:nvPr/>
        </p:nvSpPr>
        <p:spPr>
          <a:xfrm>
            <a:off x="4700520" y="6153120"/>
            <a:ext cx="234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appa Index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88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lson@ele.puc-rio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290520" y="1265400"/>
            <a:ext cx="8477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interpretation based on a user-defined knowledge model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s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ach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emantic network the user c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ign an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fine a deci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97320" y="4022640"/>
            <a:ext cx="2819160" cy="143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21360" y="4149720"/>
            <a:ext cx="12448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308240" y="3809880"/>
            <a:ext cx="1384200" cy="1855800"/>
            <a:chOff x="1308240" y="3809880"/>
            <a:chExt cx="1384200" cy="1855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rcRect l="0" t="0" r="0" b="22346"/>
            <a:stretch/>
          </p:blipFill>
          <p:spPr>
            <a:xfrm>
              <a:off x="1308240" y="3809880"/>
              <a:ext cx="13842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5840" y="5500800"/>
              <a:ext cx="1648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Espaço Reservado para Conteúdo 2"/>
          <p:cNvSpPr/>
          <p:nvPr/>
        </p:nvSpPr>
        <p:spPr>
          <a:xfrm>
            <a:off x="290520" y="1265400"/>
            <a:ext cx="8655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imp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ic segment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r complex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ecific feature extraction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are executable programs, external to the system core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operators can be easily 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uite of operators –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ra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: region growing, checkerboar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arization (math band + threshol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ort and inters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ed classifier (C4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a Knowledge Model – Semantic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17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2:46:12Z</dcterms:modified>
  <cp:revision>271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