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9F9E-6454-49D3-A79B-B2A95A833989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26160" y="203508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layer a partir d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layer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Attribu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código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77000" y="260820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ummy 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7520" y="3452760"/>
            <a:ext cx="1505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magem defaul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R4,G1,B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6840" y="1828800"/>
            <a:ext cx="1790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03360" y="412272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atributos d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4 e 0.3, respec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87520" y="287028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Black"/>
              </a:rPr>
              <a:t>Exercíci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6 – Depuração e Exploraçã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7 – Investigação de um projeto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3:22:58Z</dcterms:modified>
  <cp:revision>27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