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0" descr="inpe_logo1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4AB-0209-4216-B3D1-6C59CB019CD5}" type="slidenum">
              <a:rPr b="0" lang="pt-BR" sz="1400" spc="-1" strike="noStrike">
                <a:solidFill>
                  <a:srgbClr val="ddddd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1EC-9E1C-4839-9E48-7342DB5CBF21}" type="datetime">
              <a:rPr b="0" lang="pt-BR" sz="2400" spc="-1" strike="noStrike">
                <a:solidFill>
                  <a:srgbClr val="a0a0a0"/>
                </a:solidFill>
                <a:latin typeface="Calibri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7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517840" y="320040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7440" y="1122120"/>
            <a:ext cx="878688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281400" y="223056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90640" y="3936960"/>
            <a:ext cx="3124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re-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696000" y="11779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768760" y="3921120"/>
            <a:ext cx="3133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7440" y="1122120"/>
            <a:ext cx="87868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708280" y="305604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uma pequena áre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interesse (ROI) sobre uma região 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905360" y="2128680"/>
            <a:ext cx="30495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6157800" y="11224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5643720" y="2752560"/>
            <a:ext cx="2761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2975040" y="3490920"/>
            <a:ext cx="2943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3510000" y="1168560"/>
            <a:ext cx="1466640" cy="141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752560" y="396720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zo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657680" y="281772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3263760" y="356076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701800" y="1677960"/>
            <a:ext cx="3648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catter plot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2836800" y="361620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751120" y="5235480"/>
            <a:ext cx="2914560" cy="7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2373480" y="157788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7440" y="1122120"/>
            <a:ext cx="87868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Depuração e Exploração de Atributo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7440" y="1122480"/>
            <a:ext cx="8786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projeto de interpretação criado no exercício anterior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r um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iferente da usada no Exercício 7 (usando outros atributos) para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701800" y="255744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9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7440" y="1122480"/>
            <a:ext cx="87868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ottomU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46120" y="1957320"/>
            <a:ext cx="6051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outr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ovamente, mas dessa vez, marcar a opç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Neighbou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ovo shapefile aos recursos do projeto e criar uma nov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Atenção: recursos do projeto não podem ter o mesmo</a:t>
            </a: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               nome que os nós da rede semântic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126120" y="451476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7440" y="1122120"/>
            <a:ext cx="8786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olher a opç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ndo selecionar a classe de objetos a expor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erir uma expressão para calcular o brilho dos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m um SIG e visualizar a sua tabela de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92880" y="1122480"/>
            <a:ext cx="1504800" cy="119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949480" y="4649760"/>
            <a:ext cx="2457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3476520" y="233028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11-30T18:36:20Z</dcterms:modified>
  <cp:revision>294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