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24.png" ContentType="image/png"/>
  <Override PartName="/ppt/media/image11.jpeg" ContentType="image/jpeg"/>
  <Override PartName="/ppt/media/image10.png" ContentType="image/png"/>
  <Override PartName="/ppt/media/image6.png" ContentType="image/png"/>
  <Override PartName="/ppt/media/image36.png" ContentType="image/png"/>
  <Override PartName="/ppt/media/image14.jpeg" ContentType="image/jpeg"/>
  <Override PartName="/ppt/media/image7.png" ContentType="image/png"/>
  <Override PartName="/ppt/media/image3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83400" cy="9169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8528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5636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1420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8528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5636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14200" y="443880"/>
            <a:ext cx="878688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42920" y="-1806840"/>
            <a:ext cx="88581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14200" y="443880"/>
            <a:ext cx="878688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8528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5636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1420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8528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5636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2920" y="-1806840"/>
            <a:ext cx="88581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03787640">
              <a:spcBef>
                <a:spcPts val="601"/>
              </a:spcBef>
              <a:buClr>
                <a:srgbClr val="3369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79" descr="logo_lvc"/>
          <p:cNvPicPr/>
          <p:nvPr/>
        </p:nvPicPr>
        <p:blipFill>
          <a:blip r:embed="rId2">
            <a:grayscl/>
          </a:blip>
          <a:stretch/>
        </p:blipFill>
        <p:spPr>
          <a:xfrm>
            <a:off x="8405640" y="6357960"/>
            <a:ext cx="562320" cy="3650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80" descr="logo_lvc_name"/>
          <p:cNvPicPr/>
          <p:nvPr/>
        </p:nvPicPr>
        <p:blipFill>
          <a:blip r:embed="rId3">
            <a:grayscl/>
          </a:blip>
          <a:stretch/>
        </p:blipFill>
        <p:spPr>
          <a:xfrm>
            <a:off x="6727680" y="6515280"/>
            <a:ext cx="1651320" cy="1918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" descr=""/>
          <p:cNvPicPr/>
          <p:nvPr/>
        </p:nvPicPr>
        <p:blipFill>
          <a:blip r:embed="rId4"/>
          <a:stretch/>
        </p:blipFill>
        <p:spPr>
          <a:xfrm>
            <a:off x="571680" y="6429240"/>
            <a:ext cx="620640" cy="3574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3" descr=""/>
          <p:cNvPicPr/>
          <p:nvPr/>
        </p:nvPicPr>
        <p:blipFill>
          <a:blip r:embed="rId5"/>
          <a:stretch/>
        </p:blipFill>
        <p:spPr>
          <a:xfrm>
            <a:off x="142920" y="6286680"/>
            <a:ext cx="419040" cy="46656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solidFill>
            <a:srgbClr val="477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5842080"/>
            <a:ext cx="132084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233280" y="6230880"/>
            <a:ext cx="590760" cy="50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0"/>
          <p:cNvSpPr/>
          <p:nvPr/>
        </p:nvSpPr>
        <p:spPr>
          <a:xfrm>
            <a:off x="0" y="3505320"/>
            <a:ext cx="9144000" cy="114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0" y="1000080"/>
            <a:ext cx="9144000" cy="2643120"/>
          </a:xfrm>
          <a:prstGeom prst="rect">
            <a:avLst/>
          </a:prstGeom>
          <a:solidFill>
            <a:srgbClr val="477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0" y="4646520"/>
            <a:ext cx="9144000" cy="27000"/>
          </a:xfrm>
          <a:prstGeom prst="rect">
            <a:avLst/>
          </a:prstGeom>
          <a:solidFill>
            <a:srgbClr val="477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285840" y="214200"/>
            <a:ext cx="1049400" cy="1857600"/>
          </a:xfrm>
          <a:prstGeom prst="rect">
            <a:avLst/>
          </a:prstGeom>
          <a:ln w="9360">
            <a:solidFill>
              <a:srgbClr val="595959"/>
            </a:solidFill>
            <a:miter/>
          </a:ln>
        </p:spPr>
      </p:pic>
      <p:pic>
        <p:nvPicPr>
          <p:cNvPr id="50" name="Picture 79" descr="logo_lvc"/>
          <p:cNvPicPr/>
          <p:nvPr/>
        </p:nvPicPr>
        <p:blipFill>
          <a:blip r:embed="rId3">
            <a:grayscl/>
          </a:blip>
          <a:stretch/>
        </p:blipFill>
        <p:spPr>
          <a:xfrm>
            <a:off x="8215200" y="6072120"/>
            <a:ext cx="642960" cy="417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0" descr="logo_lvc_name"/>
          <p:cNvPicPr/>
          <p:nvPr/>
        </p:nvPicPr>
        <p:blipFill>
          <a:blip r:embed="rId4">
            <a:grayscl/>
          </a:blip>
          <a:stretch/>
        </p:blipFill>
        <p:spPr>
          <a:xfrm>
            <a:off x="7215120" y="6500880"/>
            <a:ext cx="1650960" cy="191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03787640">
              <a:spcBef>
                <a:spcPts val="601"/>
              </a:spcBef>
              <a:buClr>
                <a:srgbClr val="a96d2b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600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a0a0a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56220-46F9-4CE5-87B7-9CAB7D008406}" type="datetime">
              <a:rPr b="0" lang="pt-BR" sz="2400" spc="-1" strike="noStrike">
                <a:solidFill>
                  <a:srgbClr val="a0a0a0"/>
                </a:solidFill>
                <a:latin typeface="Times New Roman"/>
              </a:rPr>
              <a:t>31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lvc.ele.puc-rio.br/projects/interimage/" TargetMode="External"/><Relationship Id="rId2" Type="http://schemas.openxmlformats.org/officeDocument/2006/relationships/hyperlink" Target="http://www.lvc.ele.puc-rio.br/projects/interimage/" TargetMode="External"/><Relationship Id="rId3" Type="http://schemas.openxmlformats.org/officeDocument/2006/relationships/hyperlink" Target="http://wiki.dpi.inpe.br/doku.php?id=interimage" TargetMode="External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1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3695400"/>
            <a:ext cx="85582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ddddd"/>
                </a:solidFill>
                <a:latin typeface="Arial Black"/>
              </a:rPr>
              <a:t>InterIMAGE Workshop – INPE January 201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28600" y="4743360"/>
            <a:ext cx="6934320" cy="13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ilson A. O. P. Co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Rodrigo S. Ferrei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97000" y="5918040"/>
            <a:ext cx="860400" cy="729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300720" y="-177840"/>
            <a:ext cx="286704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Knowledge Model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1440" y="1376280"/>
            <a:ext cx="9144000" cy="5481720"/>
          </a:xfrm>
          <a:prstGeom prst="rect">
            <a:avLst/>
          </a:prstGeom>
          <a:ln w="0">
            <a:noFill/>
          </a:ln>
        </p:spPr>
      </p:pic>
      <p:sp>
        <p:nvSpPr>
          <p:cNvPr id="125" name="Espaço Reservado para Conteúdo 2"/>
          <p:cNvSpPr/>
          <p:nvPr/>
        </p:nvSpPr>
        <p:spPr>
          <a:xfrm>
            <a:off x="214200" y="831960"/>
            <a:ext cx="892836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spcBef>
                <a:spcPts val="3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mantic Network Node Properties – Decision Rule Attribu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Knowledge Model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-1440" y="1376280"/>
            <a:ext cx="9144000" cy="5481720"/>
          </a:xfrm>
          <a:prstGeom prst="rect">
            <a:avLst/>
          </a:prstGeom>
          <a:ln w="0">
            <a:noFill/>
          </a:ln>
        </p:spPr>
      </p:pic>
      <p:sp>
        <p:nvSpPr>
          <p:cNvPr id="129" name="Espaço Reservado para Conteúdo 2"/>
          <p:cNvSpPr/>
          <p:nvPr/>
        </p:nvSpPr>
        <p:spPr>
          <a:xfrm>
            <a:off x="214200" y="831960"/>
            <a:ext cx="892836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spcBef>
                <a:spcPts val="3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mantic Network Node Properties – Decision Rule Fuzzy Se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Proces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31" name="Espaço Reservado para Conteúdo 2"/>
          <p:cNvSpPr/>
          <p:nvPr/>
        </p:nvSpPr>
        <p:spPr>
          <a:xfrm>
            <a:off x="404640" y="1062000"/>
            <a:ext cx="829980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rpretation process in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uided by the semantic net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has two step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520" indent="-24336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Top-d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generates object hypotheses by executing top-down operators and top-down decision ru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1520" indent="-24336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Bottom-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validates/discards object hypotheses by applyi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om-up decision rules – creates object instanc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1520" indent="-24336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0" r="11172" b="20716"/>
          <a:stretch/>
        </p:blipFill>
        <p:spPr>
          <a:xfrm>
            <a:off x="2114640" y="3570120"/>
            <a:ext cx="5129280" cy="247032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507960" y="3990960"/>
            <a:ext cx="1492200" cy="1730520"/>
            <a:chOff x="507960" y="3990960"/>
            <a:chExt cx="1492200" cy="1730520"/>
          </a:xfrm>
        </p:grpSpPr>
        <p:sp>
          <p:nvSpPr>
            <p:cNvPr id="134" name=""/>
            <p:cNvSpPr/>
            <p:nvPr/>
          </p:nvSpPr>
          <p:spPr>
            <a:xfrm>
              <a:off x="930240" y="4397400"/>
              <a:ext cx="647640" cy="911160"/>
            </a:xfrm>
            <a:prstGeom prst="downArrow">
              <a:avLst>
                <a:gd name="adj1" fmla="val 50000"/>
                <a:gd name="adj2" fmla="val 35172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003366">
                    <a:alpha val="40000"/>
                  </a:srgbClr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6640" y="4638600"/>
              <a:ext cx="119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op-dow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7960" y="5349960"/>
              <a:ext cx="14922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t">
              <a:normAutofit fontScale="85000"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Hypothes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07960" y="3990960"/>
              <a:ext cx="14922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t">
              <a:normAutofit fontScale="85000"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ncep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7230960" y="3990960"/>
            <a:ext cx="1492200" cy="1730520"/>
            <a:chOff x="7230960" y="3990960"/>
            <a:chExt cx="1492200" cy="1730520"/>
          </a:xfrm>
        </p:grpSpPr>
        <p:sp>
          <p:nvSpPr>
            <p:cNvPr id="139" name=""/>
            <p:cNvSpPr/>
            <p:nvPr/>
          </p:nvSpPr>
          <p:spPr>
            <a:xfrm rot="10800000">
              <a:off x="7651440" y="4397040"/>
              <a:ext cx="647640" cy="911160"/>
            </a:xfrm>
            <a:prstGeom prst="downArrow">
              <a:avLst>
                <a:gd name="adj1" fmla="val 50000"/>
                <a:gd name="adj2" fmla="val 35172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003366">
                    <a:alpha val="40000"/>
                  </a:srgbClr>
                </a:gs>
                <a:gs pos="100000">
                  <a:srgbClr val="000000"/>
                </a:gs>
              </a:gsLst>
              <a:lin ang="16200000"/>
            </a:gradFill>
            <a:ln w="936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60200" y="4676760"/>
              <a:ext cx="12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ottom-up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30960" y="5349960"/>
              <a:ext cx="14922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t">
              <a:normAutofit fontScale="85000"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Hypothes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30960" y="3990960"/>
              <a:ext cx="14922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t">
              <a:normAutofit fontScale="85000"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stanc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44" name=""/>
          <p:cNvSpPr/>
          <p:nvPr/>
        </p:nvSpPr>
        <p:spPr>
          <a:xfrm>
            <a:off x="7920" y="3767040"/>
            <a:ext cx="3146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/>
          <p:nvPr/>
        </p:nvSpPr>
        <p:spPr>
          <a:xfrm>
            <a:off x="749160" y="3200400"/>
            <a:ext cx="173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Rede semânt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147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51" name=""/>
            <p:cNvCxnSpPr>
              <a:stCxn id="152" idx="2"/>
              <a:endCxn id="147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" name=""/>
            <p:cNvCxnSpPr>
              <a:stCxn id="152" idx="2"/>
              <a:endCxn id="148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" name=""/>
            <p:cNvCxnSpPr>
              <a:stCxn id="147" idx="2"/>
              <a:endCxn id="149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" name=""/>
            <p:cNvCxnSpPr>
              <a:stCxn id="147" idx="2"/>
              <a:endCxn id="150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6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152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58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6095880" y="1219320"/>
            <a:ext cx="914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6137280" y="1336680"/>
            <a:ext cx="79704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6485760" y="12952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163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-233280" y="3683160"/>
            <a:ext cx="351972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Executa operado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associa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o conceito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168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72" name=""/>
            <p:cNvCxnSpPr>
              <a:stCxn id="173" idx="2"/>
              <a:endCxn id="168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4" name=""/>
            <p:cNvCxnSpPr>
              <a:stCxn id="173" idx="2"/>
              <a:endCxn id="169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5" name=""/>
            <p:cNvCxnSpPr>
              <a:stCxn id="168" idx="2"/>
              <a:endCxn id="170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6" name=""/>
            <p:cNvCxnSpPr>
              <a:stCxn id="168" idx="2"/>
              <a:endCxn id="171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7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173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-232560" y="3683160"/>
            <a:ext cx="313416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Cria máscaras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ara 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peradores associa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os conceitos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B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2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183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186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257800" y="2895480"/>
            <a:ext cx="914400" cy="838440"/>
            <a:chOff x="5257800" y="2895480"/>
            <a:chExt cx="914400" cy="838440"/>
          </a:xfrm>
        </p:grpSpPr>
        <p:sp>
          <p:nvSpPr>
            <p:cNvPr id="189" name=""/>
            <p:cNvSpPr/>
            <p:nvPr/>
          </p:nvSpPr>
          <p:spPr>
            <a:xfrm>
              <a:off x="525780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299200" y="3000240"/>
              <a:ext cx="79668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191" name=""/>
          <p:cNvCxnSpPr>
            <a:stCxn id="189" idx="0"/>
            <a:endCxn id="192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" name=""/>
          <p:cNvCxnSpPr>
            <a:stCxn id="186" idx="0"/>
            <a:endCxn id="192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94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192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199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03" name=""/>
            <p:cNvCxnSpPr>
              <a:stCxn id="204" idx="2"/>
              <a:endCxn id="199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5" name=""/>
            <p:cNvCxnSpPr>
              <a:stCxn id="204" idx="2"/>
              <a:endCxn id="200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6" name=""/>
            <p:cNvCxnSpPr>
              <a:stCxn id="199" idx="2"/>
              <a:endCxn id="201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7" name=""/>
            <p:cNvCxnSpPr>
              <a:stCxn id="199" idx="2"/>
              <a:endCxn id="202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8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204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3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214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217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5257800" y="2895480"/>
            <a:ext cx="914400" cy="838440"/>
            <a:chOff x="5257800" y="2895480"/>
            <a:chExt cx="914400" cy="838440"/>
          </a:xfrm>
        </p:grpSpPr>
        <p:sp>
          <p:nvSpPr>
            <p:cNvPr id="220" name=""/>
            <p:cNvSpPr/>
            <p:nvPr/>
          </p:nvSpPr>
          <p:spPr>
            <a:xfrm>
              <a:off x="525780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99200" y="3000240"/>
              <a:ext cx="79668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222" name=""/>
          <p:cNvCxnSpPr>
            <a:stCxn id="220" idx="0"/>
            <a:endCxn id="223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4" name=""/>
          <p:cNvCxnSpPr>
            <a:stCxn id="217" idx="0"/>
            <a:endCxn id="223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25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223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230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34" name=""/>
            <p:cNvCxnSpPr>
              <a:stCxn id="235" idx="2"/>
              <a:endCxn id="230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6" name=""/>
            <p:cNvCxnSpPr>
              <a:stCxn id="235" idx="2"/>
              <a:endCxn id="231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7" name=""/>
            <p:cNvCxnSpPr>
              <a:stCxn id="230" idx="2"/>
              <a:endCxn id="232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8" name=""/>
            <p:cNvCxnSpPr>
              <a:stCxn id="230" idx="2"/>
              <a:endCxn id="233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9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235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Executa operadores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ssociados a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onceitos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B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244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6" name=""/>
          <p:cNvCxnSpPr>
            <a:endCxn id="245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7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8" name=""/>
          <p:cNvCxnSpPr>
            <a:endCxn id="247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9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0" name=""/>
          <p:cNvCxnSpPr>
            <a:endCxn id="249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1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Executa operadores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ssociados a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onceitos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B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2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253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256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262" name=""/>
          <p:cNvCxnSpPr>
            <a:stCxn id="256" idx="0"/>
            <a:endCxn id="263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4" name=""/>
          <p:cNvCxnSpPr>
            <a:stCxn id="265" idx="0"/>
            <a:endCxn id="263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6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263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265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275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79" name=""/>
            <p:cNvCxnSpPr>
              <a:stCxn id="280" idx="2"/>
              <a:endCxn id="275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1" name=""/>
            <p:cNvCxnSpPr>
              <a:stCxn id="280" idx="2"/>
              <a:endCxn id="276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2" name=""/>
            <p:cNvCxnSpPr>
              <a:stCxn id="275" idx="2"/>
              <a:endCxn id="277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3" name=""/>
            <p:cNvCxnSpPr>
              <a:stCxn id="275" idx="2"/>
              <a:endCxn id="278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4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280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288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0" name=""/>
          <p:cNvCxnSpPr>
            <a:endCxn id="289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1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2" name=""/>
          <p:cNvCxnSpPr>
            <a:endCxn id="291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3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4" name=""/>
          <p:cNvCxnSpPr>
            <a:endCxn id="293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5" name=""/>
          <p:cNvSpPr/>
          <p:nvPr/>
        </p:nvSpPr>
        <p:spPr>
          <a:xfrm>
            <a:off x="228600" y="3683160"/>
            <a:ext cx="274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Cria máscaras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ara 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operadores associa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os conceitos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D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e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943600" y="4724280"/>
            <a:ext cx="914400" cy="838440"/>
            <a:chOff x="5943600" y="4724280"/>
            <a:chExt cx="914400" cy="838440"/>
          </a:xfrm>
        </p:grpSpPr>
        <p:sp>
          <p:nvSpPr>
            <p:cNvPr id="297" name=""/>
            <p:cNvSpPr/>
            <p:nvPr/>
          </p:nvSpPr>
          <p:spPr>
            <a:xfrm>
              <a:off x="594360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1052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7238880" y="4724280"/>
            <a:ext cx="914400" cy="838440"/>
            <a:chOff x="7238880" y="4724280"/>
            <a:chExt cx="914400" cy="838440"/>
          </a:xfrm>
        </p:grpSpPr>
        <p:sp>
          <p:nvSpPr>
            <p:cNvPr id="300" name=""/>
            <p:cNvSpPr/>
            <p:nvPr/>
          </p:nvSpPr>
          <p:spPr>
            <a:xfrm>
              <a:off x="72388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70580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02" name=""/>
          <p:cNvCxnSpPr>
            <a:stCxn id="303" idx="0"/>
            <a:endCxn id="304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5" name=""/>
          <p:cNvCxnSpPr>
            <a:stCxn id="306" idx="0"/>
            <a:endCxn id="304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7" name=""/>
          <p:cNvCxnSpPr>
            <a:stCxn id="304" idx="2"/>
            <a:endCxn id="297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08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304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14" name=""/>
          <p:cNvCxnSpPr>
            <a:stCxn id="304" idx="2"/>
            <a:endCxn id="300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316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303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405240" y="4876920"/>
              <a:ext cx="32364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306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22" name=""/>
          <p:cNvCxnSpPr>
            <a:stCxn id="304" idx="0"/>
            <a:endCxn id="323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4" name=""/>
          <p:cNvCxnSpPr>
            <a:endCxn id="323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5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323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332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337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341" name=""/>
            <p:cNvCxnSpPr>
              <a:stCxn id="342" idx="2"/>
              <a:endCxn id="337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43" name=""/>
            <p:cNvCxnSpPr>
              <a:stCxn id="342" idx="2"/>
              <a:endCxn id="338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44" name=""/>
            <p:cNvCxnSpPr>
              <a:stCxn id="337" idx="2"/>
              <a:endCxn id="339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45" name=""/>
            <p:cNvCxnSpPr>
              <a:stCxn id="337" idx="2"/>
              <a:endCxn id="340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46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342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350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52" name=""/>
          <p:cNvCxnSpPr>
            <a:endCxn id="351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53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54" name=""/>
          <p:cNvCxnSpPr>
            <a:endCxn id="353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55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56" name=""/>
          <p:cNvCxnSpPr>
            <a:endCxn id="355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57" name=""/>
          <p:cNvGrpSpPr/>
          <p:nvPr/>
        </p:nvGrpSpPr>
        <p:grpSpPr>
          <a:xfrm>
            <a:off x="5943600" y="4724280"/>
            <a:ext cx="914400" cy="838440"/>
            <a:chOff x="5943600" y="4724280"/>
            <a:chExt cx="914400" cy="838440"/>
          </a:xfrm>
        </p:grpSpPr>
        <p:sp>
          <p:nvSpPr>
            <p:cNvPr id="358" name=""/>
            <p:cNvSpPr/>
            <p:nvPr/>
          </p:nvSpPr>
          <p:spPr>
            <a:xfrm>
              <a:off x="594360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41052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7238880" y="4724280"/>
            <a:ext cx="914400" cy="838440"/>
            <a:chOff x="7238880" y="4724280"/>
            <a:chExt cx="914400" cy="838440"/>
          </a:xfrm>
        </p:grpSpPr>
        <p:sp>
          <p:nvSpPr>
            <p:cNvPr id="361" name=""/>
            <p:cNvSpPr/>
            <p:nvPr/>
          </p:nvSpPr>
          <p:spPr>
            <a:xfrm>
              <a:off x="72388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70580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63" name=""/>
          <p:cNvCxnSpPr>
            <a:stCxn id="364" idx="0"/>
            <a:endCxn id="365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6" name=""/>
          <p:cNvCxnSpPr>
            <a:stCxn id="367" idx="0"/>
            <a:endCxn id="365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8" name=""/>
          <p:cNvCxnSpPr>
            <a:stCxn id="365" idx="2"/>
            <a:endCxn id="358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69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365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75" name=""/>
          <p:cNvCxnSpPr>
            <a:stCxn id="365" idx="2"/>
            <a:endCxn id="361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6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377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364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405240" y="4876920"/>
              <a:ext cx="32364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367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83" name=""/>
          <p:cNvCxnSpPr>
            <a:stCxn id="365" idx="0"/>
            <a:endCxn id="384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5" name=""/>
          <p:cNvCxnSpPr>
            <a:endCxn id="384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86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384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393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398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402" name=""/>
            <p:cNvCxnSpPr>
              <a:stCxn id="403" idx="2"/>
              <a:endCxn id="398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04" name=""/>
            <p:cNvCxnSpPr>
              <a:stCxn id="403" idx="2"/>
              <a:endCxn id="399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05" name=""/>
            <p:cNvCxnSpPr>
              <a:stCxn id="398" idx="2"/>
              <a:endCxn id="400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06" name=""/>
            <p:cNvCxnSpPr>
              <a:stCxn id="398" idx="2"/>
              <a:endCxn id="401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07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403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/>
          <p:nvPr/>
        </p:nvSpPr>
        <p:spPr>
          <a:xfrm>
            <a:off x="228600" y="3683160"/>
            <a:ext cx="274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Executa operadores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ssociados a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onceitos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D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e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The InterIMAGE Project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5240" indent="-2332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6440" indent="-233280">
              <a:spcBef>
                <a:spcPts val="9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 of a Knowledge Based Image Interpretation System for the interpretation of Remote Sensing Imag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5240" indent="-2332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tive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6440" indent="-233280">
              <a:spcBef>
                <a:spcPts val="9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VC (PUC-Rio), INPE (Brazilian Space Research Institute), TNT (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eibniz Universität Hannove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5240" indent="-2332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6440" indent="-233280">
              <a:spcBef>
                <a:spcPts val="9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ing lines for innovation projects on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46440" indent="-233280">
              <a:spcBef>
                <a:spcPts val="9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ions: FINEP, SEBRAE, FAPER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5240" indent="-2332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6440" indent="-233280">
              <a:spcBef>
                <a:spcPts val="9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ion 1.24 (Window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46440" indent="-233280">
              <a:spcBef>
                <a:spcPts val="9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ion 0.94 (LINU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41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14" name=""/>
          <p:cNvCxnSpPr>
            <a:endCxn id="413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5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16" name=""/>
          <p:cNvCxnSpPr>
            <a:endCxn id="415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7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18" name=""/>
          <p:cNvCxnSpPr>
            <a:endCxn id="417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9" name=""/>
          <p:cNvSpPr/>
          <p:nvPr/>
        </p:nvSpPr>
        <p:spPr>
          <a:xfrm>
            <a:off x="228600" y="3683160"/>
            <a:ext cx="274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Executa operadores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ssociados a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onceitos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D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e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943600" y="4724280"/>
            <a:ext cx="914400" cy="838440"/>
            <a:chOff x="5943600" y="4724280"/>
            <a:chExt cx="914400" cy="838440"/>
          </a:xfrm>
        </p:grpSpPr>
        <p:sp>
          <p:nvSpPr>
            <p:cNvPr id="421" name=""/>
            <p:cNvSpPr/>
            <p:nvPr/>
          </p:nvSpPr>
          <p:spPr>
            <a:xfrm>
              <a:off x="594360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41052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7238880" y="4724280"/>
            <a:ext cx="914400" cy="838440"/>
            <a:chOff x="7238880" y="4724280"/>
            <a:chExt cx="914400" cy="838440"/>
          </a:xfrm>
        </p:grpSpPr>
        <p:sp>
          <p:nvSpPr>
            <p:cNvPr id="424" name=""/>
            <p:cNvSpPr/>
            <p:nvPr/>
          </p:nvSpPr>
          <p:spPr>
            <a:xfrm>
              <a:off x="72388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70580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426" name=""/>
          <p:cNvCxnSpPr>
            <a:stCxn id="427" idx="0"/>
            <a:endCxn id="428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0"/>
            <a:endCxn id="428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1" name=""/>
          <p:cNvCxnSpPr>
            <a:stCxn id="428" idx="2"/>
            <a:endCxn id="421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32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428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438" name=""/>
          <p:cNvCxnSpPr>
            <a:stCxn id="428" idx="2"/>
            <a:endCxn id="424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9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440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427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430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448" name=""/>
          <p:cNvCxnSpPr>
            <a:stCxn id="428" idx="0"/>
            <a:endCxn id="449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0" name=""/>
          <p:cNvCxnSpPr>
            <a:endCxn id="449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51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449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1" name=""/>
          <p:cNvCxnSpPr>
            <a:stCxn id="459" idx="0"/>
            <a:endCxn id="413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2" name=""/>
          <p:cNvCxnSpPr>
            <a:stCxn id="460" idx="0"/>
            <a:endCxn id="413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63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464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469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473" name=""/>
            <p:cNvCxnSpPr>
              <a:stCxn id="474" idx="2"/>
              <a:endCxn id="469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5" name=""/>
            <p:cNvCxnSpPr>
              <a:stCxn id="474" idx="2"/>
              <a:endCxn id="470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6" name=""/>
            <p:cNvCxnSpPr>
              <a:stCxn id="469" idx="2"/>
              <a:endCxn id="471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7" name=""/>
            <p:cNvCxnSpPr>
              <a:stCxn id="469" idx="2"/>
              <a:endCxn id="472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8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474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48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4" name=""/>
          <p:cNvCxnSpPr>
            <a:endCxn id="483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5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6" name=""/>
          <p:cNvCxnSpPr>
            <a:endCxn id="485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7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8" name=""/>
          <p:cNvCxnSpPr>
            <a:endCxn id="487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9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Quando o processamento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nos nós folha é concluído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fase bottom-up tem iníci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5943600" y="4724280"/>
            <a:ext cx="914400" cy="838440"/>
            <a:chOff x="5943600" y="4724280"/>
            <a:chExt cx="914400" cy="838440"/>
          </a:xfrm>
        </p:grpSpPr>
        <p:sp>
          <p:nvSpPr>
            <p:cNvPr id="491" name=""/>
            <p:cNvSpPr/>
            <p:nvPr/>
          </p:nvSpPr>
          <p:spPr>
            <a:xfrm>
              <a:off x="594360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41052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7238880" y="4724280"/>
            <a:ext cx="914400" cy="838440"/>
            <a:chOff x="7238880" y="4724280"/>
            <a:chExt cx="914400" cy="838440"/>
          </a:xfrm>
        </p:grpSpPr>
        <p:sp>
          <p:nvSpPr>
            <p:cNvPr id="494" name=""/>
            <p:cNvSpPr/>
            <p:nvPr/>
          </p:nvSpPr>
          <p:spPr>
            <a:xfrm>
              <a:off x="72388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70580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496" name=""/>
          <p:cNvCxnSpPr>
            <a:stCxn id="497" idx="0"/>
            <a:endCxn id="498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9" name=""/>
          <p:cNvCxnSpPr>
            <a:stCxn id="500" idx="0"/>
            <a:endCxn id="498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98" idx="2"/>
            <a:endCxn id="491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02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498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08" name=""/>
          <p:cNvCxnSpPr>
            <a:stCxn id="498" idx="2"/>
            <a:endCxn id="494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10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497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500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18" name=""/>
          <p:cNvCxnSpPr>
            <a:stCxn id="498" idx="0"/>
            <a:endCxn id="519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endCxn id="519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1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519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1" name=""/>
          <p:cNvCxnSpPr>
            <a:stCxn id="529" idx="0"/>
            <a:endCxn id="483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2" name=""/>
          <p:cNvCxnSpPr>
            <a:stCxn id="530" idx="0"/>
            <a:endCxn id="483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33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534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539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43" name=""/>
            <p:cNvCxnSpPr>
              <a:stCxn id="544" idx="2"/>
              <a:endCxn id="539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5" name=""/>
            <p:cNvCxnSpPr>
              <a:stCxn id="544" idx="2"/>
              <a:endCxn id="540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6" name=""/>
            <p:cNvCxnSpPr>
              <a:stCxn id="539" idx="2"/>
              <a:endCxn id="541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7" name=""/>
            <p:cNvCxnSpPr>
              <a:stCxn id="539" idx="2"/>
              <a:endCxn id="542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8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544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55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4" name=""/>
          <p:cNvCxnSpPr>
            <a:endCxn id="553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5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6" name=""/>
          <p:cNvCxnSpPr>
            <a:endCxn id="555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7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8" name=""/>
          <p:cNvCxnSpPr>
            <a:endCxn id="557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9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Executa as regras de decis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ara avaliar as hipóteses 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filhos de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5943600" y="4724280"/>
            <a:ext cx="914400" cy="838440"/>
            <a:chOff x="5943600" y="4724280"/>
            <a:chExt cx="914400" cy="838440"/>
          </a:xfrm>
        </p:grpSpPr>
        <p:sp>
          <p:nvSpPr>
            <p:cNvPr id="561" name=""/>
            <p:cNvSpPr/>
            <p:nvPr/>
          </p:nvSpPr>
          <p:spPr>
            <a:xfrm>
              <a:off x="594360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41052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7238880" y="4724280"/>
            <a:ext cx="914400" cy="838440"/>
            <a:chOff x="7238880" y="4724280"/>
            <a:chExt cx="914400" cy="838440"/>
          </a:xfrm>
        </p:grpSpPr>
        <p:sp>
          <p:nvSpPr>
            <p:cNvPr id="564" name=""/>
            <p:cNvSpPr/>
            <p:nvPr/>
          </p:nvSpPr>
          <p:spPr>
            <a:xfrm>
              <a:off x="72388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70580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66" name=""/>
          <p:cNvCxnSpPr>
            <a:stCxn id="567" idx="0"/>
            <a:endCxn id="568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9" name=""/>
          <p:cNvCxnSpPr>
            <a:stCxn id="570" idx="0"/>
            <a:endCxn id="568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1" name=""/>
          <p:cNvCxnSpPr>
            <a:stCxn id="568" idx="2"/>
            <a:endCxn id="561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72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568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78" name=""/>
          <p:cNvCxnSpPr>
            <a:stCxn id="568" idx="2"/>
            <a:endCxn id="564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9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80" name=""/>
          <p:cNvSpPr/>
          <p:nvPr/>
        </p:nvSpPr>
        <p:spPr>
          <a:xfrm>
            <a:off x="762120" y="32004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567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570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88" name=""/>
          <p:cNvCxnSpPr>
            <a:stCxn id="568" idx="0"/>
            <a:endCxn id="589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0" name=""/>
          <p:cNvCxnSpPr>
            <a:endCxn id="589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91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589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4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1" name=""/>
          <p:cNvCxnSpPr>
            <a:stCxn id="599" idx="0"/>
            <a:endCxn id="553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2" name=""/>
          <p:cNvCxnSpPr>
            <a:stCxn id="600" idx="0"/>
            <a:endCxn id="553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3" name=""/>
          <p:cNvSpPr/>
          <p:nvPr/>
        </p:nvSpPr>
        <p:spPr>
          <a:xfrm rot="10800000">
            <a:off x="380520" y="91404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514700"/>
              </a:gs>
              <a:gs pos="100000">
                <a:srgbClr val="ccb400"/>
              </a:gs>
            </a:gsLst>
            <a:lin ang="162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605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610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14" name=""/>
            <p:cNvCxnSpPr>
              <a:stCxn id="615" idx="2"/>
              <a:endCxn id="610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6" name=""/>
            <p:cNvCxnSpPr>
              <a:stCxn id="615" idx="2"/>
              <a:endCxn id="611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7" name=""/>
            <p:cNvCxnSpPr>
              <a:stCxn id="610" idx="2"/>
              <a:endCxn id="612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8" name=""/>
            <p:cNvCxnSpPr>
              <a:stCxn id="610" idx="2"/>
              <a:endCxn id="613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9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615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62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4" name=""/>
          <p:cNvCxnSpPr>
            <a:endCxn id="623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25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6" name=""/>
          <p:cNvCxnSpPr>
            <a:endCxn id="625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27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8" name=""/>
          <p:cNvCxnSpPr>
            <a:endCxn id="627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29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Executa as regras de decis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ara avaliar as hipóteses 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filhos de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5943600" y="4724280"/>
            <a:ext cx="914400" cy="838440"/>
            <a:chOff x="5943600" y="4724280"/>
            <a:chExt cx="914400" cy="838440"/>
          </a:xfrm>
        </p:grpSpPr>
        <p:sp>
          <p:nvSpPr>
            <p:cNvPr id="631" name=""/>
            <p:cNvSpPr/>
            <p:nvPr/>
          </p:nvSpPr>
          <p:spPr>
            <a:xfrm>
              <a:off x="594360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41052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7238880" y="4724280"/>
            <a:ext cx="914400" cy="838440"/>
            <a:chOff x="7238880" y="4724280"/>
            <a:chExt cx="914400" cy="838440"/>
          </a:xfrm>
        </p:grpSpPr>
        <p:sp>
          <p:nvSpPr>
            <p:cNvPr id="634" name=""/>
            <p:cNvSpPr/>
            <p:nvPr/>
          </p:nvSpPr>
          <p:spPr>
            <a:xfrm>
              <a:off x="72388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70580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36" name=""/>
          <p:cNvCxnSpPr>
            <a:stCxn id="637" idx="0"/>
            <a:endCxn id="638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9" name=""/>
          <p:cNvCxnSpPr>
            <a:stCxn id="640" idx="0"/>
            <a:endCxn id="638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1" name=""/>
          <p:cNvCxnSpPr>
            <a:stCxn id="638" idx="2"/>
            <a:endCxn id="631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642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638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48" name=""/>
          <p:cNvCxnSpPr>
            <a:stCxn id="638" idx="2"/>
            <a:endCxn id="634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9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650" name=""/>
          <p:cNvSpPr/>
          <p:nvPr/>
        </p:nvSpPr>
        <p:spPr>
          <a:xfrm>
            <a:off x="762120" y="32004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637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640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58" name=""/>
          <p:cNvCxnSpPr>
            <a:stCxn id="638" idx="0"/>
            <a:endCxn id="659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0" name=""/>
          <p:cNvCxnSpPr>
            <a:endCxn id="659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661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659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1" name=""/>
          <p:cNvCxnSpPr>
            <a:stCxn id="669" idx="0"/>
            <a:endCxn id="623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2" name=""/>
          <p:cNvCxnSpPr>
            <a:stCxn id="670" idx="0"/>
            <a:endCxn id="623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3" name=""/>
          <p:cNvSpPr/>
          <p:nvPr/>
        </p:nvSpPr>
        <p:spPr>
          <a:xfrm rot="10800000">
            <a:off x="380520" y="91404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514700"/>
              </a:gs>
              <a:gs pos="100000">
                <a:srgbClr val="ccb400"/>
              </a:gs>
            </a:gsLst>
            <a:lin ang="162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675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680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84" name=""/>
            <p:cNvCxnSpPr>
              <a:stCxn id="685" idx="2"/>
              <a:endCxn id="680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6" name=""/>
            <p:cNvCxnSpPr>
              <a:stCxn id="685" idx="2"/>
              <a:endCxn id="681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7" name=""/>
            <p:cNvCxnSpPr>
              <a:stCxn id="680" idx="2"/>
              <a:endCxn id="682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8" name=""/>
            <p:cNvCxnSpPr>
              <a:stCxn id="680" idx="2"/>
              <a:endCxn id="683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9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685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69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4" name=""/>
          <p:cNvCxnSpPr>
            <a:endCxn id="693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95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6" name=""/>
          <p:cNvCxnSpPr>
            <a:endCxn id="695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97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8" name=""/>
          <p:cNvCxnSpPr>
            <a:endCxn id="697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99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Executa as regras de decis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ara avaliar as hipóteses 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filhos de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5943600" y="4724280"/>
            <a:ext cx="914400" cy="838440"/>
            <a:chOff x="5943600" y="4724280"/>
            <a:chExt cx="914400" cy="838440"/>
          </a:xfrm>
        </p:grpSpPr>
        <p:sp>
          <p:nvSpPr>
            <p:cNvPr id="701" name=""/>
            <p:cNvSpPr/>
            <p:nvPr/>
          </p:nvSpPr>
          <p:spPr>
            <a:xfrm>
              <a:off x="594360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41052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7238880" y="4724280"/>
            <a:ext cx="914400" cy="838440"/>
            <a:chOff x="7238880" y="4724280"/>
            <a:chExt cx="914400" cy="838440"/>
          </a:xfrm>
        </p:grpSpPr>
        <p:sp>
          <p:nvSpPr>
            <p:cNvPr id="704" name=""/>
            <p:cNvSpPr/>
            <p:nvPr/>
          </p:nvSpPr>
          <p:spPr>
            <a:xfrm>
              <a:off x="72388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70580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706" name=""/>
          <p:cNvCxnSpPr>
            <a:stCxn id="707" idx="0"/>
            <a:endCxn id="708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9" name=""/>
          <p:cNvCxnSpPr>
            <a:stCxn id="710" idx="0"/>
            <a:endCxn id="708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11" name=""/>
          <p:cNvCxnSpPr>
            <a:stCxn id="708" idx="2"/>
            <a:endCxn id="701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712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708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718" name=""/>
          <p:cNvCxnSpPr>
            <a:stCxn id="708" idx="2"/>
            <a:endCxn id="704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19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720" name=""/>
          <p:cNvSpPr/>
          <p:nvPr/>
        </p:nvSpPr>
        <p:spPr>
          <a:xfrm>
            <a:off x="762120" y="32004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707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710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728" name=""/>
          <p:cNvCxnSpPr>
            <a:stCxn id="708" idx="0"/>
            <a:endCxn id="729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30" name=""/>
          <p:cNvCxnSpPr>
            <a:endCxn id="729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731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729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1" name=""/>
          <p:cNvCxnSpPr>
            <a:stCxn id="739" idx="0"/>
            <a:endCxn id="693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2" name=""/>
          <p:cNvCxnSpPr>
            <a:stCxn id="740" idx="0"/>
            <a:endCxn id="693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43" name=""/>
          <p:cNvSpPr/>
          <p:nvPr/>
        </p:nvSpPr>
        <p:spPr>
          <a:xfrm rot="10800000">
            <a:off x="380520" y="91404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514700"/>
              </a:gs>
              <a:gs pos="100000">
                <a:srgbClr val="ccb400"/>
              </a:gs>
            </a:gsLst>
            <a:lin ang="162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745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750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54" name=""/>
            <p:cNvCxnSpPr>
              <a:stCxn id="755" idx="2"/>
              <a:endCxn id="750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6" name=""/>
            <p:cNvCxnSpPr>
              <a:stCxn id="755" idx="2"/>
              <a:endCxn id="751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7" name=""/>
            <p:cNvCxnSpPr>
              <a:stCxn id="750" idx="2"/>
              <a:endCxn id="752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8" name=""/>
            <p:cNvCxnSpPr>
              <a:stCxn id="750" idx="2"/>
              <a:endCxn id="753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9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755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76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4" name=""/>
          <p:cNvCxnSpPr>
            <a:endCxn id="763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65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6" name=""/>
          <p:cNvCxnSpPr>
            <a:endCxn id="765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67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c5d1d7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c5d1d7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c5d1d7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8" name=""/>
          <p:cNvCxnSpPr>
            <a:endCxn id="767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sp>
        <p:nvSpPr>
          <p:cNvPr id="769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Executa as regras de decis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para avaliar as hipóteses 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filhos de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"/>
          <p:cNvSpPr/>
          <p:nvPr/>
        </p:nvSpPr>
        <p:spPr>
          <a:xfrm>
            <a:off x="5943600" y="47242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"/>
          <p:cNvSpPr/>
          <p:nvPr/>
        </p:nvSpPr>
        <p:spPr>
          <a:xfrm>
            <a:off x="6410160" y="4878360"/>
            <a:ext cx="31932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"/>
          <p:cNvSpPr/>
          <p:nvPr/>
        </p:nvSpPr>
        <p:spPr>
          <a:xfrm>
            <a:off x="7238880" y="47242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"/>
          <p:cNvSpPr/>
          <p:nvPr/>
        </p:nvSpPr>
        <p:spPr>
          <a:xfrm>
            <a:off x="7705800" y="4878360"/>
            <a:ext cx="31896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74" name=""/>
          <p:cNvCxnSpPr>
            <a:stCxn id="775" idx="0"/>
            <a:endCxn id="776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7" name=""/>
          <p:cNvCxnSpPr>
            <a:stCxn id="778" idx="0"/>
            <a:endCxn id="776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9" name=""/>
          <p:cNvCxnSpPr>
            <a:stCxn id="776" idx="2"/>
            <a:endCxn id="770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sp>
        <p:nvSpPr>
          <p:cNvPr id="776" name=""/>
          <p:cNvSpPr/>
          <p:nvPr/>
        </p:nvSpPr>
        <p:spPr>
          <a:xfrm>
            <a:off x="5257800" y="28954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"/>
          <p:cNvSpPr/>
          <p:nvPr/>
        </p:nvSpPr>
        <p:spPr>
          <a:xfrm>
            <a:off x="5299200" y="3000240"/>
            <a:ext cx="79668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"/>
          <p:cNvSpPr/>
          <p:nvPr/>
        </p:nvSpPr>
        <p:spPr>
          <a:xfrm>
            <a:off x="5310360" y="3048120"/>
            <a:ext cx="323640" cy="595080"/>
          </a:xfrm>
          <a:custGeom>
            <a:avLst/>
            <a:gdLst/>
            <a:ahLst/>
            <a:rect l="l" t="t" r="r" b="b"/>
            <a:pathLst>
              <a:path w="204" h="375">
                <a:moveTo>
                  <a:pt x="0" y="348"/>
                </a:moveTo>
                <a:cubicBezTo>
                  <a:pt x="4" y="328"/>
                  <a:pt x="3" y="306"/>
                  <a:pt x="21" y="294"/>
                </a:cubicBezTo>
                <a:cubicBezTo>
                  <a:pt x="28" y="274"/>
                  <a:pt x="18" y="294"/>
                  <a:pt x="33" y="282"/>
                </a:cubicBezTo>
                <a:cubicBezTo>
                  <a:pt x="47" y="271"/>
                  <a:pt x="55" y="253"/>
                  <a:pt x="60" y="237"/>
                </a:cubicBezTo>
                <a:cubicBezTo>
                  <a:pt x="63" y="228"/>
                  <a:pt x="84" y="222"/>
                  <a:pt x="84" y="222"/>
                </a:cubicBezTo>
                <a:cubicBezTo>
                  <a:pt x="82" y="198"/>
                  <a:pt x="82" y="178"/>
                  <a:pt x="75" y="156"/>
                </a:cubicBezTo>
                <a:cubicBezTo>
                  <a:pt x="72" y="137"/>
                  <a:pt x="73" y="122"/>
                  <a:pt x="57" y="111"/>
                </a:cubicBezTo>
                <a:cubicBezTo>
                  <a:pt x="40" y="86"/>
                  <a:pt x="46" y="49"/>
                  <a:pt x="54" y="21"/>
                </a:cubicBezTo>
                <a:cubicBezTo>
                  <a:pt x="57" y="9"/>
                  <a:pt x="67" y="10"/>
                  <a:pt x="78" y="6"/>
                </a:cubicBezTo>
                <a:cubicBezTo>
                  <a:pt x="84" y="4"/>
                  <a:pt x="96" y="0"/>
                  <a:pt x="96" y="0"/>
                </a:cubicBezTo>
                <a:cubicBezTo>
                  <a:pt x="119" y="1"/>
                  <a:pt x="142" y="1"/>
                  <a:pt x="165" y="3"/>
                </a:cubicBezTo>
                <a:cubicBezTo>
                  <a:pt x="172" y="3"/>
                  <a:pt x="180" y="2"/>
                  <a:pt x="186" y="6"/>
                </a:cubicBezTo>
                <a:cubicBezTo>
                  <a:pt x="193" y="12"/>
                  <a:pt x="195" y="33"/>
                  <a:pt x="195" y="33"/>
                </a:cubicBezTo>
                <a:cubicBezTo>
                  <a:pt x="194" y="63"/>
                  <a:pt x="192" y="93"/>
                  <a:pt x="192" y="123"/>
                </a:cubicBezTo>
                <a:cubicBezTo>
                  <a:pt x="192" y="139"/>
                  <a:pt x="193" y="155"/>
                  <a:pt x="195" y="171"/>
                </a:cubicBezTo>
                <a:cubicBezTo>
                  <a:pt x="196" y="182"/>
                  <a:pt x="204" y="204"/>
                  <a:pt x="204" y="204"/>
                </a:cubicBezTo>
                <a:cubicBezTo>
                  <a:pt x="203" y="222"/>
                  <a:pt x="204" y="255"/>
                  <a:pt x="192" y="273"/>
                </a:cubicBezTo>
                <a:cubicBezTo>
                  <a:pt x="186" y="282"/>
                  <a:pt x="183" y="294"/>
                  <a:pt x="174" y="300"/>
                </a:cubicBezTo>
                <a:cubicBezTo>
                  <a:pt x="168" y="304"/>
                  <a:pt x="156" y="312"/>
                  <a:pt x="156" y="312"/>
                </a:cubicBezTo>
                <a:cubicBezTo>
                  <a:pt x="152" y="324"/>
                  <a:pt x="147" y="329"/>
                  <a:pt x="135" y="333"/>
                </a:cubicBezTo>
                <a:cubicBezTo>
                  <a:pt x="129" y="343"/>
                  <a:pt x="116" y="353"/>
                  <a:pt x="105" y="357"/>
                </a:cubicBezTo>
                <a:cubicBezTo>
                  <a:pt x="93" y="375"/>
                  <a:pt x="68" y="369"/>
                  <a:pt x="48" y="372"/>
                </a:cubicBezTo>
                <a:cubicBezTo>
                  <a:pt x="4" y="368"/>
                  <a:pt x="23" y="371"/>
                  <a:pt x="0" y="34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"/>
          <p:cNvSpPr/>
          <p:nvPr/>
        </p:nvSpPr>
        <p:spPr>
          <a:xfrm>
            <a:off x="5724360" y="3049560"/>
            <a:ext cx="31932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"/>
          <p:cNvSpPr/>
          <p:nvPr/>
        </p:nvSpPr>
        <p:spPr>
          <a:xfrm>
            <a:off x="5340960" y="30178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4" name=""/>
          <p:cNvCxnSpPr>
            <a:stCxn id="776" idx="2"/>
            <a:endCxn id="772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cxnSp>
        <p:nvCxnSpPr>
          <p:cNvPr id="785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786" name=""/>
          <p:cNvSpPr/>
          <p:nvPr/>
        </p:nvSpPr>
        <p:spPr>
          <a:xfrm>
            <a:off x="762120" y="32004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775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778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794" name=""/>
          <p:cNvCxnSpPr>
            <a:stCxn id="776" idx="0"/>
            <a:endCxn id="795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6" name=""/>
          <p:cNvCxnSpPr>
            <a:endCxn id="795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95" name=""/>
          <p:cNvSpPr/>
          <p:nvPr/>
        </p:nvSpPr>
        <p:spPr>
          <a:xfrm>
            <a:off x="6095880" y="1219320"/>
            <a:ext cx="914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"/>
          <p:cNvSpPr/>
          <p:nvPr/>
        </p:nvSpPr>
        <p:spPr>
          <a:xfrm>
            <a:off x="6137280" y="1336680"/>
            <a:ext cx="79704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"/>
          <p:cNvSpPr/>
          <p:nvPr/>
        </p:nvSpPr>
        <p:spPr>
          <a:xfrm>
            <a:off x="6485760" y="12952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c5d1d7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c5d1d7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c5d1d7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6" name=""/>
          <p:cNvCxnSpPr>
            <a:stCxn id="804" idx="0"/>
            <a:endCxn id="763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07" name=""/>
          <p:cNvCxnSpPr>
            <a:stCxn id="805" idx="0"/>
            <a:endCxn id="763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08" name=""/>
          <p:cNvSpPr/>
          <p:nvPr/>
        </p:nvSpPr>
        <p:spPr>
          <a:xfrm>
            <a:off x="6934320" y="28954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"/>
          <p:cNvSpPr/>
          <p:nvPr/>
        </p:nvSpPr>
        <p:spPr>
          <a:xfrm>
            <a:off x="6975360" y="3000240"/>
            <a:ext cx="79704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"/>
          <p:cNvSpPr/>
          <p:nvPr/>
        </p:nvSpPr>
        <p:spPr>
          <a:xfrm>
            <a:off x="7159680" y="3083040"/>
            <a:ext cx="449280" cy="488880"/>
          </a:xfrm>
          <a:custGeom>
            <a:avLst/>
            <a:gdLst/>
            <a:ahLst/>
            <a:rect l="l" t="t" r="r" b="b"/>
            <a:pathLst>
              <a:path w="290" h="316">
                <a:moveTo>
                  <a:pt x="40" y="278"/>
                </a:moveTo>
                <a:cubicBezTo>
                  <a:pt x="24" y="238"/>
                  <a:pt x="42" y="213"/>
                  <a:pt x="32" y="190"/>
                </a:cubicBezTo>
                <a:cubicBezTo>
                  <a:pt x="26" y="178"/>
                  <a:pt x="8" y="107"/>
                  <a:pt x="4" y="94"/>
                </a:cubicBezTo>
                <a:cubicBezTo>
                  <a:pt x="0" y="61"/>
                  <a:pt x="7" y="36"/>
                  <a:pt x="40" y="14"/>
                </a:cubicBezTo>
                <a:cubicBezTo>
                  <a:pt x="49" y="0"/>
                  <a:pt x="104" y="19"/>
                  <a:pt x="120" y="14"/>
                </a:cubicBezTo>
                <a:cubicBezTo>
                  <a:pt x="129" y="11"/>
                  <a:pt x="191" y="31"/>
                  <a:pt x="191" y="31"/>
                </a:cubicBezTo>
                <a:cubicBezTo>
                  <a:pt x="216" y="34"/>
                  <a:pt x="225" y="37"/>
                  <a:pt x="233" y="61"/>
                </a:cubicBezTo>
                <a:cubicBezTo>
                  <a:pt x="239" y="111"/>
                  <a:pt x="259" y="158"/>
                  <a:pt x="281" y="202"/>
                </a:cubicBezTo>
                <a:cubicBezTo>
                  <a:pt x="290" y="264"/>
                  <a:pt x="286" y="301"/>
                  <a:pt x="227" y="316"/>
                </a:cubicBezTo>
                <a:cubicBezTo>
                  <a:pt x="206" y="315"/>
                  <a:pt x="185" y="315"/>
                  <a:pt x="164" y="313"/>
                </a:cubicBezTo>
                <a:cubicBezTo>
                  <a:pt x="155" y="312"/>
                  <a:pt x="137" y="304"/>
                  <a:pt x="137" y="304"/>
                </a:cubicBezTo>
                <a:cubicBezTo>
                  <a:pt x="125" y="292"/>
                  <a:pt x="68" y="294"/>
                  <a:pt x="40" y="278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"/>
          <p:cNvSpPr/>
          <p:nvPr/>
        </p:nvSpPr>
        <p:spPr>
          <a:xfrm>
            <a:off x="7251840" y="3089160"/>
            <a:ext cx="371160" cy="492120"/>
          </a:xfrm>
          <a:custGeom>
            <a:avLst/>
            <a:gdLst/>
            <a:ahLst/>
            <a:rect l="l" t="t" r="r" b="b"/>
            <a:pathLst>
              <a:path w="234" h="310">
                <a:moveTo>
                  <a:pt x="0" y="280"/>
                </a:moveTo>
                <a:cubicBezTo>
                  <a:pt x="38" y="234"/>
                  <a:pt x="36" y="240"/>
                  <a:pt x="40" y="212"/>
                </a:cubicBezTo>
                <a:cubicBezTo>
                  <a:pt x="44" y="188"/>
                  <a:pt x="44" y="188"/>
                  <a:pt x="42" y="176"/>
                </a:cubicBezTo>
                <a:cubicBezTo>
                  <a:pt x="40" y="164"/>
                  <a:pt x="30" y="151"/>
                  <a:pt x="28" y="140"/>
                </a:cubicBezTo>
                <a:cubicBezTo>
                  <a:pt x="26" y="129"/>
                  <a:pt x="30" y="133"/>
                  <a:pt x="30" y="112"/>
                </a:cubicBezTo>
                <a:cubicBezTo>
                  <a:pt x="26" y="79"/>
                  <a:pt x="34" y="70"/>
                  <a:pt x="28" y="14"/>
                </a:cubicBezTo>
                <a:cubicBezTo>
                  <a:pt x="37" y="0"/>
                  <a:pt x="48" y="13"/>
                  <a:pt x="64" y="8"/>
                </a:cubicBezTo>
                <a:cubicBezTo>
                  <a:pt x="73" y="5"/>
                  <a:pt x="135" y="25"/>
                  <a:pt x="135" y="25"/>
                </a:cubicBezTo>
                <a:cubicBezTo>
                  <a:pt x="160" y="28"/>
                  <a:pt x="169" y="31"/>
                  <a:pt x="177" y="55"/>
                </a:cubicBezTo>
                <a:cubicBezTo>
                  <a:pt x="183" y="105"/>
                  <a:pt x="203" y="152"/>
                  <a:pt x="225" y="196"/>
                </a:cubicBezTo>
                <a:cubicBezTo>
                  <a:pt x="234" y="258"/>
                  <a:pt x="230" y="295"/>
                  <a:pt x="171" y="310"/>
                </a:cubicBezTo>
                <a:cubicBezTo>
                  <a:pt x="150" y="309"/>
                  <a:pt x="129" y="309"/>
                  <a:pt x="108" y="307"/>
                </a:cubicBezTo>
                <a:cubicBezTo>
                  <a:pt x="99" y="306"/>
                  <a:pt x="81" y="298"/>
                  <a:pt x="81" y="298"/>
                </a:cubicBezTo>
                <a:cubicBezTo>
                  <a:pt x="69" y="286"/>
                  <a:pt x="28" y="294"/>
                  <a:pt x="0" y="280"/>
                </a:cubicBezTo>
                <a:close/>
              </a:path>
            </a:pathLst>
          </a:custGeom>
          <a:solidFill>
            <a:srgbClr val="00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"/>
          <p:cNvSpPr/>
          <p:nvPr/>
        </p:nvSpPr>
        <p:spPr>
          <a:xfrm>
            <a:off x="7169760" y="31240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814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18" name=""/>
            <p:cNvCxnSpPr>
              <a:stCxn id="819" idx="2"/>
              <a:endCxn id="814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0" name=""/>
            <p:cNvCxnSpPr>
              <a:stCxn id="819" idx="2"/>
              <a:endCxn id="815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1" name=""/>
            <p:cNvCxnSpPr>
              <a:stCxn id="814" idx="2"/>
              <a:endCxn id="816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2" name=""/>
            <p:cNvCxnSpPr>
              <a:stCxn id="814" idx="2"/>
              <a:endCxn id="817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3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819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4" name=""/>
          <p:cNvSpPr/>
          <p:nvPr/>
        </p:nvSpPr>
        <p:spPr>
          <a:xfrm rot="10800000">
            <a:off x="380520" y="91404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514700"/>
              </a:gs>
              <a:gs pos="100000">
                <a:srgbClr val="ccb400"/>
              </a:gs>
            </a:gsLst>
            <a:lin ang="162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827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9" name=""/>
          <p:cNvCxnSpPr>
            <a:endCxn id="828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30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1" name=""/>
          <p:cNvCxnSpPr>
            <a:endCxn id="830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32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c5d1d7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c5d1d7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c5d1d7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3" name=""/>
          <p:cNvCxnSpPr>
            <a:endCxn id="832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sp>
        <p:nvSpPr>
          <p:cNvPr id="834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Executa as regras de decis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para avaliar as hipóteses 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irmãos de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"/>
          <p:cNvSpPr/>
          <p:nvPr/>
        </p:nvSpPr>
        <p:spPr>
          <a:xfrm>
            <a:off x="5943600" y="47242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"/>
          <p:cNvSpPr/>
          <p:nvPr/>
        </p:nvSpPr>
        <p:spPr>
          <a:xfrm>
            <a:off x="6410160" y="4878360"/>
            <a:ext cx="31932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"/>
          <p:cNvSpPr/>
          <p:nvPr/>
        </p:nvSpPr>
        <p:spPr>
          <a:xfrm>
            <a:off x="7238880" y="47242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"/>
          <p:cNvSpPr/>
          <p:nvPr/>
        </p:nvSpPr>
        <p:spPr>
          <a:xfrm>
            <a:off x="7705800" y="4878360"/>
            <a:ext cx="31896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9" name=""/>
          <p:cNvCxnSpPr>
            <a:stCxn id="840" idx="0"/>
            <a:endCxn id="841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2" name=""/>
          <p:cNvCxnSpPr>
            <a:stCxn id="843" idx="0"/>
            <a:endCxn id="841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4" name=""/>
          <p:cNvCxnSpPr>
            <a:stCxn id="841" idx="2"/>
            <a:endCxn id="835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sp>
        <p:nvSpPr>
          <p:cNvPr id="841" name=""/>
          <p:cNvSpPr/>
          <p:nvPr/>
        </p:nvSpPr>
        <p:spPr>
          <a:xfrm>
            <a:off x="5257800" y="28954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"/>
          <p:cNvSpPr/>
          <p:nvPr/>
        </p:nvSpPr>
        <p:spPr>
          <a:xfrm>
            <a:off x="5299200" y="3000240"/>
            <a:ext cx="79668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"/>
          <p:cNvSpPr/>
          <p:nvPr/>
        </p:nvSpPr>
        <p:spPr>
          <a:xfrm>
            <a:off x="5310360" y="3048120"/>
            <a:ext cx="323640" cy="595080"/>
          </a:xfrm>
          <a:custGeom>
            <a:avLst/>
            <a:gdLst/>
            <a:ahLst/>
            <a:rect l="l" t="t" r="r" b="b"/>
            <a:pathLst>
              <a:path w="204" h="375">
                <a:moveTo>
                  <a:pt x="0" y="348"/>
                </a:moveTo>
                <a:cubicBezTo>
                  <a:pt x="4" y="328"/>
                  <a:pt x="3" y="306"/>
                  <a:pt x="21" y="294"/>
                </a:cubicBezTo>
                <a:cubicBezTo>
                  <a:pt x="28" y="274"/>
                  <a:pt x="18" y="294"/>
                  <a:pt x="33" y="282"/>
                </a:cubicBezTo>
                <a:cubicBezTo>
                  <a:pt x="47" y="271"/>
                  <a:pt x="55" y="253"/>
                  <a:pt x="60" y="237"/>
                </a:cubicBezTo>
                <a:cubicBezTo>
                  <a:pt x="63" y="228"/>
                  <a:pt x="84" y="222"/>
                  <a:pt x="84" y="222"/>
                </a:cubicBezTo>
                <a:cubicBezTo>
                  <a:pt x="82" y="198"/>
                  <a:pt x="82" y="178"/>
                  <a:pt x="75" y="156"/>
                </a:cubicBezTo>
                <a:cubicBezTo>
                  <a:pt x="72" y="137"/>
                  <a:pt x="73" y="122"/>
                  <a:pt x="57" y="111"/>
                </a:cubicBezTo>
                <a:cubicBezTo>
                  <a:pt x="40" y="86"/>
                  <a:pt x="46" y="49"/>
                  <a:pt x="54" y="21"/>
                </a:cubicBezTo>
                <a:cubicBezTo>
                  <a:pt x="57" y="9"/>
                  <a:pt x="67" y="10"/>
                  <a:pt x="78" y="6"/>
                </a:cubicBezTo>
                <a:cubicBezTo>
                  <a:pt x="84" y="4"/>
                  <a:pt x="96" y="0"/>
                  <a:pt x="96" y="0"/>
                </a:cubicBezTo>
                <a:cubicBezTo>
                  <a:pt x="119" y="1"/>
                  <a:pt x="142" y="1"/>
                  <a:pt x="165" y="3"/>
                </a:cubicBezTo>
                <a:cubicBezTo>
                  <a:pt x="172" y="3"/>
                  <a:pt x="180" y="2"/>
                  <a:pt x="186" y="6"/>
                </a:cubicBezTo>
                <a:cubicBezTo>
                  <a:pt x="193" y="12"/>
                  <a:pt x="195" y="33"/>
                  <a:pt x="195" y="33"/>
                </a:cubicBezTo>
                <a:cubicBezTo>
                  <a:pt x="194" y="63"/>
                  <a:pt x="192" y="93"/>
                  <a:pt x="192" y="123"/>
                </a:cubicBezTo>
                <a:cubicBezTo>
                  <a:pt x="192" y="139"/>
                  <a:pt x="193" y="155"/>
                  <a:pt x="195" y="171"/>
                </a:cubicBezTo>
                <a:cubicBezTo>
                  <a:pt x="196" y="182"/>
                  <a:pt x="204" y="204"/>
                  <a:pt x="204" y="204"/>
                </a:cubicBezTo>
                <a:cubicBezTo>
                  <a:pt x="203" y="222"/>
                  <a:pt x="204" y="255"/>
                  <a:pt x="192" y="273"/>
                </a:cubicBezTo>
                <a:cubicBezTo>
                  <a:pt x="186" y="282"/>
                  <a:pt x="183" y="294"/>
                  <a:pt x="174" y="300"/>
                </a:cubicBezTo>
                <a:cubicBezTo>
                  <a:pt x="168" y="304"/>
                  <a:pt x="156" y="312"/>
                  <a:pt x="156" y="312"/>
                </a:cubicBezTo>
                <a:cubicBezTo>
                  <a:pt x="152" y="324"/>
                  <a:pt x="147" y="329"/>
                  <a:pt x="135" y="333"/>
                </a:cubicBezTo>
                <a:cubicBezTo>
                  <a:pt x="129" y="343"/>
                  <a:pt x="116" y="353"/>
                  <a:pt x="105" y="357"/>
                </a:cubicBezTo>
                <a:cubicBezTo>
                  <a:pt x="93" y="375"/>
                  <a:pt x="68" y="369"/>
                  <a:pt x="48" y="372"/>
                </a:cubicBezTo>
                <a:cubicBezTo>
                  <a:pt x="4" y="368"/>
                  <a:pt x="23" y="371"/>
                  <a:pt x="0" y="34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"/>
          <p:cNvSpPr/>
          <p:nvPr/>
        </p:nvSpPr>
        <p:spPr>
          <a:xfrm>
            <a:off x="5724360" y="3049560"/>
            <a:ext cx="31932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"/>
          <p:cNvSpPr/>
          <p:nvPr/>
        </p:nvSpPr>
        <p:spPr>
          <a:xfrm>
            <a:off x="5340960" y="30178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9" name=""/>
          <p:cNvCxnSpPr>
            <a:stCxn id="841" idx="2"/>
            <a:endCxn id="837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cxnSp>
        <p:nvCxnSpPr>
          <p:cNvPr id="850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851" name=""/>
          <p:cNvSpPr/>
          <p:nvPr/>
        </p:nvSpPr>
        <p:spPr>
          <a:xfrm>
            <a:off x="762120" y="32004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840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843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859" name=""/>
          <p:cNvCxnSpPr>
            <a:stCxn id="841" idx="0"/>
            <a:endCxn id="860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1" name=""/>
          <p:cNvCxnSpPr>
            <a:endCxn id="860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60" name=""/>
          <p:cNvSpPr/>
          <p:nvPr/>
        </p:nvSpPr>
        <p:spPr>
          <a:xfrm>
            <a:off x="6095880" y="1219320"/>
            <a:ext cx="914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"/>
          <p:cNvSpPr/>
          <p:nvPr/>
        </p:nvSpPr>
        <p:spPr>
          <a:xfrm>
            <a:off x="6137280" y="1336680"/>
            <a:ext cx="79704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"/>
          <p:cNvSpPr/>
          <p:nvPr/>
        </p:nvSpPr>
        <p:spPr>
          <a:xfrm>
            <a:off x="6485760" y="12952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c5d1d7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c5d1d7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c5d1d7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1" name=""/>
          <p:cNvCxnSpPr>
            <a:stCxn id="869" idx="0"/>
            <a:endCxn id="828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72" name=""/>
          <p:cNvCxnSpPr>
            <a:stCxn id="870" idx="0"/>
            <a:endCxn id="828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73" name=""/>
          <p:cNvSpPr/>
          <p:nvPr/>
        </p:nvSpPr>
        <p:spPr>
          <a:xfrm>
            <a:off x="6934320" y="28954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"/>
          <p:cNvSpPr/>
          <p:nvPr/>
        </p:nvSpPr>
        <p:spPr>
          <a:xfrm>
            <a:off x="6975360" y="3000240"/>
            <a:ext cx="79704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"/>
          <p:cNvSpPr/>
          <p:nvPr/>
        </p:nvSpPr>
        <p:spPr>
          <a:xfrm>
            <a:off x="7159680" y="3083040"/>
            <a:ext cx="449280" cy="488880"/>
          </a:xfrm>
          <a:custGeom>
            <a:avLst/>
            <a:gdLst/>
            <a:ahLst/>
            <a:rect l="l" t="t" r="r" b="b"/>
            <a:pathLst>
              <a:path w="290" h="316">
                <a:moveTo>
                  <a:pt x="40" y="278"/>
                </a:moveTo>
                <a:cubicBezTo>
                  <a:pt x="24" y="238"/>
                  <a:pt x="42" y="213"/>
                  <a:pt x="32" y="190"/>
                </a:cubicBezTo>
                <a:cubicBezTo>
                  <a:pt x="26" y="178"/>
                  <a:pt x="8" y="107"/>
                  <a:pt x="4" y="94"/>
                </a:cubicBezTo>
                <a:cubicBezTo>
                  <a:pt x="0" y="61"/>
                  <a:pt x="7" y="36"/>
                  <a:pt x="40" y="14"/>
                </a:cubicBezTo>
                <a:cubicBezTo>
                  <a:pt x="49" y="0"/>
                  <a:pt x="104" y="19"/>
                  <a:pt x="120" y="14"/>
                </a:cubicBezTo>
                <a:cubicBezTo>
                  <a:pt x="129" y="11"/>
                  <a:pt x="191" y="31"/>
                  <a:pt x="191" y="31"/>
                </a:cubicBezTo>
                <a:cubicBezTo>
                  <a:pt x="216" y="34"/>
                  <a:pt x="225" y="37"/>
                  <a:pt x="233" y="61"/>
                </a:cubicBezTo>
                <a:cubicBezTo>
                  <a:pt x="239" y="111"/>
                  <a:pt x="259" y="158"/>
                  <a:pt x="281" y="202"/>
                </a:cubicBezTo>
                <a:cubicBezTo>
                  <a:pt x="290" y="264"/>
                  <a:pt x="286" y="301"/>
                  <a:pt x="227" y="316"/>
                </a:cubicBezTo>
                <a:cubicBezTo>
                  <a:pt x="206" y="315"/>
                  <a:pt x="185" y="315"/>
                  <a:pt x="164" y="313"/>
                </a:cubicBezTo>
                <a:cubicBezTo>
                  <a:pt x="155" y="312"/>
                  <a:pt x="137" y="304"/>
                  <a:pt x="137" y="304"/>
                </a:cubicBezTo>
                <a:cubicBezTo>
                  <a:pt x="125" y="292"/>
                  <a:pt x="68" y="294"/>
                  <a:pt x="40" y="278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"/>
          <p:cNvSpPr/>
          <p:nvPr/>
        </p:nvSpPr>
        <p:spPr>
          <a:xfrm>
            <a:off x="7251840" y="3089160"/>
            <a:ext cx="371160" cy="492120"/>
          </a:xfrm>
          <a:custGeom>
            <a:avLst/>
            <a:gdLst/>
            <a:ahLst/>
            <a:rect l="l" t="t" r="r" b="b"/>
            <a:pathLst>
              <a:path w="234" h="310">
                <a:moveTo>
                  <a:pt x="0" y="280"/>
                </a:moveTo>
                <a:cubicBezTo>
                  <a:pt x="38" y="234"/>
                  <a:pt x="36" y="240"/>
                  <a:pt x="40" y="212"/>
                </a:cubicBezTo>
                <a:cubicBezTo>
                  <a:pt x="44" y="188"/>
                  <a:pt x="44" y="188"/>
                  <a:pt x="42" y="176"/>
                </a:cubicBezTo>
                <a:cubicBezTo>
                  <a:pt x="40" y="164"/>
                  <a:pt x="30" y="151"/>
                  <a:pt x="28" y="140"/>
                </a:cubicBezTo>
                <a:cubicBezTo>
                  <a:pt x="26" y="129"/>
                  <a:pt x="30" y="133"/>
                  <a:pt x="30" y="112"/>
                </a:cubicBezTo>
                <a:cubicBezTo>
                  <a:pt x="26" y="79"/>
                  <a:pt x="34" y="70"/>
                  <a:pt x="28" y="14"/>
                </a:cubicBezTo>
                <a:cubicBezTo>
                  <a:pt x="37" y="0"/>
                  <a:pt x="48" y="13"/>
                  <a:pt x="64" y="8"/>
                </a:cubicBezTo>
                <a:cubicBezTo>
                  <a:pt x="73" y="5"/>
                  <a:pt x="135" y="25"/>
                  <a:pt x="135" y="25"/>
                </a:cubicBezTo>
                <a:cubicBezTo>
                  <a:pt x="160" y="28"/>
                  <a:pt x="169" y="31"/>
                  <a:pt x="177" y="55"/>
                </a:cubicBezTo>
                <a:cubicBezTo>
                  <a:pt x="183" y="105"/>
                  <a:pt x="203" y="152"/>
                  <a:pt x="225" y="196"/>
                </a:cubicBezTo>
                <a:cubicBezTo>
                  <a:pt x="234" y="258"/>
                  <a:pt x="230" y="295"/>
                  <a:pt x="171" y="310"/>
                </a:cubicBezTo>
                <a:cubicBezTo>
                  <a:pt x="150" y="309"/>
                  <a:pt x="129" y="309"/>
                  <a:pt x="108" y="307"/>
                </a:cubicBezTo>
                <a:cubicBezTo>
                  <a:pt x="99" y="306"/>
                  <a:pt x="81" y="298"/>
                  <a:pt x="81" y="298"/>
                </a:cubicBezTo>
                <a:cubicBezTo>
                  <a:pt x="69" y="286"/>
                  <a:pt x="28" y="294"/>
                  <a:pt x="0" y="280"/>
                </a:cubicBezTo>
                <a:close/>
              </a:path>
            </a:pathLst>
          </a:custGeom>
          <a:solidFill>
            <a:srgbClr val="00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"/>
          <p:cNvSpPr/>
          <p:nvPr/>
        </p:nvSpPr>
        <p:spPr>
          <a:xfrm>
            <a:off x="7169760" y="31240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"/>
          <p:cNvSpPr/>
          <p:nvPr/>
        </p:nvSpPr>
        <p:spPr>
          <a:xfrm rot="10800000">
            <a:off x="380520" y="91404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514700"/>
              </a:gs>
              <a:gs pos="100000">
                <a:srgbClr val="ccb400"/>
              </a:gs>
            </a:gsLst>
            <a:lin ang="162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880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84" name=""/>
            <p:cNvCxnSpPr>
              <a:stCxn id="885" idx="2"/>
              <a:endCxn id="880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6" name=""/>
            <p:cNvCxnSpPr>
              <a:stCxn id="885" idx="2"/>
              <a:endCxn id="881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7" name=""/>
            <p:cNvCxnSpPr>
              <a:stCxn id="880" idx="2"/>
              <a:endCxn id="882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8" name=""/>
            <p:cNvCxnSpPr>
              <a:stCxn id="880" idx="2"/>
              <a:endCxn id="883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9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885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89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4" name=""/>
          <p:cNvCxnSpPr>
            <a:endCxn id="893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95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6" name=""/>
          <p:cNvCxnSpPr>
            <a:endCxn id="895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97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c5d1d7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c5d1d7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c5d1d7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8" name=""/>
          <p:cNvCxnSpPr>
            <a:endCxn id="897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sp>
        <p:nvSpPr>
          <p:cNvPr id="899" name=""/>
          <p:cNvSpPr/>
          <p:nvPr/>
        </p:nvSpPr>
        <p:spPr>
          <a:xfrm>
            <a:off x="228600" y="3683160"/>
            <a:ext cx="274320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Executa as regras de decis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para avaliar as hipóteses 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irmãos de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"/>
          <p:cNvSpPr/>
          <p:nvPr/>
        </p:nvSpPr>
        <p:spPr>
          <a:xfrm>
            <a:off x="5943600" y="47242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"/>
          <p:cNvSpPr/>
          <p:nvPr/>
        </p:nvSpPr>
        <p:spPr>
          <a:xfrm>
            <a:off x="6410160" y="4878360"/>
            <a:ext cx="31932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"/>
          <p:cNvSpPr/>
          <p:nvPr/>
        </p:nvSpPr>
        <p:spPr>
          <a:xfrm>
            <a:off x="7238880" y="47242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"/>
          <p:cNvSpPr/>
          <p:nvPr/>
        </p:nvSpPr>
        <p:spPr>
          <a:xfrm>
            <a:off x="7705800" y="4878360"/>
            <a:ext cx="31896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4" name=""/>
          <p:cNvCxnSpPr>
            <a:stCxn id="905" idx="0"/>
            <a:endCxn id="906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7" name=""/>
          <p:cNvCxnSpPr>
            <a:stCxn id="908" idx="0"/>
            <a:endCxn id="906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9" name=""/>
          <p:cNvCxnSpPr>
            <a:stCxn id="906" idx="2"/>
            <a:endCxn id="900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sp>
        <p:nvSpPr>
          <p:cNvPr id="906" name=""/>
          <p:cNvSpPr/>
          <p:nvPr/>
        </p:nvSpPr>
        <p:spPr>
          <a:xfrm>
            <a:off x="5257800" y="28954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10" name=""/>
          <p:cNvCxnSpPr>
            <a:stCxn id="906" idx="2"/>
            <a:endCxn id="902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cxnSp>
        <p:nvCxnSpPr>
          <p:cNvPr id="911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912" name=""/>
          <p:cNvSpPr/>
          <p:nvPr/>
        </p:nvSpPr>
        <p:spPr>
          <a:xfrm>
            <a:off x="762120" y="32004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4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905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908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920" name=""/>
          <p:cNvCxnSpPr>
            <a:stCxn id="906" idx="0"/>
            <a:endCxn id="921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22" name=""/>
          <p:cNvCxnSpPr>
            <a:endCxn id="921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21" name=""/>
          <p:cNvSpPr/>
          <p:nvPr/>
        </p:nvSpPr>
        <p:spPr>
          <a:xfrm>
            <a:off x="6095880" y="1219320"/>
            <a:ext cx="914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c5d1d7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c5d1d7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c5d1d7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30" name=""/>
          <p:cNvCxnSpPr>
            <a:stCxn id="928" idx="0"/>
            <a:endCxn id="893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31" name=""/>
          <p:cNvCxnSpPr>
            <a:stCxn id="929" idx="0"/>
            <a:endCxn id="893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32" name=""/>
          <p:cNvSpPr/>
          <p:nvPr/>
        </p:nvSpPr>
        <p:spPr>
          <a:xfrm>
            <a:off x="6934320" y="28954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"/>
          <p:cNvSpPr/>
          <p:nvPr/>
        </p:nvSpPr>
        <p:spPr>
          <a:xfrm>
            <a:off x="6137280" y="1336680"/>
            <a:ext cx="79704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6153120" y="1371600"/>
            <a:ext cx="619200" cy="595440"/>
            <a:chOff x="6153120" y="1371600"/>
            <a:chExt cx="619200" cy="595440"/>
          </a:xfrm>
        </p:grpSpPr>
        <p:sp>
          <p:nvSpPr>
            <p:cNvPr id="935" name=""/>
            <p:cNvSpPr/>
            <p:nvPr/>
          </p:nvSpPr>
          <p:spPr>
            <a:xfrm>
              <a:off x="6153120" y="137160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370560" y="1447920"/>
              <a:ext cx="401760" cy="492120"/>
            </a:xfrm>
            <a:custGeom>
              <a:avLst/>
              <a:gdLst/>
              <a:ahLst/>
              <a:rect l="l" t="t" r="r" b="b"/>
              <a:pathLst>
                <a:path w="253" h="310">
                  <a:moveTo>
                    <a:pt x="0" y="280"/>
                  </a:moveTo>
                  <a:cubicBezTo>
                    <a:pt x="38" y="234"/>
                    <a:pt x="26" y="244"/>
                    <a:pt x="30" y="216"/>
                  </a:cubicBezTo>
                  <a:cubicBezTo>
                    <a:pt x="34" y="192"/>
                    <a:pt x="58" y="189"/>
                    <a:pt x="61" y="176"/>
                  </a:cubicBezTo>
                  <a:cubicBezTo>
                    <a:pt x="64" y="163"/>
                    <a:pt x="49" y="151"/>
                    <a:pt x="47" y="140"/>
                  </a:cubicBezTo>
                  <a:cubicBezTo>
                    <a:pt x="45" y="129"/>
                    <a:pt x="49" y="133"/>
                    <a:pt x="49" y="112"/>
                  </a:cubicBezTo>
                  <a:cubicBezTo>
                    <a:pt x="45" y="79"/>
                    <a:pt x="53" y="70"/>
                    <a:pt x="47" y="14"/>
                  </a:cubicBezTo>
                  <a:cubicBezTo>
                    <a:pt x="56" y="0"/>
                    <a:pt x="67" y="13"/>
                    <a:pt x="83" y="8"/>
                  </a:cubicBezTo>
                  <a:cubicBezTo>
                    <a:pt x="92" y="5"/>
                    <a:pt x="154" y="25"/>
                    <a:pt x="154" y="25"/>
                  </a:cubicBezTo>
                  <a:cubicBezTo>
                    <a:pt x="179" y="28"/>
                    <a:pt x="188" y="31"/>
                    <a:pt x="196" y="55"/>
                  </a:cubicBezTo>
                  <a:cubicBezTo>
                    <a:pt x="202" y="105"/>
                    <a:pt x="222" y="152"/>
                    <a:pt x="244" y="196"/>
                  </a:cubicBezTo>
                  <a:cubicBezTo>
                    <a:pt x="253" y="258"/>
                    <a:pt x="249" y="295"/>
                    <a:pt x="190" y="310"/>
                  </a:cubicBezTo>
                  <a:cubicBezTo>
                    <a:pt x="169" y="309"/>
                    <a:pt x="148" y="309"/>
                    <a:pt x="127" y="307"/>
                  </a:cubicBezTo>
                  <a:cubicBezTo>
                    <a:pt x="118" y="306"/>
                    <a:pt x="100" y="298"/>
                    <a:pt x="100" y="298"/>
                  </a:cubicBezTo>
                  <a:cubicBezTo>
                    <a:pt x="88" y="286"/>
                    <a:pt x="28" y="294"/>
                    <a:pt x="0" y="28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7" name=""/>
          <p:cNvSpPr/>
          <p:nvPr/>
        </p:nvSpPr>
        <p:spPr>
          <a:xfrm>
            <a:off x="5526000" y="3125880"/>
            <a:ext cx="401760" cy="492120"/>
          </a:xfrm>
          <a:custGeom>
            <a:avLst/>
            <a:gdLst/>
            <a:ahLst/>
            <a:rect l="l" t="t" r="r" b="b"/>
            <a:pathLst>
              <a:path w="253" h="310">
                <a:moveTo>
                  <a:pt x="0" y="280"/>
                </a:moveTo>
                <a:cubicBezTo>
                  <a:pt x="38" y="234"/>
                  <a:pt x="26" y="244"/>
                  <a:pt x="30" y="216"/>
                </a:cubicBezTo>
                <a:cubicBezTo>
                  <a:pt x="34" y="192"/>
                  <a:pt x="58" y="189"/>
                  <a:pt x="61" y="176"/>
                </a:cubicBezTo>
                <a:cubicBezTo>
                  <a:pt x="64" y="163"/>
                  <a:pt x="49" y="151"/>
                  <a:pt x="47" y="140"/>
                </a:cubicBezTo>
                <a:cubicBezTo>
                  <a:pt x="45" y="129"/>
                  <a:pt x="49" y="133"/>
                  <a:pt x="49" y="112"/>
                </a:cubicBezTo>
                <a:cubicBezTo>
                  <a:pt x="45" y="79"/>
                  <a:pt x="53" y="70"/>
                  <a:pt x="47" y="14"/>
                </a:cubicBezTo>
                <a:cubicBezTo>
                  <a:pt x="56" y="0"/>
                  <a:pt x="67" y="13"/>
                  <a:pt x="83" y="8"/>
                </a:cubicBezTo>
                <a:cubicBezTo>
                  <a:pt x="92" y="5"/>
                  <a:pt x="154" y="25"/>
                  <a:pt x="154" y="25"/>
                </a:cubicBezTo>
                <a:cubicBezTo>
                  <a:pt x="179" y="28"/>
                  <a:pt x="188" y="31"/>
                  <a:pt x="196" y="55"/>
                </a:cubicBezTo>
                <a:cubicBezTo>
                  <a:pt x="202" y="105"/>
                  <a:pt x="222" y="152"/>
                  <a:pt x="244" y="196"/>
                </a:cubicBezTo>
                <a:cubicBezTo>
                  <a:pt x="253" y="258"/>
                  <a:pt x="249" y="295"/>
                  <a:pt x="190" y="310"/>
                </a:cubicBezTo>
                <a:cubicBezTo>
                  <a:pt x="169" y="309"/>
                  <a:pt x="148" y="309"/>
                  <a:pt x="127" y="307"/>
                </a:cubicBezTo>
                <a:cubicBezTo>
                  <a:pt x="118" y="306"/>
                  <a:pt x="100" y="298"/>
                  <a:pt x="100" y="298"/>
                </a:cubicBezTo>
                <a:cubicBezTo>
                  <a:pt x="88" y="286"/>
                  <a:pt x="28" y="294"/>
                  <a:pt x="0" y="28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"/>
          <p:cNvSpPr/>
          <p:nvPr/>
        </p:nvSpPr>
        <p:spPr>
          <a:xfrm>
            <a:off x="5310360" y="3048120"/>
            <a:ext cx="323640" cy="595080"/>
          </a:xfrm>
          <a:custGeom>
            <a:avLst/>
            <a:gdLst/>
            <a:ahLst/>
            <a:rect l="l" t="t" r="r" b="b"/>
            <a:pathLst>
              <a:path w="204" h="375">
                <a:moveTo>
                  <a:pt x="0" y="348"/>
                </a:moveTo>
                <a:cubicBezTo>
                  <a:pt x="4" y="328"/>
                  <a:pt x="3" y="306"/>
                  <a:pt x="21" y="294"/>
                </a:cubicBezTo>
                <a:cubicBezTo>
                  <a:pt x="28" y="274"/>
                  <a:pt x="18" y="294"/>
                  <a:pt x="33" y="282"/>
                </a:cubicBezTo>
                <a:cubicBezTo>
                  <a:pt x="47" y="271"/>
                  <a:pt x="55" y="253"/>
                  <a:pt x="60" y="237"/>
                </a:cubicBezTo>
                <a:cubicBezTo>
                  <a:pt x="63" y="228"/>
                  <a:pt x="84" y="222"/>
                  <a:pt x="84" y="222"/>
                </a:cubicBezTo>
                <a:cubicBezTo>
                  <a:pt x="82" y="198"/>
                  <a:pt x="82" y="178"/>
                  <a:pt x="75" y="156"/>
                </a:cubicBezTo>
                <a:cubicBezTo>
                  <a:pt x="72" y="137"/>
                  <a:pt x="73" y="122"/>
                  <a:pt x="57" y="111"/>
                </a:cubicBezTo>
                <a:cubicBezTo>
                  <a:pt x="40" y="86"/>
                  <a:pt x="46" y="49"/>
                  <a:pt x="54" y="21"/>
                </a:cubicBezTo>
                <a:cubicBezTo>
                  <a:pt x="57" y="9"/>
                  <a:pt x="67" y="10"/>
                  <a:pt x="78" y="6"/>
                </a:cubicBezTo>
                <a:cubicBezTo>
                  <a:pt x="84" y="4"/>
                  <a:pt x="96" y="0"/>
                  <a:pt x="96" y="0"/>
                </a:cubicBezTo>
                <a:cubicBezTo>
                  <a:pt x="119" y="1"/>
                  <a:pt x="142" y="1"/>
                  <a:pt x="165" y="3"/>
                </a:cubicBezTo>
                <a:cubicBezTo>
                  <a:pt x="172" y="3"/>
                  <a:pt x="180" y="2"/>
                  <a:pt x="186" y="6"/>
                </a:cubicBezTo>
                <a:cubicBezTo>
                  <a:pt x="193" y="12"/>
                  <a:pt x="195" y="33"/>
                  <a:pt x="195" y="33"/>
                </a:cubicBezTo>
                <a:cubicBezTo>
                  <a:pt x="194" y="63"/>
                  <a:pt x="192" y="93"/>
                  <a:pt x="192" y="123"/>
                </a:cubicBezTo>
                <a:cubicBezTo>
                  <a:pt x="192" y="139"/>
                  <a:pt x="193" y="155"/>
                  <a:pt x="195" y="171"/>
                </a:cubicBezTo>
                <a:cubicBezTo>
                  <a:pt x="196" y="182"/>
                  <a:pt x="204" y="204"/>
                  <a:pt x="204" y="204"/>
                </a:cubicBezTo>
                <a:cubicBezTo>
                  <a:pt x="203" y="222"/>
                  <a:pt x="204" y="255"/>
                  <a:pt x="192" y="273"/>
                </a:cubicBezTo>
                <a:cubicBezTo>
                  <a:pt x="186" y="282"/>
                  <a:pt x="183" y="294"/>
                  <a:pt x="174" y="300"/>
                </a:cubicBezTo>
                <a:cubicBezTo>
                  <a:pt x="168" y="304"/>
                  <a:pt x="156" y="312"/>
                  <a:pt x="156" y="312"/>
                </a:cubicBezTo>
                <a:cubicBezTo>
                  <a:pt x="152" y="324"/>
                  <a:pt x="147" y="329"/>
                  <a:pt x="135" y="333"/>
                </a:cubicBezTo>
                <a:cubicBezTo>
                  <a:pt x="129" y="343"/>
                  <a:pt x="116" y="353"/>
                  <a:pt x="105" y="357"/>
                </a:cubicBezTo>
                <a:cubicBezTo>
                  <a:pt x="93" y="375"/>
                  <a:pt x="68" y="369"/>
                  <a:pt x="48" y="372"/>
                </a:cubicBezTo>
                <a:cubicBezTo>
                  <a:pt x="4" y="368"/>
                  <a:pt x="23" y="371"/>
                  <a:pt x="0" y="34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"/>
          <p:cNvSpPr/>
          <p:nvPr/>
        </p:nvSpPr>
        <p:spPr>
          <a:xfrm>
            <a:off x="5340960" y="30178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"/>
          <p:cNvSpPr/>
          <p:nvPr/>
        </p:nvSpPr>
        <p:spPr>
          <a:xfrm>
            <a:off x="6991200" y="3048120"/>
            <a:ext cx="357480" cy="595080"/>
          </a:xfrm>
          <a:custGeom>
            <a:avLst/>
            <a:gdLst/>
            <a:ahLst/>
            <a:rect l="l" t="t" r="r" b="b"/>
            <a:pathLst>
              <a:path w="225" h="375">
                <a:moveTo>
                  <a:pt x="0" y="348"/>
                </a:moveTo>
                <a:cubicBezTo>
                  <a:pt x="4" y="328"/>
                  <a:pt x="3" y="306"/>
                  <a:pt x="21" y="294"/>
                </a:cubicBezTo>
                <a:cubicBezTo>
                  <a:pt x="28" y="274"/>
                  <a:pt x="18" y="294"/>
                  <a:pt x="33" y="282"/>
                </a:cubicBezTo>
                <a:cubicBezTo>
                  <a:pt x="47" y="271"/>
                  <a:pt x="55" y="253"/>
                  <a:pt x="60" y="237"/>
                </a:cubicBezTo>
                <a:cubicBezTo>
                  <a:pt x="63" y="228"/>
                  <a:pt x="84" y="222"/>
                  <a:pt x="84" y="222"/>
                </a:cubicBezTo>
                <a:cubicBezTo>
                  <a:pt x="82" y="198"/>
                  <a:pt x="82" y="178"/>
                  <a:pt x="75" y="156"/>
                </a:cubicBezTo>
                <a:cubicBezTo>
                  <a:pt x="72" y="137"/>
                  <a:pt x="73" y="122"/>
                  <a:pt x="57" y="111"/>
                </a:cubicBezTo>
                <a:cubicBezTo>
                  <a:pt x="40" y="86"/>
                  <a:pt x="46" y="49"/>
                  <a:pt x="54" y="21"/>
                </a:cubicBezTo>
                <a:cubicBezTo>
                  <a:pt x="57" y="9"/>
                  <a:pt x="67" y="10"/>
                  <a:pt x="78" y="6"/>
                </a:cubicBezTo>
                <a:cubicBezTo>
                  <a:pt x="84" y="4"/>
                  <a:pt x="96" y="0"/>
                  <a:pt x="96" y="0"/>
                </a:cubicBezTo>
                <a:cubicBezTo>
                  <a:pt x="119" y="1"/>
                  <a:pt x="142" y="1"/>
                  <a:pt x="165" y="3"/>
                </a:cubicBezTo>
                <a:cubicBezTo>
                  <a:pt x="172" y="3"/>
                  <a:pt x="180" y="2"/>
                  <a:pt x="186" y="6"/>
                </a:cubicBezTo>
                <a:cubicBezTo>
                  <a:pt x="193" y="12"/>
                  <a:pt x="195" y="33"/>
                  <a:pt x="195" y="33"/>
                </a:cubicBezTo>
                <a:cubicBezTo>
                  <a:pt x="194" y="63"/>
                  <a:pt x="204" y="86"/>
                  <a:pt x="204" y="116"/>
                </a:cubicBezTo>
                <a:cubicBezTo>
                  <a:pt x="204" y="132"/>
                  <a:pt x="222" y="140"/>
                  <a:pt x="224" y="156"/>
                </a:cubicBezTo>
                <a:cubicBezTo>
                  <a:pt x="225" y="167"/>
                  <a:pt x="220" y="200"/>
                  <a:pt x="220" y="200"/>
                </a:cubicBezTo>
                <a:cubicBezTo>
                  <a:pt x="219" y="218"/>
                  <a:pt x="216" y="250"/>
                  <a:pt x="204" y="268"/>
                </a:cubicBezTo>
                <a:cubicBezTo>
                  <a:pt x="198" y="277"/>
                  <a:pt x="183" y="294"/>
                  <a:pt x="174" y="300"/>
                </a:cubicBezTo>
                <a:cubicBezTo>
                  <a:pt x="168" y="304"/>
                  <a:pt x="156" y="312"/>
                  <a:pt x="156" y="312"/>
                </a:cubicBezTo>
                <a:cubicBezTo>
                  <a:pt x="152" y="324"/>
                  <a:pt x="147" y="329"/>
                  <a:pt x="135" y="333"/>
                </a:cubicBezTo>
                <a:cubicBezTo>
                  <a:pt x="129" y="343"/>
                  <a:pt x="116" y="353"/>
                  <a:pt x="105" y="357"/>
                </a:cubicBezTo>
                <a:cubicBezTo>
                  <a:pt x="93" y="375"/>
                  <a:pt x="68" y="369"/>
                  <a:pt x="48" y="372"/>
                </a:cubicBezTo>
                <a:cubicBezTo>
                  <a:pt x="4" y="368"/>
                  <a:pt x="23" y="371"/>
                  <a:pt x="0" y="34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"/>
          <p:cNvSpPr/>
          <p:nvPr/>
        </p:nvSpPr>
        <p:spPr>
          <a:xfrm>
            <a:off x="5724360" y="3049560"/>
            <a:ext cx="31932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"/>
          <p:cNvSpPr/>
          <p:nvPr/>
        </p:nvSpPr>
        <p:spPr>
          <a:xfrm>
            <a:off x="6975360" y="3000240"/>
            <a:ext cx="79704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"/>
          <p:cNvSpPr/>
          <p:nvPr/>
        </p:nvSpPr>
        <p:spPr>
          <a:xfrm>
            <a:off x="7159680" y="3083040"/>
            <a:ext cx="449280" cy="488880"/>
          </a:xfrm>
          <a:custGeom>
            <a:avLst/>
            <a:gdLst/>
            <a:ahLst/>
            <a:rect l="l" t="t" r="r" b="b"/>
            <a:pathLst>
              <a:path w="290" h="316">
                <a:moveTo>
                  <a:pt x="40" y="278"/>
                </a:moveTo>
                <a:cubicBezTo>
                  <a:pt x="24" y="238"/>
                  <a:pt x="42" y="213"/>
                  <a:pt x="32" y="190"/>
                </a:cubicBezTo>
                <a:cubicBezTo>
                  <a:pt x="26" y="178"/>
                  <a:pt x="8" y="107"/>
                  <a:pt x="4" y="94"/>
                </a:cubicBezTo>
                <a:cubicBezTo>
                  <a:pt x="0" y="61"/>
                  <a:pt x="7" y="36"/>
                  <a:pt x="40" y="14"/>
                </a:cubicBezTo>
                <a:cubicBezTo>
                  <a:pt x="49" y="0"/>
                  <a:pt x="104" y="19"/>
                  <a:pt x="120" y="14"/>
                </a:cubicBezTo>
                <a:cubicBezTo>
                  <a:pt x="129" y="11"/>
                  <a:pt x="191" y="31"/>
                  <a:pt x="191" y="31"/>
                </a:cubicBezTo>
                <a:cubicBezTo>
                  <a:pt x="216" y="34"/>
                  <a:pt x="225" y="37"/>
                  <a:pt x="233" y="61"/>
                </a:cubicBezTo>
                <a:cubicBezTo>
                  <a:pt x="239" y="111"/>
                  <a:pt x="259" y="158"/>
                  <a:pt x="281" y="202"/>
                </a:cubicBezTo>
                <a:cubicBezTo>
                  <a:pt x="290" y="264"/>
                  <a:pt x="286" y="301"/>
                  <a:pt x="227" y="316"/>
                </a:cubicBezTo>
                <a:cubicBezTo>
                  <a:pt x="206" y="315"/>
                  <a:pt x="185" y="315"/>
                  <a:pt x="164" y="313"/>
                </a:cubicBezTo>
                <a:cubicBezTo>
                  <a:pt x="155" y="312"/>
                  <a:pt x="137" y="304"/>
                  <a:pt x="137" y="304"/>
                </a:cubicBezTo>
                <a:cubicBezTo>
                  <a:pt x="125" y="292"/>
                  <a:pt x="68" y="294"/>
                  <a:pt x="40" y="278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"/>
          <p:cNvSpPr/>
          <p:nvPr/>
        </p:nvSpPr>
        <p:spPr>
          <a:xfrm>
            <a:off x="7251840" y="3089160"/>
            <a:ext cx="371160" cy="492120"/>
          </a:xfrm>
          <a:custGeom>
            <a:avLst/>
            <a:gdLst/>
            <a:ahLst/>
            <a:rect l="l" t="t" r="r" b="b"/>
            <a:pathLst>
              <a:path w="234" h="310">
                <a:moveTo>
                  <a:pt x="0" y="280"/>
                </a:moveTo>
                <a:cubicBezTo>
                  <a:pt x="38" y="234"/>
                  <a:pt x="36" y="240"/>
                  <a:pt x="40" y="212"/>
                </a:cubicBezTo>
                <a:cubicBezTo>
                  <a:pt x="44" y="188"/>
                  <a:pt x="44" y="188"/>
                  <a:pt x="42" y="176"/>
                </a:cubicBezTo>
                <a:cubicBezTo>
                  <a:pt x="40" y="164"/>
                  <a:pt x="30" y="151"/>
                  <a:pt x="28" y="140"/>
                </a:cubicBezTo>
                <a:cubicBezTo>
                  <a:pt x="26" y="129"/>
                  <a:pt x="30" y="133"/>
                  <a:pt x="30" y="112"/>
                </a:cubicBezTo>
                <a:cubicBezTo>
                  <a:pt x="26" y="79"/>
                  <a:pt x="34" y="70"/>
                  <a:pt x="28" y="14"/>
                </a:cubicBezTo>
                <a:cubicBezTo>
                  <a:pt x="37" y="0"/>
                  <a:pt x="48" y="13"/>
                  <a:pt x="64" y="8"/>
                </a:cubicBezTo>
                <a:cubicBezTo>
                  <a:pt x="73" y="5"/>
                  <a:pt x="135" y="25"/>
                  <a:pt x="135" y="25"/>
                </a:cubicBezTo>
                <a:cubicBezTo>
                  <a:pt x="160" y="28"/>
                  <a:pt x="169" y="31"/>
                  <a:pt x="177" y="55"/>
                </a:cubicBezTo>
                <a:cubicBezTo>
                  <a:pt x="183" y="105"/>
                  <a:pt x="203" y="152"/>
                  <a:pt x="225" y="196"/>
                </a:cubicBezTo>
                <a:cubicBezTo>
                  <a:pt x="234" y="258"/>
                  <a:pt x="230" y="295"/>
                  <a:pt x="171" y="310"/>
                </a:cubicBezTo>
                <a:cubicBezTo>
                  <a:pt x="150" y="309"/>
                  <a:pt x="129" y="309"/>
                  <a:pt x="108" y="307"/>
                </a:cubicBezTo>
                <a:cubicBezTo>
                  <a:pt x="99" y="306"/>
                  <a:pt x="81" y="298"/>
                  <a:pt x="81" y="298"/>
                </a:cubicBezTo>
                <a:cubicBezTo>
                  <a:pt x="69" y="286"/>
                  <a:pt x="28" y="294"/>
                  <a:pt x="0" y="280"/>
                </a:cubicBezTo>
                <a:close/>
              </a:path>
            </a:pathLst>
          </a:custGeom>
          <a:solidFill>
            <a:srgbClr val="00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"/>
          <p:cNvSpPr/>
          <p:nvPr/>
        </p:nvSpPr>
        <p:spPr>
          <a:xfrm>
            <a:off x="7169760" y="31240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"/>
          <p:cNvSpPr/>
          <p:nvPr/>
        </p:nvSpPr>
        <p:spPr>
          <a:xfrm>
            <a:off x="5299200" y="3000240"/>
            <a:ext cx="79668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"/>
          <p:cNvSpPr/>
          <p:nvPr/>
        </p:nvSpPr>
        <p:spPr>
          <a:xfrm>
            <a:off x="6331680" y="144792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949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953" name=""/>
            <p:cNvCxnSpPr>
              <a:stCxn id="954" idx="2"/>
              <a:endCxn id="949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5" name=""/>
            <p:cNvCxnSpPr>
              <a:stCxn id="954" idx="2"/>
              <a:endCxn id="950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6" name=""/>
            <p:cNvCxnSpPr>
              <a:stCxn id="949" idx="2"/>
              <a:endCxn id="951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7" name=""/>
            <p:cNvCxnSpPr>
              <a:stCxn id="949" idx="2"/>
              <a:endCxn id="952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8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954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9" name=""/>
          <p:cNvSpPr/>
          <p:nvPr/>
        </p:nvSpPr>
        <p:spPr>
          <a:xfrm rot="10800000">
            <a:off x="380520" y="91404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514700"/>
              </a:gs>
              <a:gs pos="100000">
                <a:srgbClr val="ccb400"/>
              </a:gs>
            </a:gsLst>
            <a:lin ang="162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63" name="" descr=""/>
          <p:cNvPicPr/>
          <p:nvPr/>
        </p:nvPicPr>
        <p:blipFill>
          <a:blip r:embed="rId1"/>
          <a:srcRect l="0" t="0" r="15733" b="3232"/>
          <a:stretch/>
        </p:blipFill>
        <p:spPr>
          <a:xfrm>
            <a:off x="0" y="1190520"/>
            <a:ext cx="9144000" cy="5668920"/>
          </a:xfrm>
          <a:prstGeom prst="rect">
            <a:avLst/>
          </a:prstGeom>
          <a:ln w="0">
            <a:noFill/>
          </a:ln>
        </p:spPr>
      </p:pic>
      <p:sp>
        <p:nvSpPr>
          <p:cNvPr id="964" name="Espaço Reservado para Conteúdo 2"/>
          <p:cNvSpPr/>
          <p:nvPr/>
        </p:nvSpPr>
        <p:spPr>
          <a:xfrm>
            <a:off x="216000" y="782640"/>
            <a:ext cx="8928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252360" indent="-230760" algn="r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ization of interpretation out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67" name="" descr=""/>
          <p:cNvPicPr/>
          <p:nvPr/>
        </p:nvPicPr>
        <p:blipFill>
          <a:blip r:embed="rId1"/>
          <a:srcRect l="0" t="0" r="15556" b="3232"/>
          <a:stretch/>
        </p:blipFill>
        <p:spPr>
          <a:xfrm>
            <a:off x="3240" y="1201680"/>
            <a:ext cx="9140760" cy="5656320"/>
          </a:xfrm>
          <a:prstGeom prst="rect">
            <a:avLst/>
          </a:prstGeom>
          <a:ln w="0">
            <a:noFill/>
          </a:ln>
        </p:spPr>
      </p:pic>
      <p:sp>
        <p:nvSpPr>
          <p:cNvPr id="968" name="Espaço Reservado para Conteúdo 2"/>
          <p:cNvSpPr/>
          <p:nvPr/>
        </p:nvSpPr>
        <p:spPr>
          <a:xfrm>
            <a:off x="216000" y="78264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ization of partial results (Top-down processi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Characteristic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90160" y="1265400"/>
            <a:ext cx="832644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50920">
              <a:spcBef>
                <a:spcPts val="45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sed for the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utomated interpretation of complex sce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multisensor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50920">
              <a:spcBef>
                <a:spcPts val="45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Modular architectural desig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respect to the inclusion of specific operators for object extraction/image segmentation and decision opera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50920">
              <a:spcBef>
                <a:spcPts val="45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Multi-plat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Windows (v1.13) and LINUX (v0.9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50920">
              <a:spcBef>
                <a:spcPts val="45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Open Sou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++, Qt4 and TerraLib (INP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71" name="" descr=""/>
          <p:cNvPicPr/>
          <p:nvPr/>
        </p:nvPicPr>
        <p:blipFill>
          <a:blip r:embed="rId1"/>
          <a:srcRect l="0" t="0" r="15644" b="3232"/>
          <a:stretch/>
        </p:blipFill>
        <p:spPr>
          <a:xfrm>
            <a:off x="0" y="1195560"/>
            <a:ext cx="9144000" cy="5662440"/>
          </a:xfrm>
          <a:prstGeom prst="rect">
            <a:avLst/>
          </a:prstGeom>
          <a:ln w="0">
            <a:noFill/>
          </a:ln>
        </p:spPr>
      </p:pic>
      <p:sp>
        <p:nvSpPr>
          <p:cNvPr id="972" name="Espaço Reservado para Conteúdo 2"/>
          <p:cNvSpPr/>
          <p:nvPr/>
        </p:nvSpPr>
        <p:spPr>
          <a:xfrm>
            <a:off x="216000" y="78264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ization of partial results (Bottom-up processi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75" name="" descr=""/>
          <p:cNvPicPr/>
          <p:nvPr/>
        </p:nvPicPr>
        <p:blipFill>
          <a:blip r:embed="rId1"/>
          <a:srcRect l="0" t="0" r="7367" b="5249"/>
          <a:stretch/>
        </p:blipFill>
        <p:spPr>
          <a:xfrm>
            <a:off x="0" y="1596960"/>
            <a:ext cx="9144000" cy="5261040"/>
          </a:xfrm>
          <a:prstGeom prst="rect">
            <a:avLst/>
          </a:prstGeom>
          <a:ln w="0">
            <a:noFill/>
          </a:ln>
        </p:spPr>
      </p:pic>
      <p:sp>
        <p:nvSpPr>
          <p:cNvPr id="976" name="Espaço Reservado para Conteúdo 2"/>
          <p:cNvSpPr/>
          <p:nvPr/>
        </p:nvSpPr>
        <p:spPr>
          <a:xfrm>
            <a:off x="216000" y="84600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Manager: interactive design of decision r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 rule outcome’s insp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79" name="" descr=""/>
          <p:cNvPicPr/>
          <p:nvPr/>
        </p:nvPicPr>
        <p:blipFill>
          <a:blip r:embed="rId1"/>
          <a:srcRect l="0" t="0" r="7618" b="5249"/>
          <a:stretch/>
        </p:blipFill>
        <p:spPr>
          <a:xfrm>
            <a:off x="0" y="1581120"/>
            <a:ext cx="9144000" cy="5276880"/>
          </a:xfrm>
          <a:prstGeom prst="rect">
            <a:avLst/>
          </a:prstGeom>
          <a:ln w="0">
            <a:noFill/>
          </a:ln>
        </p:spPr>
      </p:pic>
      <p:sp>
        <p:nvSpPr>
          <p:cNvPr id="980" name="Espaço Reservado para Conteúdo 2"/>
          <p:cNvSpPr/>
          <p:nvPr/>
        </p:nvSpPr>
        <p:spPr>
          <a:xfrm>
            <a:off x="216000" y="84600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Manager: interactive design of decision r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 inspection (feature view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83" name="" descr=""/>
          <p:cNvPicPr/>
          <p:nvPr/>
        </p:nvPicPr>
        <p:blipFill>
          <a:blip r:embed="rId1"/>
          <a:srcRect l="0" t="0" r="7441" b="5249"/>
          <a:stretch/>
        </p:blipFill>
        <p:spPr>
          <a:xfrm>
            <a:off x="0" y="1592280"/>
            <a:ext cx="9144000" cy="5265720"/>
          </a:xfrm>
          <a:prstGeom prst="rect">
            <a:avLst/>
          </a:prstGeom>
          <a:ln w="0">
            <a:noFill/>
          </a:ln>
        </p:spPr>
      </p:pic>
      <p:sp>
        <p:nvSpPr>
          <p:cNvPr id="984" name="Espaço Reservado para Conteúdo 2"/>
          <p:cNvSpPr/>
          <p:nvPr/>
        </p:nvSpPr>
        <p:spPr>
          <a:xfrm>
            <a:off x="216000" y="84600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Manager: interactive design of decision r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 inspection (histogram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87" name="" descr=""/>
          <p:cNvPicPr/>
          <p:nvPr/>
        </p:nvPicPr>
        <p:blipFill>
          <a:blip r:embed="rId1"/>
          <a:srcRect l="0" t="0" r="7441" b="5249"/>
          <a:stretch/>
        </p:blipFill>
        <p:spPr>
          <a:xfrm>
            <a:off x="0" y="1592280"/>
            <a:ext cx="9144000" cy="5265720"/>
          </a:xfrm>
          <a:prstGeom prst="rect">
            <a:avLst/>
          </a:prstGeom>
          <a:ln w="0">
            <a:noFill/>
          </a:ln>
        </p:spPr>
      </p:pic>
      <p:sp>
        <p:nvSpPr>
          <p:cNvPr id="988" name="Espaço Reservado para Conteúdo 2"/>
          <p:cNvSpPr/>
          <p:nvPr/>
        </p:nvSpPr>
        <p:spPr>
          <a:xfrm>
            <a:off x="216000" y="84600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Manager: interactive design of decision r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 inspection (scatter plo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91" name="" descr=""/>
          <p:cNvPicPr/>
          <p:nvPr/>
        </p:nvPicPr>
        <p:blipFill>
          <a:blip r:embed="rId1"/>
          <a:stretch/>
        </p:blipFill>
        <p:spPr>
          <a:xfrm>
            <a:off x="1541520" y="1671480"/>
            <a:ext cx="6207120" cy="4646880"/>
          </a:xfrm>
          <a:prstGeom prst="rect">
            <a:avLst/>
          </a:prstGeom>
          <a:ln w="0">
            <a:noFill/>
          </a:ln>
        </p:spPr>
      </p:pic>
      <p:sp>
        <p:nvSpPr>
          <p:cNvPr id="992" name="Espaço Reservado para Conteúdo 2"/>
          <p:cNvSpPr/>
          <p:nvPr/>
        </p:nvSpPr>
        <p:spPr>
          <a:xfrm>
            <a:off x="216000" y="84600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pe Editor: definition of Regions Of Inter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pefiles or binary raster fil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1"/>
          <a:stretch/>
        </p:blipFill>
        <p:spPr>
          <a:xfrm>
            <a:off x="457200" y="1650960"/>
            <a:ext cx="8265960" cy="5207040"/>
          </a:xfrm>
          <a:prstGeom prst="rect">
            <a:avLst/>
          </a:prstGeom>
          <a:ln w="0">
            <a:noFill/>
          </a:ln>
        </p:spPr>
      </p:pic>
      <p:sp>
        <p:nvSpPr>
          <p:cNvPr id="996" name="Espaço Reservado para Conteúdo 2"/>
          <p:cNvSpPr/>
          <p:nvPr/>
        </p:nvSpPr>
        <p:spPr>
          <a:xfrm>
            <a:off x="216000" y="84600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editor: definition of samples f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vised classification operato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Final Remark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290520" y="1278000"/>
            <a:ext cx="829800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marL="79560" indent="-72720">
              <a:spcAft>
                <a:spcPts val="4501"/>
              </a:spcAft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pplications already develop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asically in INP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560" indent="-72720">
              <a:spcAft>
                <a:spcPts val="4501"/>
              </a:spcAft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working on support for large imag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 few bugs are expecte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560" indent="-72720">
              <a:spcAft>
                <a:spcPts val="4501"/>
              </a:spcAft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phase of the focuses on the development of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functionality to deal with Radar 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560" indent="-72720">
              <a:spcAft>
                <a:spcPts val="4501"/>
              </a:spcAft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New partners are welco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560" indent="-72720">
              <a:spcAft>
                <a:spcPts val="2999"/>
              </a:spcAft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Documentation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290520" y="1278000"/>
            <a:ext cx="829800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1000"/>
          </a:bodyPr>
          <a:p>
            <a:pPr marL="84960" indent="-77760">
              <a:spcAft>
                <a:spcPts val="4501"/>
              </a:spcAft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’s site: </a:t>
            </a:r>
            <a:br>
              <a:rPr sz="2400"/>
            </a:br>
            <a:r>
              <a:rPr b="0" lang="en-US" sz="2400" spc="-1" strike="noStrike" u="sng">
                <a:solidFill>
                  <a:srgbClr val="00a3d6"/>
                </a:solidFill>
                <a:uFillTx/>
                <a:latin typeface="Arial"/>
                <a:hlinkClick r:id="rId1"/>
              </a:rPr>
              <a:t>http://www.lvc.ele.puc-rio.br/projects/interimage</a:t>
            </a:r>
            <a:r>
              <a:rPr b="0" lang="en-US" sz="2400" spc="-1" strike="noStrike" u="sng">
                <a:solidFill>
                  <a:srgbClr val="00a3d6"/>
                </a:solidFill>
                <a:uFillTx/>
                <a:latin typeface="Arial"/>
                <a:hlinkClick r:id="rId2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60" indent="-77760">
              <a:spcAft>
                <a:spcPts val="4501"/>
              </a:spcAft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ki: </a:t>
            </a:r>
            <a:br>
              <a:rPr sz="2400"/>
            </a:br>
            <a:r>
              <a:rPr b="0" lang="en-US" sz="2400" spc="-1" strike="noStrike" u="sng">
                <a:solidFill>
                  <a:srgbClr val="00a3d6"/>
                </a:solidFill>
                <a:uFillTx/>
                <a:latin typeface="Arial"/>
                <a:hlinkClick r:id="rId3"/>
              </a:rPr>
              <a:t>http://wiki.dpi.inpe.br/doku.php?id=inter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60" indent="-77760">
              <a:spcAft>
                <a:spcPts val="4501"/>
              </a:spcAft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217080" y="1074240"/>
            <a:ext cx="8945640" cy="10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50920">
              <a:spcBef>
                <a:spcPts val="8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lassification of geomorphological units in the </a:t>
            </a:r>
            <a:r>
              <a:rPr b="1" lang="pt-BR" sz="2200" spc="-1" strike="noStrike">
                <a:solidFill>
                  <a:srgbClr val="990000"/>
                </a:solidFill>
                <a:latin typeface="Arial"/>
              </a:rPr>
              <a:t>São José dos Campo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Municip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" descr=""/>
          <p:cNvPicPr/>
          <p:nvPr/>
        </p:nvPicPr>
        <p:blipFill>
          <a:blip r:embed="rId1"/>
          <a:stretch/>
        </p:blipFill>
        <p:spPr>
          <a:xfrm>
            <a:off x="1523880" y="2382840"/>
            <a:ext cx="6215040" cy="334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Characteristic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90520" y="1265400"/>
            <a:ext cx="83628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50920">
              <a:spcBef>
                <a:spcPts val="3300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Based on GeoAI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eveloped at TNT Institute from Leibniz Universität Hann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-250920">
              <a:spcBef>
                <a:spcPts val="1199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the same interpretation strate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-250920">
              <a:spcBef>
                <a:spcPts val="1199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s (praticaly) the same c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50920">
              <a:spcBef>
                <a:spcPts val="3300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’s ne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-250920">
              <a:spcBef>
                <a:spcPts val="1199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effort is to provide interactivity support to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reate and adjust a knowledge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-250920">
              <a:spcBef>
                <a:spcPts val="1199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goal is to make the system it available to a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rger user commun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50920">
              <a:spcBef>
                <a:spcPts val="1199"/>
              </a:spcBef>
              <a:buClr>
                <a:srgbClr val="3366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217080" y="1074240"/>
            <a:ext cx="8945640" cy="10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7000"/>
          </a:bodyPr>
          <a:p>
            <a:pPr marL="74160" indent="-67680">
              <a:spcBef>
                <a:spcPts val="8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ification of geomorphological units in the </a:t>
            </a:r>
            <a:r>
              <a:rPr b="1" lang="en-US" sz="2200" spc="-1" strike="noStrike">
                <a:solidFill>
                  <a:srgbClr val="990000"/>
                </a:solidFill>
                <a:latin typeface="Arial"/>
              </a:rPr>
              <a:t>São José dos Campo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unicip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160" indent="-67680"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ification of the area into: </a:t>
            </a:r>
            <a:r>
              <a:rPr b="1" lang="en-US" sz="2200" spc="-1" strike="noStrike">
                <a:solidFill>
                  <a:srgbClr val="990000"/>
                </a:solidFill>
                <a:latin typeface="Arial"/>
              </a:rPr>
              <a:t>Mountains; Sedimentary Hills; Aluvial Plains; and Lakes and Reservoi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160" indent="-67680">
              <a:spcBef>
                <a:spcPts val="3574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00"/>
                </a:solidFill>
                <a:latin typeface="Arial"/>
              </a:rPr>
              <a:t>Input dat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03400" indent="-67680"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gital Elevation Model generated (externally) from a ASTER/Terra stereoscopic pai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03400" indent="-67680"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ural and Geomorphometric variables extracted from the DEM (entropy and elev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03400" indent="-67680"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vector drainage ma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160" indent="-67680">
              <a:spcBef>
                <a:spcPts val="2100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198000" y="1074240"/>
            <a:ext cx="8379000" cy="10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50920"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Knowledge Mode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8" name=""/>
          <p:cNvGraphicFramePr/>
          <p:nvPr/>
        </p:nvGraphicFramePr>
        <p:xfrm>
          <a:off x="639720" y="2021040"/>
          <a:ext cx="8039160" cy="3119400"/>
        </p:xfrm>
        <a:graphic>
          <a:graphicData uri="http://schemas.openxmlformats.org/drawingml/2006/table">
            <a:tbl>
              <a:tblPr/>
              <a:tblGrid>
                <a:gridCol w="3524400"/>
                <a:gridCol w="4514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240" indent="1584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morphological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is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nta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drainage dens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height between 572 and 2100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slope between 4,9º and 34,9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dimentary H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height between 560 and 688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entropy between 1,2 and 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slope between 2,5º and 12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uvial Pla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entropy between -0,01 and 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slope between 1,4º and 10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10" name=""/>
          <p:cNvSpPr txBox="1"/>
          <p:nvPr/>
        </p:nvSpPr>
        <p:spPr>
          <a:xfrm>
            <a:off x="198000" y="1074240"/>
            <a:ext cx="8945640" cy="10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50920"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Knowledge model in InterIMAG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1"/>
          <a:stretch/>
        </p:blipFill>
        <p:spPr>
          <a:xfrm>
            <a:off x="289080" y="1874880"/>
            <a:ext cx="2311200" cy="2158920"/>
          </a:xfrm>
          <a:prstGeom prst="rect">
            <a:avLst/>
          </a:prstGeom>
          <a:ln w="0">
            <a:noFill/>
          </a:ln>
        </p:spPr>
      </p:pic>
      <p:sp>
        <p:nvSpPr>
          <p:cNvPr id="1012" name="Espaço Reservado para Conteúdo 2"/>
          <p:cNvSpPr/>
          <p:nvPr/>
        </p:nvSpPr>
        <p:spPr>
          <a:xfrm>
            <a:off x="2674800" y="1747800"/>
            <a:ext cx="6469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marL="96120" indent="-87480"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p-dow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96120" indent="-87480">
              <a:lnSpc>
                <a:spcPct val="100000"/>
              </a:lnSpc>
              <a:spcBef>
                <a:spcPts val="67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Reg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operator that imports shapefile of the limits of the Municipa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6120" indent="-87480">
              <a:lnSpc>
                <a:spcPct val="100000"/>
              </a:lnSpc>
              <a:spcBef>
                <a:spcPts val="67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SedimentaryHil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Mountai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AlluvialPlai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operator that performs a segmentation (Baatz and Shäpe algorithm) of the DEM (geographically coincident hypotheses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6120" indent="-87480">
              <a:lnSpc>
                <a:spcPct val="100000"/>
              </a:lnSpc>
              <a:spcBef>
                <a:spcPts val="67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rvoirs: operator that imports a shapefile of the region’s hydrograph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6120" indent="-874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6120" indent="-874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ttom-up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96120" indent="-87480">
              <a:lnSpc>
                <a:spcPct val="100000"/>
              </a:lnSpc>
              <a:spcBef>
                <a:spcPts val="67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Reg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decision rule that decides among the concurrent hypotheses associated to the leaf no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14" name="Espaço Reservado para Conteúdo 2"/>
          <p:cNvSpPr/>
          <p:nvPr/>
        </p:nvSpPr>
        <p:spPr>
          <a:xfrm>
            <a:off x="198360" y="985680"/>
            <a:ext cx="89456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ottom-up decision rule defined for the </a:t>
            </a:r>
            <a:r>
              <a:rPr b="1" lang="pt-BR" sz="2200" spc="-1" strike="noStrike">
                <a:solidFill>
                  <a:srgbClr val="990000"/>
                </a:solidFill>
                <a:latin typeface="Arial"/>
              </a:rPr>
              <a:t>Region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nod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5" name="" descr=""/>
          <p:cNvPicPr/>
          <p:nvPr/>
        </p:nvPicPr>
        <p:blipFill>
          <a:blip r:embed="rId1"/>
          <a:stretch/>
        </p:blipFill>
        <p:spPr>
          <a:xfrm>
            <a:off x="379440" y="1573200"/>
            <a:ext cx="2479680" cy="1771560"/>
          </a:xfrm>
          <a:prstGeom prst="rect">
            <a:avLst/>
          </a:prstGeom>
          <a:ln w="0">
            <a:noFill/>
          </a:ln>
        </p:spPr>
      </p:pic>
      <p:pic>
        <p:nvPicPr>
          <p:cNvPr id="1016" name="" descr=""/>
          <p:cNvPicPr/>
          <p:nvPr/>
        </p:nvPicPr>
        <p:blipFill>
          <a:blip r:embed="rId2"/>
          <a:stretch/>
        </p:blipFill>
        <p:spPr>
          <a:xfrm>
            <a:off x="571680" y="3914640"/>
            <a:ext cx="2381040" cy="1609920"/>
          </a:xfrm>
          <a:prstGeom prst="rect">
            <a:avLst/>
          </a:prstGeom>
          <a:ln w="0">
            <a:noFill/>
          </a:ln>
        </p:spPr>
      </p:pic>
      <p:pic>
        <p:nvPicPr>
          <p:cNvPr id="1017" name="" descr=""/>
          <p:cNvPicPr/>
          <p:nvPr/>
        </p:nvPicPr>
        <p:blipFill>
          <a:blip r:embed="rId3"/>
          <a:stretch/>
        </p:blipFill>
        <p:spPr>
          <a:xfrm>
            <a:off x="3330720" y="3914640"/>
            <a:ext cx="2381040" cy="1609920"/>
          </a:xfrm>
          <a:prstGeom prst="rect">
            <a:avLst/>
          </a:prstGeom>
          <a:ln w="0">
            <a:noFill/>
          </a:ln>
        </p:spPr>
      </p:pic>
      <p:sp>
        <p:nvSpPr>
          <p:cNvPr id="1018" name=""/>
          <p:cNvSpPr/>
          <p:nvPr/>
        </p:nvSpPr>
        <p:spPr>
          <a:xfrm>
            <a:off x="1227960" y="363996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fuzzy_set_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"/>
          <p:cNvSpPr/>
          <p:nvPr/>
        </p:nvSpPr>
        <p:spPr>
          <a:xfrm>
            <a:off x="3933000" y="363996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fuzzy_set_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"/>
          <p:cNvSpPr/>
          <p:nvPr/>
        </p:nvSpPr>
        <p:spPr>
          <a:xfrm>
            <a:off x="1434960" y="5346720"/>
            <a:ext cx="648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"/>
          <p:cNvSpPr/>
          <p:nvPr/>
        </p:nvSpPr>
        <p:spPr>
          <a:xfrm>
            <a:off x="4127400" y="5359320"/>
            <a:ext cx="7621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"/>
          <p:cNvSpPr/>
          <p:nvPr/>
        </p:nvSpPr>
        <p:spPr>
          <a:xfrm>
            <a:off x="1356120" y="5291280"/>
            <a:ext cx="8438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ele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"/>
          <p:cNvSpPr/>
          <p:nvPr/>
        </p:nvSpPr>
        <p:spPr>
          <a:xfrm>
            <a:off x="4239720" y="5291280"/>
            <a:ext cx="5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025" name="" descr=""/>
          <p:cNvPicPr/>
          <p:nvPr/>
        </p:nvPicPr>
        <p:blipFill>
          <a:blip r:embed="rId1"/>
          <a:stretch/>
        </p:blipFill>
        <p:spPr>
          <a:xfrm>
            <a:off x="379440" y="1573200"/>
            <a:ext cx="2479680" cy="1771560"/>
          </a:xfrm>
          <a:prstGeom prst="rect">
            <a:avLst/>
          </a:prstGeom>
          <a:ln w="0">
            <a:noFill/>
          </a:ln>
        </p:spPr>
      </p:pic>
      <p:pic>
        <p:nvPicPr>
          <p:cNvPr id="1026" name="" descr=""/>
          <p:cNvPicPr/>
          <p:nvPr/>
        </p:nvPicPr>
        <p:blipFill>
          <a:blip r:embed="rId2"/>
          <a:stretch/>
        </p:blipFill>
        <p:spPr>
          <a:xfrm>
            <a:off x="3232080" y="1582560"/>
            <a:ext cx="2422440" cy="1793880"/>
          </a:xfrm>
          <a:prstGeom prst="rect">
            <a:avLst/>
          </a:prstGeom>
          <a:ln w="0">
            <a:noFill/>
          </a:ln>
        </p:spPr>
      </p:pic>
      <p:pic>
        <p:nvPicPr>
          <p:cNvPr id="1027" name="" descr=""/>
          <p:cNvPicPr/>
          <p:nvPr/>
        </p:nvPicPr>
        <p:blipFill>
          <a:blip r:embed="rId3"/>
          <a:stretch/>
        </p:blipFill>
        <p:spPr>
          <a:xfrm>
            <a:off x="571680" y="3914640"/>
            <a:ext cx="2381040" cy="1609920"/>
          </a:xfrm>
          <a:prstGeom prst="rect">
            <a:avLst/>
          </a:prstGeom>
          <a:ln w="0">
            <a:noFill/>
          </a:ln>
        </p:spPr>
      </p:pic>
      <p:pic>
        <p:nvPicPr>
          <p:cNvPr id="1028" name="" descr=""/>
          <p:cNvPicPr/>
          <p:nvPr/>
        </p:nvPicPr>
        <p:blipFill>
          <a:blip r:embed="rId4"/>
          <a:stretch/>
        </p:blipFill>
        <p:spPr>
          <a:xfrm>
            <a:off x="3330720" y="3914640"/>
            <a:ext cx="2381040" cy="1609920"/>
          </a:xfrm>
          <a:prstGeom prst="rect">
            <a:avLst/>
          </a:prstGeom>
          <a:ln w="0">
            <a:noFill/>
          </a:ln>
        </p:spPr>
      </p:pic>
      <p:pic>
        <p:nvPicPr>
          <p:cNvPr id="1029" name="" descr=""/>
          <p:cNvPicPr/>
          <p:nvPr/>
        </p:nvPicPr>
        <p:blipFill>
          <a:blip r:embed="rId5"/>
          <a:stretch/>
        </p:blipFill>
        <p:spPr>
          <a:xfrm>
            <a:off x="6083280" y="3914640"/>
            <a:ext cx="2381400" cy="1609920"/>
          </a:xfrm>
          <a:prstGeom prst="rect">
            <a:avLst/>
          </a:prstGeom>
          <a:ln w="0">
            <a:noFill/>
          </a:ln>
        </p:spPr>
      </p:pic>
      <p:sp>
        <p:nvSpPr>
          <p:cNvPr id="1030" name=""/>
          <p:cNvSpPr/>
          <p:nvPr/>
        </p:nvSpPr>
        <p:spPr>
          <a:xfrm>
            <a:off x="287280" y="1608120"/>
            <a:ext cx="2859120" cy="1862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Espaço Reservado para Conteúdo 2"/>
          <p:cNvSpPr/>
          <p:nvPr/>
        </p:nvSpPr>
        <p:spPr>
          <a:xfrm>
            <a:off x="198360" y="985680"/>
            <a:ext cx="89456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ottom-up decision rule defined for the </a:t>
            </a:r>
            <a:r>
              <a:rPr b="1" lang="pt-BR" sz="2200" spc="-1" strike="noStrike">
                <a:solidFill>
                  <a:srgbClr val="990000"/>
                </a:solidFill>
                <a:latin typeface="Arial"/>
              </a:rPr>
              <a:t>Region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nod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"/>
          <p:cNvSpPr/>
          <p:nvPr/>
        </p:nvSpPr>
        <p:spPr>
          <a:xfrm>
            <a:off x="1434960" y="5346720"/>
            <a:ext cx="648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"/>
          <p:cNvSpPr/>
          <p:nvPr/>
        </p:nvSpPr>
        <p:spPr>
          <a:xfrm>
            <a:off x="4127400" y="5359320"/>
            <a:ext cx="7876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"/>
          <p:cNvSpPr/>
          <p:nvPr/>
        </p:nvSpPr>
        <p:spPr>
          <a:xfrm>
            <a:off x="6934320" y="5359320"/>
            <a:ext cx="647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"/>
          <p:cNvSpPr/>
          <p:nvPr/>
        </p:nvSpPr>
        <p:spPr>
          <a:xfrm>
            <a:off x="6932520" y="529128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entro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"/>
          <p:cNvSpPr/>
          <p:nvPr/>
        </p:nvSpPr>
        <p:spPr>
          <a:xfrm>
            <a:off x="1434960" y="5346720"/>
            <a:ext cx="648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"/>
          <p:cNvSpPr/>
          <p:nvPr/>
        </p:nvSpPr>
        <p:spPr>
          <a:xfrm>
            <a:off x="4127400" y="5359320"/>
            <a:ext cx="7621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"/>
          <p:cNvSpPr/>
          <p:nvPr/>
        </p:nvSpPr>
        <p:spPr>
          <a:xfrm>
            <a:off x="1356120" y="5291280"/>
            <a:ext cx="8438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ele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"/>
          <p:cNvSpPr/>
          <p:nvPr/>
        </p:nvSpPr>
        <p:spPr>
          <a:xfrm>
            <a:off x="4239720" y="5291280"/>
            <a:ext cx="5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"/>
          <p:cNvSpPr/>
          <p:nvPr/>
        </p:nvSpPr>
        <p:spPr>
          <a:xfrm>
            <a:off x="1227960" y="363996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fuzzy_set_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"/>
          <p:cNvSpPr/>
          <p:nvPr/>
        </p:nvSpPr>
        <p:spPr>
          <a:xfrm>
            <a:off x="3933000" y="363996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fuzzy_set_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"/>
          <p:cNvSpPr/>
          <p:nvPr/>
        </p:nvSpPr>
        <p:spPr>
          <a:xfrm>
            <a:off x="6726960" y="363996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fuzzy_set_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044" name="" descr=""/>
          <p:cNvPicPr/>
          <p:nvPr/>
        </p:nvPicPr>
        <p:blipFill>
          <a:blip r:embed="rId1"/>
          <a:stretch/>
        </p:blipFill>
        <p:spPr>
          <a:xfrm>
            <a:off x="379440" y="1573200"/>
            <a:ext cx="2479680" cy="1771560"/>
          </a:xfrm>
          <a:prstGeom prst="rect">
            <a:avLst/>
          </a:prstGeom>
          <a:ln w="0">
            <a:noFill/>
          </a:ln>
        </p:spPr>
      </p:pic>
      <p:pic>
        <p:nvPicPr>
          <p:cNvPr id="1045" name="" descr=""/>
          <p:cNvPicPr/>
          <p:nvPr/>
        </p:nvPicPr>
        <p:blipFill>
          <a:blip r:embed="rId2"/>
          <a:stretch/>
        </p:blipFill>
        <p:spPr>
          <a:xfrm>
            <a:off x="3232080" y="1582560"/>
            <a:ext cx="2422440" cy="1793880"/>
          </a:xfrm>
          <a:prstGeom prst="rect">
            <a:avLst/>
          </a:prstGeom>
          <a:ln w="0">
            <a:noFill/>
          </a:ln>
        </p:spPr>
      </p:pic>
      <p:pic>
        <p:nvPicPr>
          <p:cNvPr id="1046" name="" descr=""/>
          <p:cNvPicPr/>
          <p:nvPr/>
        </p:nvPicPr>
        <p:blipFill>
          <a:blip r:embed="rId3"/>
          <a:stretch/>
        </p:blipFill>
        <p:spPr>
          <a:xfrm>
            <a:off x="6357960" y="1519200"/>
            <a:ext cx="2389320" cy="1701720"/>
          </a:xfrm>
          <a:prstGeom prst="rect">
            <a:avLst/>
          </a:prstGeom>
          <a:ln w="0">
            <a:noFill/>
          </a:ln>
        </p:spPr>
      </p:pic>
      <p:pic>
        <p:nvPicPr>
          <p:cNvPr id="1047" name="" descr=""/>
          <p:cNvPicPr/>
          <p:nvPr/>
        </p:nvPicPr>
        <p:blipFill>
          <a:blip r:embed="rId4"/>
          <a:stretch/>
        </p:blipFill>
        <p:spPr>
          <a:xfrm>
            <a:off x="6083280" y="3914640"/>
            <a:ext cx="2381400" cy="1609920"/>
          </a:xfrm>
          <a:prstGeom prst="rect">
            <a:avLst/>
          </a:prstGeom>
          <a:ln w="0">
            <a:noFill/>
          </a:ln>
        </p:spPr>
      </p:pic>
      <p:pic>
        <p:nvPicPr>
          <p:cNvPr id="1048" name="" descr=""/>
          <p:cNvPicPr/>
          <p:nvPr/>
        </p:nvPicPr>
        <p:blipFill>
          <a:blip r:embed="rId5"/>
          <a:stretch/>
        </p:blipFill>
        <p:spPr>
          <a:xfrm>
            <a:off x="3332160" y="3914640"/>
            <a:ext cx="2381400" cy="1609920"/>
          </a:xfrm>
          <a:prstGeom prst="rect">
            <a:avLst/>
          </a:prstGeom>
          <a:ln w="0">
            <a:noFill/>
          </a:ln>
        </p:spPr>
      </p:pic>
      <p:sp>
        <p:nvSpPr>
          <p:cNvPr id="1049" name=""/>
          <p:cNvSpPr/>
          <p:nvPr/>
        </p:nvSpPr>
        <p:spPr>
          <a:xfrm>
            <a:off x="287280" y="1608120"/>
            <a:ext cx="5577120" cy="1862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Espaço Reservado para Conteúdo 2"/>
          <p:cNvSpPr/>
          <p:nvPr/>
        </p:nvSpPr>
        <p:spPr>
          <a:xfrm>
            <a:off x="198360" y="985680"/>
            <a:ext cx="89456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ottom-up decision rule defined for the </a:t>
            </a:r>
            <a:r>
              <a:rPr b="1" lang="pt-BR" sz="2200" spc="-1" strike="noStrike">
                <a:solidFill>
                  <a:srgbClr val="990000"/>
                </a:solidFill>
                <a:latin typeface="Arial"/>
              </a:rPr>
              <a:t>Region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nod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"/>
          <p:cNvSpPr/>
          <p:nvPr/>
        </p:nvSpPr>
        <p:spPr>
          <a:xfrm>
            <a:off x="4127400" y="5359320"/>
            <a:ext cx="7876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"/>
          <p:cNvSpPr/>
          <p:nvPr/>
        </p:nvSpPr>
        <p:spPr>
          <a:xfrm>
            <a:off x="6934320" y="5359320"/>
            <a:ext cx="647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"/>
          <p:cNvSpPr/>
          <p:nvPr/>
        </p:nvSpPr>
        <p:spPr>
          <a:xfrm>
            <a:off x="6932520" y="529128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entro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"/>
          <p:cNvSpPr/>
          <p:nvPr/>
        </p:nvSpPr>
        <p:spPr>
          <a:xfrm>
            <a:off x="4127400" y="5359320"/>
            <a:ext cx="7621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"/>
          <p:cNvSpPr/>
          <p:nvPr/>
        </p:nvSpPr>
        <p:spPr>
          <a:xfrm>
            <a:off x="4239720" y="5291280"/>
            <a:ext cx="5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"/>
          <p:cNvSpPr/>
          <p:nvPr/>
        </p:nvSpPr>
        <p:spPr>
          <a:xfrm>
            <a:off x="3933000" y="363996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fuzzy_set_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"/>
          <p:cNvSpPr/>
          <p:nvPr/>
        </p:nvSpPr>
        <p:spPr>
          <a:xfrm>
            <a:off x="6726960" y="363996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fuzzy_set_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059" name="" descr=""/>
          <p:cNvPicPr/>
          <p:nvPr/>
        </p:nvPicPr>
        <p:blipFill>
          <a:blip r:embed="rId1"/>
          <a:stretch/>
        </p:blipFill>
        <p:spPr>
          <a:xfrm>
            <a:off x="1585800" y="1608120"/>
            <a:ext cx="5042160" cy="4905360"/>
          </a:xfrm>
          <a:prstGeom prst="rect">
            <a:avLst/>
          </a:prstGeom>
          <a:ln w="0">
            <a:noFill/>
          </a:ln>
        </p:spPr>
      </p:pic>
      <p:sp>
        <p:nvSpPr>
          <p:cNvPr id="1060" name="Espaço Reservado para Conteúdo 2"/>
          <p:cNvSpPr/>
          <p:nvPr/>
        </p:nvSpPr>
        <p:spPr>
          <a:xfrm>
            <a:off x="198360" y="985680"/>
            <a:ext cx="89456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ottom-up decision rule defined for the </a:t>
            </a:r>
            <a:r>
              <a:rPr b="1" lang="pt-BR" sz="2200" spc="-1" strike="noStrike">
                <a:solidFill>
                  <a:srgbClr val="990000"/>
                </a:solidFill>
                <a:latin typeface="Arial"/>
              </a:rPr>
              <a:t>Region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nod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1679040" y="898560"/>
            <a:ext cx="2349720" cy="42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50920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ference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3" name="" descr=""/>
          <p:cNvPicPr/>
          <p:nvPr/>
        </p:nvPicPr>
        <p:blipFill>
          <a:blip r:embed="rId1"/>
          <a:srcRect l="38828" t="0" r="0" b="0"/>
          <a:stretch/>
        </p:blipFill>
        <p:spPr>
          <a:xfrm>
            <a:off x="806400" y="1405080"/>
            <a:ext cx="3659400" cy="4111560"/>
          </a:xfrm>
          <a:prstGeom prst="rect">
            <a:avLst/>
          </a:prstGeom>
          <a:ln w="0">
            <a:noFill/>
          </a:ln>
        </p:spPr>
      </p:pic>
      <p:pic>
        <p:nvPicPr>
          <p:cNvPr id="1064" name="" descr=""/>
          <p:cNvPicPr/>
          <p:nvPr/>
        </p:nvPicPr>
        <p:blipFill>
          <a:blip r:embed="rId2"/>
          <a:srcRect l="36229" t="0" r="0" b="0"/>
          <a:stretch/>
        </p:blipFill>
        <p:spPr>
          <a:xfrm>
            <a:off x="4808520" y="1419120"/>
            <a:ext cx="3813120" cy="4110120"/>
          </a:xfrm>
          <a:prstGeom prst="rect">
            <a:avLst/>
          </a:prstGeom>
          <a:ln w="0">
            <a:noFill/>
          </a:ln>
        </p:spPr>
      </p:pic>
      <p:sp>
        <p:nvSpPr>
          <p:cNvPr id="1065" name="Espaço Reservado para Conteúdo 2"/>
          <p:cNvSpPr/>
          <p:nvPr/>
        </p:nvSpPr>
        <p:spPr>
          <a:xfrm>
            <a:off x="5452920" y="898560"/>
            <a:ext cx="278136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utomatic Interpre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"/>
          <p:cNvSpPr/>
          <p:nvPr/>
        </p:nvSpPr>
        <p:spPr>
          <a:xfrm>
            <a:off x="1295280" y="5759280"/>
            <a:ext cx="228600" cy="1270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Espaço Reservado para Conteúdo 2"/>
          <p:cNvSpPr/>
          <p:nvPr/>
        </p:nvSpPr>
        <p:spPr>
          <a:xfrm>
            <a:off x="1533600" y="5697360"/>
            <a:ext cx="18097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Espaço Reservado para Conteúdo 2"/>
          <p:cNvSpPr/>
          <p:nvPr/>
        </p:nvSpPr>
        <p:spPr>
          <a:xfrm>
            <a:off x="3249720" y="5697360"/>
            <a:ext cx="15397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edimentary H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Espaço Reservado para Conteúdo 2"/>
          <p:cNvSpPr/>
          <p:nvPr/>
        </p:nvSpPr>
        <p:spPr>
          <a:xfrm>
            <a:off x="5383080" y="5695920"/>
            <a:ext cx="12337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lluvial Pl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Espaço Reservado para Conteúdo 2"/>
          <p:cNvSpPr/>
          <p:nvPr/>
        </p:nvSpPr>
        <p:spPr>
          <a:xfrm>
            <a:off x="7209000" y="5695920"/>
            <a:ext cx="10126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servo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"/>
          <p:cNvSpPr/>
          <p:nvPr/>
        </p:nvSpPr>
        <p:spPr>
          <a:xfrm>
            <a:off x="3022560" y="5759280"/>
            <a:ext cx="228600" cy="1270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"/>
          <p:cNvSpPr/>
          <p:nvPr/>
        </p:nvSpPr>
        <p:spPr>
          <a:xfrm>
            <a:off x="5153040" y="5759280"/>
            <a:ext cx="228600" cy="127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"/>
          <p:cNvSpPr/>
          <p:nvPr/>
        </p:nvSpPr>
        <p:spPr>
          <a:xfrm>
            <a:off x="6962760" y="5759280"/>
            <a:ext cx="228600" cy="127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Espaço Reservado para Conteúdo 2"/>
          <p:cNvSpPr/>
          <p:nvPr/>
        </p:nvSpPr>
        <p:spPr>
          <a:xfrm>
            <a:off x="2300400" y="6153120"/>
            <a:ext cx="234936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Global Accuracy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0,953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Espaço Reservado para Conteúdo 2"/>
          <p:cNvSpPr/>
          <p:nvPr/>
        </p:nvSpPr>
        <p:spPr>
          <a:xfrm>
            <a:off x="4700520" y="6153120"/>
            <a:ext cx="23497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Kappa Index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0,880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228240" y="3695400"/>
            <a:ext cx="85582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ddddd"/>
                </a:solidFill>
                <a:latin typeface="Arial Black"/>
              </a:rPr>
              <a:t>InterIMAGE Workshop – INPE January 201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ubTitle"/>
          </p:nvPr>
        </p:nvSpPr>
        <p:spPr>
          <a:xfrm>
            <a:off x="228600" y="4743360"/>
            <a:ext cx="6934320" cy="13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ilson A. O. P. Co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gilson@ele.puc-rio.b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8" name="" descr=""/>
          <p:cNvPicPr/>
          <p:nvPr/>
        </p:nvPicPr>
        <p:blipFill>
          <a:blip r:embed="rId1"/>
          <a:stretch/>
        </p:blipFill>
        <p:spPr>
          <a:xfrm>
            <a:off x="297000" y="5918040"/>
            <a:ext cx="860400" cy="729000"/>
          </a:xfrm>
          <a:prstGeom prst="rect">
            <a:avLst/>
          </a:prstGeom>
          <a:ln w="0">
            <a:noFill/>
          </a:ln>
        </p:spPr>
      </p:pic>
      <p:pic>
        <p:nvPicPr>
          <p:cNvPr id="1079" name="" descr=""/>
          <p:cNvPicPr/>
          <p:nvPr/>
        </p:nvPicPr>
        <p:blipFill>
          <a:blip r:embed="rId2"/>
          <a:stretch/>
        </p:blipFill>
        <p:spPr>
          <a:xfrm>
            <a:off x="6300720" y="-177840"/>
            <a:ext cx="286704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Knowledge Model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2" name="Espaço Reservado para Conteúdo 2"/>
          <p:cNvSpPr/>
          <p:nvPr/>
        </p:nvSpPr>
        <p:spPr>
          <a:xfrm>
            <a:off x="290520" y="1265400"/>
            <a:ext cx="847728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3300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e interpretation based on a user-defined knowledge model: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emantic net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decision ru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operat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680" indent="-250920">
              <a:lnSpc>
                <a:spcPct val="100000"/>
              </a:lnSpc>
              <a:spcBef>
                <a:spcPts val="3300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ach n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semantic network the user can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ssign an opera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define a decision ru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680" indent="-250920">
              <a:lnSpc>
                <a:spcPct val="100000"/>
              </a:lnSpc>
              <a:spcBef>
                <a:spcPts val="3300"/>
              </a:spcBef>
              <a:buClr>
                <a:srgbClr val="3366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397320" y="4022640"/>
            <a:ext cx="2819160" cy="1435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921360" y="4149720"/>
            <a:ext cx="1244880" cy="118116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1308240" y="3809880"/>
            <a:ext cx="1384200" cy="1855800"/>
            <a:chOff x="1308240" y="3809880"/>
            <a:chExt cx="1384200" cy="1855800"/>
          </a:xfrm>
        </p:grpSpPr>
        <p:pic>
          <p:nvPicPr>
            <p:cNvPr id="106" name="" descr=""/>
            <p:cNvPicPr/>
            <p:nvPr/>
          </p:nvPicPr>
          <p:blipFill>
            <a:blip r:embed="rId3"/>
            <a:srcRect l="0" t="0" r="0" b="22346"/>
            <a:stretch/>
          </p:blipFill>
          <p:spPr>
            <a:xfrm>
              <a:off x="1308240" y="3809880"/>
              <a:ext cx="1384200" cy="18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1455840" y="5500800"/>
              <a:ext cx="164880" cy="16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Knowledge Model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9" name="Espaço Reservado para Conteúdo 2"/>
          <p:cNvSpPr/>
          <p:nvPr/>
        </p:nvSpPr>
        <p:spPr>
          <a:xfrm>
            <a:off x="290520" y="1265400"/>
            <a:ext cx="865512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53720" indent="-140400">
              <a:lnSpc>
                <a:spcPct val="100000"/>
              </a:lnSpc>
              <a:spcBef>
                <a:spcPts val="2999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ors implement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generic segmentation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es or complex,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pecific feature extraction algorith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53720" indent="-140400">
              <a:lnSpc>
                <a:spcPct val="100000"/>
              </a:lnSpc>
              <a:spcBef>
                <a:spcPts val="2999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ors are executable programs, external to the system core: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new operators can be easily integr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53720" indent="-140400">
              <a:lnSpc>
                <a:spcPct val="100000"/>
              </a:lnSpc>
              <a:spcBef>
                <a:spcPts val="2999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suite of operators –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TerraAI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22280" indent="-1404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mentation: region growing, checkerboard a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arization (math band + threshol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2280" indent="-1404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pefile import and inters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2280" indent="-1404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ed classifier (C4.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Knowledge Model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1440" y="1386000"/>
            <a:ext cx="9144000" cy="5472000"/>
          </a:xfrm>
          <a:prstGeom prst="rect">
            <a:avLst/>
          </a:prstGeom>
          <a:ln w="0">
            <a:noFill/>
          </a:ln>
        </p:spPr>
      </p:pic>
      <p:sp>
        <p:nvSpPr>
          <p:cNvPr id="113" name="Espaço Reservado para Conteúdo 2"/>
          <p:cNvSpPr/>
          <p:nvPr/>
        </p:nvSpPr>
        <p:spPr>
          <a:xfrm>
            <a:off x="214200" y="831960"/>
            <a:ext cx="892836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spcBef>
                <a:spcPts val="3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tion of a Knowledge Model – Semantic Networ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Knowledge Model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1440" y="1376280"/>
            <a:ext cx="9144000" cy="5481720"/>
          </a:xfrm>
          <a:prstGeom prst="rect">
            <a:avLst/>
          </a:prstGeom>
          <a:ln w="0">
            <a:noFill/>
          </a:ln>
        </p:spPr>
      </p:pic>
      <p:sp>
        <p:nvSpPr>
          <p:cNvPr id="117" name="Espaço Reservado para Conteúdo 2"/>
          <p:cNvSpPr/>
          <p:nvPr/>
        </p:nvSpPr>
        <p:spPr>
          <a:xfrm>
            <a:off x="214200" y="831960"/>
            <a:ext cx="892836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spcBef>
                <a:spcPts val="3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mantic Network Node Properties –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Knowledge Model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-1440" y="1376280"/>
            <a:ext cx="9144000" cy="5481720"/>
          </a:xfrm>
          <a:prstGeom prst="rect">
            <a:avLst/>
          </a:prstGeom>
          <a:ln w="0">
            <a:noFill/>
          </a:ln>
        </p:spPr>
      </p:pic>
      <p:sp>
        <p:nvSpPr>
          <p:cNvPr id="121" name="Espaço Reservado para Conteúdo 2"/>
          <p:cNvSpPr/>
          <p:nvPr/>
        </p:nvSpPr>
        <p:spPr>
          <a:xfrm>
            <a:off x="214200" y="831960"/>
            <a:ext cx="892836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spcBef>
                <a:spcPts val="3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mantic Network Node Properties – Decision Ru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6T20:37:11Z</dcterms:created>
  <dc:creator/>
  <dc:description/>
  <dc:language>en-US</dc:language>
  <cp:lastModifiedBy/>
  <dcterms:modified xsi:type="dcterms:W3CDTF">2011-01-12T22:46:12Z</dcterms:modified>
  <cp:revision>271</cp:revision>
  <dc:subject/>
  <dc:title>SISTEMAS NEURO-FUZZY PARA CLASSIFICACAO DE IMAGENS DE SENSORES REMOT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LCID">
    <vt:r8>1046</vt:r8>
  </property>
  <property fmtid="{D5CDD505-2E9C-101B-9397-08002B2CF9AE}" pid="3" name="_Version">
    <vt:lpwstr>12.0.4518</vt:lpwstr>
  </property>
</Properties>
</file>