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460A-0278-4EEB-8AC6-2B09042C0933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PE (Janeiro de 2011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PE (Janeiro de 2011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pan, zoom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top-down de segmentação (ou usar outro operador de segmenta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26160" y="2035080"/>
            <a:ext cx="13716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layer a partir d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layer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Quadras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Attribut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código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77000" y="260820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ummy 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27520" y="3452760"/>
            <a:ext cx="15051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magem defaul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R4,G1,B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Construções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alvar o shapefile com amostras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s resultados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06840" y="1828800"/>
            <a:ext cx="1790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e re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44760" y="181944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25840" y="3452760"/>
            <a:ext cx="3124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174840" y="14731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03360" y="4122720"/>
            <a:ext cx="3133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atributos d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4 e 0.3, respec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87520" y="2870280"/>
            <a:ext cx="3409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Black"/>
              </a:rPr>
              <a:t>Exercíci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rcício 6 – Depuração e Exploração de 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rcício 7 – Investigação de um projeto compl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1-12T23:22:58Z</dcterms:modified>
  <cp:revision>273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