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83400" cy="9169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14200" y="367344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1708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8528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5636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1420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8528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5636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14200" y="443880"/>
            <a:ext cx="878688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7640"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878688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42920" y="-1806840"/>
            <a:ext cx="885816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7640"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14200" y="443880"/>
            <a:ext cx="878688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7640"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1708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14200" y="367344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1708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18528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5636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21420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18528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5636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878688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42920" y="-1806840"/>
            <a:ext cx="885816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7640"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1708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14200" y="857160"/>
            <a:ext cx="878688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03787640">
              <a:spcBef>
                <a:spcPts val="601"/>
              </a:spcBef>
              <a:buClr>
                <a:srgbClr val="336999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50920">
              <a:spcBef>
                <a:spcPts val="601"/>
              </a:spcBef>
              <a:buClr>
                <a:srgbClr val="477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50920">
              <a:spcBef>
                <a:spcPts val="601"/>
              </a:spcBef>
              <a:buClr>
                <a:srgbClr val="477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50920">
              <a:spcBef>
                <a:spcPts val="601"/>
              </a:spcBef>
              <a:buClr>
                <a:srgbClr val="477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50920">
              <a:spcBef>
                <a:spcPts val="601"/>
              </a:spcBef>
              <a:buClr>
                <a:srgbClr val="477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50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50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79" descr="logo_lvc"/>
          <p:cNvPicPr/>
          <p:nvPr/>
        </p:nvPicPr>
        <p:blipFill>
          <a:blip r:embed="rId2">
            <a:grayscl/>
          </a:blip>
          <a:stretch/>
        </p:blipFill>
        <p:spPr>
          <a:xfrm>
            <a:off x="8405640" y="6357960"/>
            <a:ext cx="562320" cy="365040"/>
          </a:xfrm>
          <a:prstGeom prst="rect">
            <a:avLst/>
          </a:prstGeom>
          <a:ln w="0">
            <a:noFill/>
          </a:ln>
        </p:spPr>
      </p:pic>
      <p:pic>
        <p:nvPicPr>
          <p:cNvPr id="3" name="Picture 80" descr="logo_lvc_name"/>
          <p:cNvPicPr/>
          <p:nvPr/>
        </p:nvPicPr>
        <p:blipFill>
          <a:blip r:embed="rId3">
            <a:grayscl/>
          </a:blip>
          <a:stretch/>
        </p:blipFill>
        <p:spPr>
          <a:xfrm>
            <a:off x="6727680" y="6515280"/>
            <a:ext cx="1651320" cy="1918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2" descr=""/>
          <p:cNvPicPr/>
          <p:nvPr/>
        </p:nvPicPr>
        <p:blipFill>
          <a:blip r:embed="rId4"/>
          <a:stretch/>
        </p:blipFill>
        <p:spPr>
          <a:xfrm>
            <a:off x="571680" y="6429240"/>
            <a:ext cx="620640" cy="357480"/>
          </a:xfrm>
          <a:prstGeom prst="rect">
            <a:avLst/>
          </a:prstGeom>
          <a:ln w="0">
            <a:noFill/>
          </a:ln>
        </p:spPr>
      </p:pic>
      <p:pic>
        <p:nvPicPr>
          <p:cNvPr id="5" name="Picture 3" descr=""/>
          <p:cNvPicPr/>
          <p:nvPr/>
        </p:nvPicPr>
        <p:blipFill>
          <a:blip r:embed="rId5"/>
          <a:stretch/>
        </p:blipFill>
        <p:spPr>
          <a:xfrm>
            <a:off x="142920" y="6286680"/>
            <a:ext cx="419040" cy="46656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0"/>
          <p:cNvSpPr/>
          <p:nvPr/>
        </p:nvSpPr>
        <p:spPr>
          <a:xfrm>
            <a:off x="0" y="0"/>
            <a:ext cx="9144000" cy="714240"/>
          </a:xfrm>
          <a:prstGeom prst="rect">
            <a:avLst/>
          </a:prstGeom>
          <a:solidFill>
            <a:srgbClr val="477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5842080"/>
            <a:ext cx="132084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" descr=""/>
          <p:cNvPicPr/>
          <p:nvPr/>
        </p:nvPicPr>
        <p:blipFill>
          <a:blip r:embed="rId6"/>
          <a:stretch/>
        </p:blipFill>
        <p:spPr>
          <a:xfrm>
            <a:off x="233280" y="6230880"/>
            <a:ext cx="590760" cy="500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0"/>
          <p:cNvSpPr/>
          <p:nvPr/>
        </p:nvSpPr>
        <p:spPr>
          <a:xfrm>
            <a:off x="0" y="3505320"/>
            <a:ext cx="9144000" cy="1143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0" y="1000080"/>
            <a:ext cx="9144000" cy="2643120"/>
          </a:xfrm>
          <a:prstGeom prst="rect">
            <a:avLst/>
          </a:prstGeom>
          <a:solidFill>
            <a:srgbClr val="477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0" y="4646520"/>
            <a:ext cx="9144000" cy="27000"/>
          </a:xfrm>
          <a:prstGeom prst="rect">
            <a:avLst/>
          </a:prstGeom>
          <a:solidFill>
            <a:srgbClr val="477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285840" y="214200"/>
            <a:ext cx="1049400" cy="1857600"/>
          </a:xfrm>
          <a:prstGeom prst="rect">
            <a:avLst/>
          </a:prstGeom>
          <a:ln w="9360">
            <a:solidFill>
              <a:srgbClr val="595959"/>
            </a:solidFill>
            <a:miter/>
          </a:ln>
        </p:spPr>
      </p:pic>
      <p:pic>
        <p:nvPicPr>
          <p:cNvPr id="50" name="Picture 79" descr="logo_lvc"/>
          <p:cNvPicPr/>
          <p:nvPr/>
        </p:nvPicPr>
        <p:blipFill>
          <a:blip r:embed="rId3">
            <a:grayscl/>
          </a:blip>
          <a:stretch/>
        </p:blipFill>
        <p:spPr>
          <a:xfrm>
            <a:off x="8215200" y="6072120"/>
            <a:ext cx="642960" cy="417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0" descr="logo_lvc_name"/>
          <p:cNvPicPr/>
          <p:nvPr/>
        </p:nvPicPr>
        <p:blipFill>
          <a:blip r:embed="rId4">
            <a:grayscl/>
          </a:blip>
          <a:stretch/>
        </p:blipFill>
        <p:spPr>
          <a:xfrm>
            <a:off x="7215120" y="6500880"/>
            <a:ext cx="1650960" cy="1918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214200" y="857160"/>
            <a:ext cx="878688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03787640">
              <a:spcBef>
                <a:spcPts val="601"/>
              </a:spcBef>
              <a:buClr>
                <a:srgbClr val="a96d2b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50920">
              <a:spcBef>
                <a:spcPts val="601"/>
              </a:spcBef>
              <a:buClr>
                <a:srgbClr val="a96d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50920">
              <a:spcBef>
                <a:spcPts val="601"/>
              </a:spcBef>
              <a:buClr>
                <a:srgbClr val="a96d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50920">
              <a:spcBef>
                <a:spcPts val="601"/>
              </a:spcBef>
              <a:buClr>
                <a:srgbClr val="a96d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50920">
              <a:spcBef>
                <a:spcPts val="601"/>
              </a:spcBef>
              <a:buClr>
                <a:srgbClr val="a96d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50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50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600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a0a0a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7CB4A-305B-42BD-94A7-9DA28BE0B06C}" type="datetime">
              <a:rPr b="0" lang="pt-BR" sz="2400" spc="-1" strike="noStrike">
                <a:solidFill>
                  <a:srgbClr val="a0a0a0"/>
                </a:solidFill>
                <a:latin typeface="Times New Roman"/>
              </a:rPr>
              <a:t>29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3695400"/>
            <a:ext cx="85582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ddddd"/>
                </a:solidFill>
                <a:latin typeface="Arial Black"/>
              </a:rPr>
              <a:t>InterIMAGE Workshop – Exercícios</a:t>
            </a:r>
            <a:br>
              <a:rPr sz="2200"/>
            </a:br>
            <a:r>
              <a:rPr b="0" lang="en-US" sz="2200" spc="-1" strike="noStrike">
                <a:solidFill>
                  <a:srgbClr val="dddddd"/>
                </a:solidFill>
                <a:latin typeface="Arial Black"/>
              </a:rPr>
              <a:t>INPE (Janeiro de 2011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28600" y="4743360"/>
            <a:ext cx="6934320" cy="13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Gilson A. O. P. Cos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Rodrigo S. Ferrei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97000" y="5918040"/>
            <a:ext cx="860400" cy="729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300720" y="-177840"/>
            <a:ext cx="286704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3695400"/>
            <a:ext cx="85582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ddddd"/>
                </a:solidFill>
                <a:latin typeface="Arial Black"/>
              </a:rPr>
              <a:t>InterIMAGE Workshop – Exercícios</a:t>
            </a:r>
            <a:br>
              <a:rPr sz="2200"/>
            </a:br>
            <a:r>
              <a:rPr b="0" lang="en-US" sz="2200" spc="-1" strike="noStrike">
                <a:solidFill>
                  <a:srgbClr val="dddddd"/>
                </a:solidFill>
                <a:latin typeface="Arial Black"/>
              </a:rPr>
              <a:t>INPE (Janeiro de 2011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228600" y="4743360"/>
            <a:ext cx="6934320" cy="13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Gilson A. O. P. Cos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Rodrigo S. Ferrei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97000" y="5918040"/>
            <a:ext cx="860400" cy="729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300720" y="-177840"/>
            <a:ext cx="286704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1 – Realizar uma segmentação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 projeto de interpretação adicionando a imagem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ijuca.t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vestigar as possibilidades de visualização da imagem (pan, zoom, mudança de composição de core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a rede com um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egmento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sociar a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egmento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um operador top-down de segmentaçã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216000">
              <a:spcBef>
                <a:spcPts val="7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TA_Baatz_Segmen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216000">
              <a:spcBef>
                <a:spcPts val="7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TA_Region_Growing_Segmen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216000">
              <a:spcBef>
                <a:spcPts val="7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TA_Checkerboard_Segmen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ecutar a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vestigar as possibilidades de visualização do resultado da segmentação (cor da borda, preenchimento, opacidad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lterar os parâmetros do operador top-down de segmentação (ou usar outro operador de segmentaçã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portar o resultado (segmentos) para um shape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826160" y="2035080"/>
            <a:ext cx="137160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2 – Realizar uma segmentação intra-regiões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56840" indent="-434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 projeto de interpretação adicionando a imagem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ijuca.tif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 o shapefile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quadras.shp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 layer a partir do shapefile de quadr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vestigar as possibilidades de visualização do layer de quadras (cor da borda, preenchimento, opacidad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a rede com os nós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adra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egmento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sociar ao nó Quadras o operador top-down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A_ShapeFile_Import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com os seguintes atributos: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hape File Attribut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=código;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Label Image Resolutio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=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sociar a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egmento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um operador top-down de segmentaçã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20600" indent="-292320">
              <a:spcBef>
                <a:spcPts val="7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TA_Baatz_Segmen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020600" indent="-292320">
              <a:spcBef>
                <a:spcPts val="7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TA_Checkerboard_Segmen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020600" indent="-292320">
              <a:spcBef>
                <a:spcPts val="7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TA_Region_Growing_Segmen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6840" indent="-43416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ecutar a interpretação, observando os contadores de processos ao lado dos nós da rede semânt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877000" y="2608200"/>
            <a:ext cx="158112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2 – Realizar uma segmentação intra-regiões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lapsar 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adra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observar os atributos dos objetos no painel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Object Informatio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ditar a regra de decisão d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adra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: adicionar a class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adra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selecionar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Merge All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ecutar a interpretação, observando os contadores de processos ao lado dos nós da rede semânt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lapsar 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adra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observar os atributos dos objetos no painel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Object Informatio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dicionar 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ua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à rede semântic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lterar o valor do atribut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Reliability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o operador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Dummy TopDow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ua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para 0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ecutar a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727520" y="3452760"/>
            <a:ext cx="150516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3 – Realizar uma classificação supervisionada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51800" indent="-42948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 projeto de interpretação adicionando a imagem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ijuca.t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1800" indent="-42948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a rede semântica com os nós: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onstruçõe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elhado_Cerâmic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; 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ombr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1800" indent="-42948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1800" indent="-42948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1800" indent="-42948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1800" indent="-42948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1800" indent="-42948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a nova composição colorida da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imagem default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(R4,G1,B2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1800" indent="-42948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letar amostras a partir d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amples Edito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1800" indent="-42948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shapefile com amostras sem fechar 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amples Edito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1800" indent="-42948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dicionar ao nó Construções o operador top-down (multi-class)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A_C45_Classifie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1800" indent="-42948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ecutar a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1800" indent="-42948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letar mais amostras a partir d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amples Edito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salvar o shapefile com amostras sem fechar 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amples Edito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1800" indent="-42948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portar os resultados para um shape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606840" y="1828800"/>
            <a:ext cx="179064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4 – Realizar uma limiarização (1)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 projeto de interpretação adicionando a imagem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ijuca.t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a rede semântica com os nós: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Não_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sociar a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o operador top-down (multi-class)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A_Arithmetic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m os seguintes atribut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ecutar a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lterar os limiares (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hreshold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) e reexecutar a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000" indent="-40212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344760" y="1819440"/>
            <a:ext cx="1638360" cy="9237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625840" y="3452760"/>
            <a:ext cx="312408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5 – Realizar uma limiarização (2)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dicionar 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ombr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à rede semântica do exercício anterio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esmarcar o atribut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Multi-Clas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alterar o valor do atribut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Reliability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para 0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sociar a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ombr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o operador top-down (multi-class)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A_Arithmetic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m os seguintes atribut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174840" y="1473120"/>
            <a:ext cx="1629000" cy="12477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403360" y="4122720"/>
            <a:ext cx="3133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5 – Realizar uma limiarização (2)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ecutar a interpretação e observar os result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lterar os atributos dos nós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ombr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para 0.4 e 0.3, respectivam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ecutar a interpretação e observar os result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dicionar o layer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ombraTD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conforme a figura abaix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Visualizar o layer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ombraTD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387520" y="2870280"/>
            <a:ext cx="340992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 Black"/>
              </a:rPr>
              <a:t>Exercícios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509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ercício 6 – Depuração e Exploração de Atribu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509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509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ercício 7 – Investigação de um projeto complex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6T20:37:11Z</dcterms:created>
  <dc:creator/>
  <dc:description/>
  <dc:language>en-US</dc:language>
  <cp:lastModifiedBy/>
  <dcterms:modified xsi:type="dcterms:W3CDTF">2011-01-12T23:22:58Z</dcterms:modified>
  <cp:revision>273</cp:revision>
  <dc:subject/>
  <dc:title>SISTEMAS NEURO-FUZZY PARA CLASSIFICACAO DE IMAGENS DE SENSORES REMOTO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LCID">
    <vt:r8>1046</vt:r8>
  </property>
  <property fmtid="{D5CDD505-2E9C-101B-9397-08002B2CF9AE}" pid="3" name="_Version">
    <vt:lpwstr>12.0.4518</vt:lpwstr>
  </property>
</Properties>
</file>