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9" descr="logo_lvc"/>
          <p:cNvPicPr/>
          <p:nvPr/>
        </p:nvPicPr>
        <p:blipFill>
          <a:blip r:embed="rId2">
            <a:grayscl/>
          </a:blip>
          <a:stretch/>
        </p:blipFill>
        <p:spPr>
          <a:xfrm>
            <a:off x="8405640" y="6357960"/>
            <a:ext cx="562320" cy="365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0" descr="logo_lvc_name"/>
          <p:cNvPicPr/>
          <p:nvPr/>
        </p:nvPicPr>
        <p:blipFill>
          <a:blip r:embed="rId3">
            <a:grayscl/>
          </a:blip>
          <a:stretch/>
        </p:blipFill>
        <p:spPr>
          <a:xfrm>
            <a:off x="6727680" y="6515280"/>
            <a:ext cx="1651320" cy="19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571680" y="6429240"/>
            <a:ext cx="620640" cy="357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"/>
          <p:cNvPicPr/>
          <p:nvPr/>
        </p:nvPicPr>
        <p:blipFill>
          <a:blip r:embed="rId5"/>
          <a:stretch/>
        </p:blipFill>
        <p:spPr>
          <a:xfrm>
            <a:off x="142920" y="6286680"/>
            <a:ext cx="419040" cy="466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5842080"/>
            <a:ext cx="13208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233280" y="6230880"/>
            <a:ext cx="59076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0" y="350532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1000080"/>
            <a:ext cx="9144000" cy="264312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4646520"/>
            <a:ext cx="9144000" cy="2700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049400" cy="1857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0" name="Picture 79" descr="logo_lvc"/>
          <p:cNvPicPr/>
          <p:nvPr/>
        </p:nvPicPr>
        <p:blipFill>
          <a:blip r:embed="rId3">
            <a:grayscl/>
          </a:blip>
          <a:stretch/>
        </p:blipFill>
        <p:spPr>
          <a:xfrm>
            <a:off x="8215200" y="6072120"/>
            <a:ext cx="642960" cy="41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0" descr="logo_lvc_name"/>
          <p:cNvPicPr/>
          <p:nvPr/>
        </p:nvPicPr>
        <p:blipFill>
          <a:blip r:embed="rId4">
            <a:grayscl/>
          </a:blip>
          <a:stretch/>
        </p:blipFill>
        <p:spPr>
          <a:xfrm>
            <a:off x="7215120" y="6500880"/>
            <a:ext cx="1650960" cy="191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a96d2b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a0a0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D27D-AEE4-47FC-9A1D-F05C83D7139F}" type="datetime">
              <a:rPr b="0" lang="pt-BR" sz="2400" spc="-1" strike="noStrike">
                <a:solidFill>
                  <a:srgbClr val="a0a0a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PE (Janeiro de 2011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PE (Janeiro de 2011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1 – Realizar uma segmentaçã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a imagem (pan, zoom, mudança de composição de cor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um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top-down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resultado da segmentação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parâmetros do operador top-down de segmentação (ou usar outro operador de segmentaçã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 resultado (segmentos) para um shape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26160" y="2035080"/>
            <a:ext cx="13716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Realizar uma segmentação intra-regiõe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o shapefile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quad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layer a partir do shapefile de quad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layer de quadras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Quadras o operador top-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ShapeFile_Impor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 File Attribut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código;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bel Image Resolu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top-down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77000" y="2608200"/>
            <a:ext cx="15811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Realizar uma segmentação intra-regiõe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eleciona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rge 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u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operado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ummy 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u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27520" y="3452760"/>
            <a:ext cx="15051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3 – Realizar uma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truçõe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lhado_Cerâm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nova composição colorida da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magem defaul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R4,G1,B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 amostras sem fecha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ao nó Construções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C45_Classifi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mais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alvar o shapefile com amostras sem fecha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s resultados para um shape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06840" y="1828800"/>
            <a:ext cx="17906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Realizar uma limiarização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ão_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limiares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hreshol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 e re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344760" y="1819440"/>
            <a:ext cx="1638360" cy="923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625840" y="3452760"/>
            <a:ext cx="31240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5 – Realizar uma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 do exercício anteri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marcar 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ulti-Clas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174840" y="1473120"/>
            <a:ext cx="1629000" cy="1247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403360" y="4122720"/>
            <a:ext cx="3133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5 – Realizar uma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atributos d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4 e 0.3, respectiv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nforme a figura abaix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87520" y="2870280"/>
            <a:ext cx="34099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Black"/>
              </a:rPr>
              <a:t>Exercíci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rcício 6 – Depuração e Exploração de A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rcício 7 – Investigação de um projeto comple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20:37:11Z</dcterms:created>
  <dc:creator/>
  <dc:description/>
  <dc:language>en-US</dc:language>
  <cp:lastModifiedBy/>
  <dcterms:modified xsi:type="dcterms:W3CDTF">2011-01-12T23:22:58Z</dcterms:modified>
  <cp:revision>273</cp:revision>
  <dc:subject/>
  <dc:title>SISTEMAS NEURO-FUZZY PARA CLASSIFICACAO DE IMAGENS DE SENSORES REMO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6</vt:r8>
  </property>
  <property fmtid="{D5CDD505-2E9C-101B-9397-08002B2CF9AE}" pid="3" name="_Version">
    <vt:lpwstr>12.0.4518</vt:lpwstr>
  </property>
</Properties>
</file>