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0.png" ContentType="image/png"/>
  <Override PartName="/ppt/media/image6.png" ContentType="image/png"/>
  <Override PartName="/ppt/media/image36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9" descr="logo_lvc"/>
          <p:cNvPicPr/>
          <p:nvPr/>
        </p:nvPicPr>
        <p:blipFill>
          <a:blip r:embed="rId2">
            <a:grayscl/>
          </a:blip>
          <a:stretch/>
        </p:blipFill>
        <p:spPr>
          <a:xfrm>
            <a:off x="8405640" y="6357960"/>
            <a:ext cx="562320" cy="365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0" descr="logo_lvc_name"/>
          <p:cNvPicPr/>
          <p:nvPr/>
        </p:nvPicPr>
        <p:blipFill>
          <a:blip r:embed="rId3">
            <a:grayscl/>
          </a:blip>
          <a:stretch/>
        </p:blipFill>
        <p:spPr>
          <a:xfrm>
            <a:off x="6727680" y="6515280"/>
            <a:ext cx="1651320" cy="19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571680" y="6429240"/>
            <a:ext cx="620640" cy="357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"/>
          <p:cNvPicPr/>
          <p:nvPr/>
        </p:nvPicPr>
        <p:blipFill>
          <a:blip r:embed="rId5"/>
          <a:stretch/>
        </p:blipFill>
        <p:spPr>
          <a:xfrm>
            <a:off x="142920" y="6286680"/>
            <a:ext cx="419040" cy="466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5842080"/>
            <a:ext cx="13208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233280" y="6230880"/>
            <a:ext cx="59076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0" y="350532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1000080"/>
            <a:ext cx="9144000" cy="264312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4646520"/>
            <a:ext cx="9144000" cy="2700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049400" cy="1857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0" name="Picture 79" descr="logo_lvc"/>
          <p:cNvPicPr/>
          <p:nvPr/>
        </p:nvPicPr>
        <p:blipFill>
          <a:blip r:embed="rId3">
            <a:grayscl/>
          </a:blip>
          <a:stretch/>
        </p:blipFill>
        <p:spPr>
          <a:xfrm>
            <a:off x="8215200" y="6072120"/>
            <a:ext cx="642960" cy="41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0" descr="logo_lvc_name"/>
          <p:cNvPicPr/>
          <p:nvPr/>
        </p:nvPicPr>
        <p:blipFill>
          <a:blip r:embed="rId4">
            <a:grayscl/>
          </a:blip>
          <a:stretch/>
        </p:blipFill>
        <p:spPr>
          <a:xfrm>
            <a:off x="7215120" y="6500880"/>
            <a:ext cx="1650960" cy="191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a96d2b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a0a0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FB36-F6C6-4B22-8C15-8C2E596E464F}" type="datetime">
              <a:rPr b="0" lang="pt-BR" sz="2400" spc="-1" strike="noStrike">
                <a:solidFill>
                  <a:srgbClr val="a0a0a0"/>
                </a:solidFill>
                <a:latin typeface="Times New Roman"/>
              </a:rPr>
              <a:t>31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lvc.ele.puc-rio.br/projects/interimage/" TargetMode="External"/><Relationship Id="rId2" Type="http://schemas.openxmlformats.org/officeDocument/2006/relationships/hyperlink" Target="http://www.lvc.ele.puc-rio.br/projects/interimage/" TargetMode="External"/><Relationship Id="rId3" Type="http://schemas.openxmlformats.org/officeDocument/2006/relationships/hyperlink" Target="http://wiki.dpi.inpe.br/doku.php?id=interimage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Rio de Janeiro, August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5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 Attribu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9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 Fuzzy Se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Proces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1" name="Espaço Reservado para Conteúdo 2"/>
          <p:cNvSpPr/>
          <p:nvPr/>
        </p:nvSpPr>
        <p:spPr>
          <a:xfrm>
            <a:off x="404640" y="1062000"/>
            <a:ext cx="82998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pretation process in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uided by the semantic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has two step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p-d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generates object hypotheses by executing top-down operators and top-down decision ru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ottom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alidates/discards object hypotheses by apply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-up decision rules – creates object instan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11172" b="20716"/>
          <a:stretch/>
        </p:blipFill>
        <p:spPr>
          <a:xfrm>
            <a:off x="2114640" y="3570120"/>
            <a:ext cx="5129280" cy="247032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507960" y="3990960"/>
            <a:ext cx="1492200" cy="1730520"/>
            <a:chOff x="507960" y="3990960"/>
            <a:chExt cx="1492200" cy="1730520"/>
          </a:xfrm>
        </p:grpSpPr>
        <p:sp>
          <p:nvSpPr>
            <p:cNvPr id="134" name=""/>
            <p:cNvSpPr/>
            <p:nvPr/>
          </p:nvSpPr>
          <p:spPr>
            <a:xfrm>
              <a:off x="930240" y="4397400"/>
              <a:ext cx="647640" cy="911160"/>
            </a:xfrm>
            <a:prstGeom prst="downArrow">
              <a:avLst>
                <a:gd name="adj1" fmla="val 50000"/>
                <a:gd name="adj2" fmla="val 3517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3366">
                    <a:alpha val="40000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6640" y="4638600"/>
              <a:ext cx="11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op-dow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7960" y="5349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Hypothes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7960" y="3990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Concep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230960" y="3990960"/>
            <a:ext cx="1492200" cy="1730520"/>
            <a:chOff x="7230960" y="3990960"/>
            <a:chExt cx="1492200" cy="1730520"/>
          </a:xfrm>
        </p:grpSpPr>
        <p:sp>
          <p:nvSpPr>
            <p:cNvPr id="139" name=""/>
            <p:cNvSpPr/>
            <p:nvPr/>
          </p:nvSpPr>
          <p:spPr>
            <a:xfrm rot="10800000">
              <a:off x="7651440" y="4397040"/>
              <a:ext cx="647640" cy="911160"/>
            </a:xfrm>
            <a:prstGeom prst="downArrow">
              <a:avLst>
                <a:gd name="adj1" fmla="val 50000"/>
                <a:gd name="adj2" fmla="val 3517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3366">
                    <a:alpha val="40000"/>
                  </a:srgbClr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60200" y="46767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ottom-u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0960" y="5349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Hypothes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30960" y="3990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stanc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7920" y="3767040"/>
            <a:ext cx="3146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749160" y="320040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Rede semânt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47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1" name=""/>
            <p:cNvCxnSpPr>
              <a:stCxn id="152" idx="2"/>
              <a:endCxn id="147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52" idx="2"/>
              <a:endCxn id="148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47" idx="2"/>
              <a:endCxn id="149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47" idx="2"/>
              <a:endCxn id="150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163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-233280" y="3683160"/>
            <a:ext cx="35197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associa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o conceito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68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72" name=""/>
            <p:cNvCxnSpPr>
              <a:stCxn id="173" idx="2"/>
              <a:endCxn id="168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4" name=""/>
            <p:cNvCxnSpPr>
              <a:stCxn id="173" idx="2"/>
              <a:endCxn id="169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5" name=""/>
            <p:cNvCxnSpPr>
              <a:stCxn id="168" idx="2"/>
              <a:endCxn id="170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"/>
            <p:cNvCxnSpPr>
              <a:stCxn id="168" idx="2"/>
              <a:endCxn id="171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-232560" y="3683160"/>
            <a:ext cx="313416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ria máscara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ra 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radores associa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os 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183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186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257800" y="2895480"/>
            <a:ext cx="914400" cy="838440"/>
            <a:chOff x="5257800" y="2895480"/>
            <a:chExt cx="914400" cy="838440"/>
          </a:xfrm>
        </p:grpSpPr>
        <p:sp>
          <p:nvSpPr>
            <p:cNvPr id="189" name=""/>
            <p:cNvSpPr/>
            <p:nvPr/>
          </p:nvSpPr>
          <p:spPr>
            <a:xfrm>
              <a:off x="525780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99200" y="3000240"/>
              <a:ext cx="79668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91" name=""/>
          <p:cNvCxnSpPr>
            <a:stCxn id="189" idx="0"/>
            <a:endCxn id="192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86" idx="0"/>
            <a:endCxn id="192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94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192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9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3" name=""/>
            <p:cNvCxnSpPr>
              <a:stCxn id="204" idx="2"/>
              <a:endCxn id="19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204" idx="2"/>
              <a:endCxn id="20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6" name=""/>
            <p:cNvCxnSpPr>
              <a:stCxn id="199" idx="2"/>
              <a:endCxn id="20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7" name=""/>
            <p:cNvCxnSpPr>
              <a:stCxn id="199" idx="2"/>
              <a:endCxn id="20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214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217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257800" y="2895480"/>
            <a:ext cx="914400" cy="838440"/>
            <a:chOff x="5257800" y="2895480"/>
            <a:chExt cx="914400" cy="838440"/>
          </a:xfrm>
        </p:grpSpPr>
        <p:sp>
          <p:nvSpPr>
            <p:cNvPr id="220" name=""/>
            <p:cNvSpPr/>
            <p:nvPr/>
          </p:nvSpPr>
          <p:spPr>
            <a:xfrm>
              <a:off x="525780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99200" y="3000240"/>
              <a:ext cx="79668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22" name=""/>
          <p:cNvCxnSpPr>
            <a:stCxn id="220" idx="0"/>
            <a:endCxn id="22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17" idx="0"/>
            <a:endCxn id="22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25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22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23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34" name=""/>
            <p:cNvCxnSpPr>
              <a:stCxn id="235" idx="2"/>
              <a:endCxn id="23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35" idx="2"/>
              <a:endCxn id="23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30" idx="2"/>
              <a:endCxn id="23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8" name=""/>
            <p:cNvCxnSpPr>
              <a:stCxn id="230" idx="2"/>
              <a:endCxn id="23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3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6" name=""/>
          <p:cNvCxnSpPr>
            <a:endCxn id="245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8" name=""/>
          <p:cNvCxnSpPr>
            <a:endCxn id="247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0" name=""/>
          <p:cNvCxnSpPr>
            <a:endCxn id="249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253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256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62" name=""/>
          <p:cNvCxnSpPr>
            <a:stCxn id="256" idx="0"/>
            <a:endCxn id="26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4" name=""/>
          <p:cNvCxnSpPr>
            <a:stCxn id="265" idx="0"/>
            <a:endCxn id="26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6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26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26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275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79" name=""/>
            <p:cNvCxnSpPr>
              <a:stCxn id="280" idx="2"/>
              <a:endCxn id="275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1" name=""/>
            <p:cNvCxnSpPr>
              <a:stCxn id="280" idx="2"/>
              <a:endCxn id="276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>
              <a:stCxn id="275" idx="2"/>
              <a:endCxn id="277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3" name=""/>
            <p:cNvCxnSpPr>
              <a:stCxn id="275" idx="2"/>
              <a:endCxn id="278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4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80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0" name=""/>
          <p:cNvCxnSpPr>
            <a:endCxn id="289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"/>
          <p:cNvCxnSpPr>
            <a:endCxn id="291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3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4" name=""/>
          <p:cNvCxnSpPr>
            <a:endCxn id="293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Cria máscara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ara 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peradores associa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os 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297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300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02" name=""/>
          <p:cNvCxnSpPr>
            <a:stCxn id="303" idx="0"/>
            <a:endCxn id="304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306" idx="0"/>
            <a:endCxn id="304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304" idx="2"/>
            <a:endCxn id="297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08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304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14" name=""/>
          <p:cNvCxnSpPr>
            <a:stCxn id="304" idx="2"/>
            <a:endCxn id="300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316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303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5240" y="4876920"/>
              <a:ext cx="32364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306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22" name=""/>
          <p:cNvCxnSpPr>
            <a:stCxn id="304" idx="0"/>
            <a:endCxn id="32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endCxn id="32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5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32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332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337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41" name=""/>
            <p:cNvCxnSpPr>
              <a:stCxn id="342" idx="2"/>
              <a:endCxn id="337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3" name=""/>
            <p:cNvCxnSpPr>
              <a:stCxn id="342" idx="2"/>
              <a:endCxn id="338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4" name=""/>
            <p:cNvCxnSpPr>
              <a:stCxn id="337" idx="2"/>
              <a:endCxn id="339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5" name=""/>
            <p:cNvCxnSpPr>
              <a:stCxn id="337" idx="2"/>
              <a:endCxn id="340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6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342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2" name=""/>
          <p:cNvCxnSpPr>
            <a:endCxn id="351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4" name=""/>
          <p:cNvCxnSpPr>
            <a:endCxn id="353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6" name=""/>
          <p:cNvCxnSpPr>
            <a:endCxn id="355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358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361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63" name=""/>
          <p:cNvCxnSpPr>
            <a:stCxn id="364" idx="0"/>
            <a:endCxn id="365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67" idx="0"/>
            <a:endCxn id="365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65" idx="2"/>
            <a:endCxn id="358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69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365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75" name=""/>
          <p:cNvCxnSpPr>
            <a:stCxn id="365" idx="2"/>
            <a:endCxn id="361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377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364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05240" y="4876920"/>
              <a:ext cx="32364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367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83" name=""/>
          <p:cNvCxnSpPr>
            <a:stCxn id="365" idx="0"/>
            <a:endCxn id="384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endCxn id="384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86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384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393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398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02" name=""/>
            <p:cNvCxnSpPr>
              <a:stCxn id="403" idx="2"/>
              <a:endCxn id="398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4" name=""/>
            <p:cNvCxnSpPr>
              <a:stCxn id="403" idx="2"/>
              <a:endCxn id="399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5" name=""/>
            <p:cNvCxnSpPr>
              <a:stCxn id="398" idx="2"/>
              <a:endCxn id="400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6" name=""/>
            <p:cNvCxnSpPr>
              <a:stCxn id="398" idx="2"/>
              <a:endCxn id="401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7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403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The InterIMAGE Projec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5240" indent="-2332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a Knowledge Based Image Interpretation System for the interpretation of Remote Sensing Imag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ve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VC (PUC-Rio), INPE (Brazilian Space Research Institute), TNT (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ibniz Universität Hannov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lines for innovation projects on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s: FINEP, SEBRAE, FAPER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1.26 (Wind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0.94 (LINU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41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4" name=""/>
          <p:cNvCxnSpPr>
            <a:endCxn id="41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6" name=""/>
          <p:cNvCxnSpPr>
            <a:endCxn id="41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8" name=""/>
          <p:cNvCxnSpPr>
            <a:endCxn id="41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9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42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42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26" name=""/>
          <p:cNvCxnSpPr>
            <a:stCxn id="427" idx="0"/>
            <a:endCxn id="42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0"/>
            <a:endCxn id="42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8" idx="2"/>
            <a:endCxn id="42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42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38" name=""/>
          <p:cNvCxnSpPr>
            <a:stCxn id="428" idx="2"/>
            <a:endCxn id="42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440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42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43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48" name=""/>
          <p:cNvCxnSpPr>
            <a:stCxn id="428" idx="0"/>
            <a:endCxn id="44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endCxn id="44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5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44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1" name=""/>
          <p:cNvCxnSpPr>
            <a:stCxn id="459" idx="0"/>
            <a:endCxn id="41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2" name=""/>
          <p:cNvCxnSpPr>
            <a:stCxn id="460" idx="0"/>
            <a:endCxn id="41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63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464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46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73" name=""/>
            <p:cNvCxnSpPr>
              <a:stCxn id="474" idx="2"/>
              <a:endCxn id="46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5" name=""/>
            <p:cNvCxnSpPr>
              <a:stCxn id="474" idx="2"/>
              <a:endCxn id="47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6" name=""/>
            <p:cNvCxnSpPr>
              <a:stCxn id="469" idx="2"/>
              <a:endCxn id="47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7" name=""/>
            <p:cNvCxnSpPr>
              <a:stCxn id="469" idx="2"/>
              <a:endCxn id="47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47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48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4" name=""/>
          <p:cNvCxnSpPr>
            <a:endCxn id="48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6" name=""/>
          <p:cNvCxnSpPr>
            <a:endCxn id="48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8" name=""/>
          <p:cNvCxnSpPr>
            <a:endCxn id="48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ando o processamen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os nós folha é concluído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fase bottom-up tem iníc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49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49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96" name=""/>
          <p:cNvCxnSpPr>
            <a:stCxn id="497" idx="0"/>
            <a:endCxn id="49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500" idx="0"/>
            <a:endCxn id="49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8" idx="2"/>
            <a:endCxn id="49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0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49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08" name=""/>
          <p:cNvCxnSpPr>
            <a:stCxn id="498" idx="2"/>
            <a:endCxn id="49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0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49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50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18" name=""/>
          <p:cNvCxnSpPr>
            <a:stCxn id="498" idx="0"/>
            <a:endCxn id="51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endCxn id="51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51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1" name=""/>
          <p:cNvCxnSpPr>
            <a:stCxn id="529" idx="0"/>
            <a:endCxn id="48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30" idx="0"/>
            <a:endCxn id="48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33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534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53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43" name=""/>
            <p:cNvCxnSpPr>
              <a:stCxn id="544" idx="2"/>
              <a:endCxn id="53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5" name=""/>
            <p:cNvCxnSpPr>
              <a:stCxn id="544" idx="2"/>
              <a:endCxn id="54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6" name=""/>
            <p:cNvCxnSpPr>
              <a:stCxn id="539" idx="2"/>
              <a:endCxn id="54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7" name=""/>
            <p:cNvCxnSpPr>
              <a:stCxn id="539" idx="2"/>
              <a:endCxn id="54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54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4" name=""/>
          <p:cNvCxnSpPr>
            <a:endCxn id="55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6" name=""/>
          <p:cNvCxnSpPr>
            <a:endCxn id="55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8" name=""/>
          <p:cNvCxnSpPr>
            <a:endCxn id="55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56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56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66" name=""/>
          <p:cNvCxnSpPr>
            <a:stCxn id="567" idx="0"/>
            <a:endCxn id="56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70" idx="0"/>
            <a:endCxn id="56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1" name=""/>
          <p:cNvCxnSpPr>
            <a:stCxn id="568" idx="2"/>
            <a:endCxn id="56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7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56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78" name=""/>
          <p:cNvCxnSpPr>
            <a:stCxn id="568" idx="2"/>
            <a:endCxn id="56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8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56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57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88" name=""/>
          <p:cNvCxnSpPr>
            <a:stCxn id="568" idx="0"/>
            <a:endCxn id="58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0" name=""/>
          <p:cNvCxnSpPr>
            <a:endCxn id="58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9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58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1" name=""/>
          <p:cNvCxnSpPr>
            <a:stCxn id="599" idx="0"/>
            <a:endCxn id="55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2" name=""/>
          <p:cNvCxnSpPr>
            <a:stCxn id="600" idx="0"/>
            <a:endCxn id="55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60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61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14" name=""/>
            <p:cNvCxnSpPr>
              <a:stCxn id="615" idx="2"/>
              <a:endCxn id="61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6" name=""/>
            <p:cNvCxnSpPr>
              <a:stCxn id="615" idx="2"/>
              <a:endCxn id="61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7" name=""/>
            <p:cNvCxnSpPr>
              <a:stCxn id="610" idx="2"/>
              <a:endCxn id="61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8" name=""/>
            <p:cNvCxnSpPr>
              <a:stCxn id="610" idx="2"/>
              <a:endCxn id="61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61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2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4" name=""/>
          <p:cNvCxnSpPr>
            <a:endCxn id="62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6" name=""/>
          <p:cNvCxnSpPr>
            <a:endCxn id="62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8" name=""/>
          <p:cNvCxnSpPr>
            <a:endCxn id="62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63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63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36" name=""/>
          <p:cNvCxnSpPr>
            <a:stCxn id="637" idx="0"/>
            <a:endCxn id="63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9" name=""/>
          <p:cNvCxnSpPr>
            <a:stCxn id="640" idx="0"/>
            <a:endCxn id="63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1" name=""/>
          <p:cNvCxnSpPr>
            <a:stCxn id="638" idx="2"/>
            <a:endCxn id="63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4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63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48" name=""/>
          <p:cNvCxnSpPr>
            <a:stCxn id="638" idx="2"/>
            <a:endCxn id="63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65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63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64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58" name=""/>
          <p:cNvCxnSpPr>
            <a:stCxn id="638" idx="0"/>
            <a:endCxn id="65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endCxn id="65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6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65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1" name=""/>
          <p:cNvCxnSpPr>
            <a:stCxn id="669" idx="0"/>
            <a:endCxn id="62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70" idx="0"/>
            <a:endCxn id="62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67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68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4" name=""/>
            <p:cNvCxnSpPr>
              <a:stCxn id="685" idx="2"/>
              <a:endCxn id="68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6" name=""/>
            <p:cNvCxnSpPr>
              <a:stCxn id="685" idx="2"/>
              <a:endCxn id="68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7" name=""/>
            <p:cNvCxnSpPr>
              <a:stCxn id="680" idx="2"/>
              <a:endCxn id="68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8" name=""/>
            <p:cNvCxnSpPr>
              <a:stCxn id="680" idx="2"/>
              <a:endCxn id="68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68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9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4" name=""/>
          <p:cNvCxnSpPr>
            <a:endCxn id="69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6" name=""/>
          <p:cNvCxnSpPr>
            <a:endCxn id="69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8" name=""/>
          <p:cNvCxnSpPr>
            <a:endCxn id="69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70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70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06" name=""/>
          <p:cNvCxnSpPr>
            <a:stCxn id="707" idx="0"/>
            <a:endCxn id="70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9" name=""/>
          <p:cNvCxnSpPr>
            <a:stCxn id="710" idx="0"/>
            <a:endCxn id="70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1" name=""/>
          <p:cNvCxnSpPr>
            <a:stCxn id="708" idx="2"/>
            <a:endCxn id="70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1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70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18" name=""/>
          <p:cNvCxnSpPr>
            <a:stCxn id="708" idx="2"/>
            <a:endCxn id="70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72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70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71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28" name=""/>
          <p:cNvCxnSpPr>
            <a:stCxn id="708" idx="0"/>
            <a:endCxn id="72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0" name=""/>
          <p:cNvCxnSpPr>
            <a:endCxn id="72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3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72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1" name=""/>
          <p:cNvCxnSpPr>
            <a:stCxn id="739" idx="0"/>
            <a:endCxn id="69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40" idx="0"/>
            <a:endCxn id="69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74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75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54" name=""/>
            <p:cNvCxnSpPr>
              <a:stCxn id="755" idx="2"/>
              <a:endCxn id="75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6" name=""/>
            <p:cNvCxnSpPr>
              <a:stCxn id="755" idx="2"/>
              <a:endCxn id="75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7" name=""/>
            <p:cNvCxnSpPr>
              <a:stCxn id="750" idx="2"/>
              <a:endCxn id="75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8" name=""/>
            <p:cNvCxnSpPr>
              <a:stCxn id="750" idx="2"/>
              <a:endCxn id="75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75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76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4" name=""/>
          <p:cNvCxnSpPr>
            <a:endCxn id="76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6" name=""/>
          <p:cNvCxnSpPr>
            <a:endCxn id="76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8" name=""/>
          <p:cNvCxnSpPr>
            <a:endCxn id="76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4" name=""/>
          <p:cNvCxnSpPr>
            <a:stCxn id="775" idx="0"/>
            <a:endCxn id="776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7" name=""/>
          <p:cNvCxnSpPr>
            <a:stCxn id="778" idx="0"/>
            <a:endCxn id="776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9" name=""/>
          <p:cNvCxnSpPr>
            <a:stCxn id="776" idx="2"/>
            <a:endCxn id="770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4" name=""/>
          <p:cNvCxnSpPr>
            <a:stCxn id="776" idx="2"/>
            <a:endCxn id="772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785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786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775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778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94" name=""/>
          <p:cNvCxnSpPr>
            <a:stCxn id="776" idx="0"/>
            <a:endCxn id="795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6" name=""/>
          <p:cNvCxnSpPr>
            <a:endCxn id="795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5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6" name=""/>
          <p:cNvCxnSpPr>
            <a:stCxn id="804" idx="0"/>
            <a:endCxn id="76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5" idx="0"/>
            <a:endCxn id="76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8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814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18" name=""/>
            <p:cNvCxnSpPr>
              <a:stCxn id="819" idx="2"/>
              <a:endCxn id="814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0" name=""/>
            <p:cNvCxnSpPr>
              <a:stCxn id="819" idx="2"/>
              <a:endCxn id="815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1" name=""/>
            <p:cNvCxnSpPr>
              <a:stCxn id="814" idx="2"/>
              <a:endCxn id="816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"/>
            <p:cNvCxnSpPr>
              <a:stCxn id="814" idx="2"/>
              <a:endCxn id="817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3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819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4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27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9" name=""/>
          <p:cNvCxnSpPr>
            <a:endCxn id="828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0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1" name=""/>
          <p:cNvCxnSpPr>
            <a:endCxn id="830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3" name=""/>
          <p:cNvCxnSpPr>
            <a:endCxn id="832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irmã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9" name=""/>
          <p:cNvCxnSpPr>
            <a:stCxn id="840" idx="0"/>
            <a:endCxn id="841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3" idx="0"/>
            <a:endCxn id="841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4" name=""/>
          <p:cNvCxnSpPr>
            <a:stCxn id="841" idx="2"/>
            <a:endCxn id="835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9" name=""/>
          <p:cNvCxnSpPr>
            <a:stCxn id="841" idx="2"/>
            <a:endCxn id="837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850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851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840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843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859" name=""/>
          <p:cNvCxnSpPr>
            <a:stCxn id="841" idx="0"/>
            <a:endCxn id="860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1" name=""/>
          <p:cNvCxnSpPr>
            <a:endCxn id="860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0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1" name=""/>
          <p:cNvCxnSpPr>
            <a:stCxn id="869" idx="0"/>
            <a:endCxn id="828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2" name=""/>
          <p:cNvCxnSpPr>
            <a:stCxn id="870" idx="0"/>
            <a:endCxn id="828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3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88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84" name=""/>
            <p:cNvCxnSpPr>
              <a:stCxn id="885" idx="2"/>
              <a:endCxn id="88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6" name=""/>
            <p:cNvCxnSpPr>
              <a:stCxn id="885" idx="2"/>
              <a:endCxn id="88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7" name=""/>
            <p:cNvCxnSpPr>
              <a:stCxn id="880" idx="2"/>
              <a:endCxn id="88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8" name=""/>
            <p:cNvCxnSpPr>
              <a:stCxn id="880" idx="2"/>
              <a:endCxn id="88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88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9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4" name=""/>
          <p:cNvCxnSpPr>
            <a:endCxn id="89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6" name=""/>
          <p:cNvCxnSpPr>
            <a:endCxn id="89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8" name=""/>
          <p:cNvCxnSpPr>
            <a:endCxn id="89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99" name=""/>
          <p:cNvSpPr/>
          <p:nvPr/>
        </p:nvSpPr>
        <p:spPr>
          <a:xfrm>
            <a:off x="228600" y="3683160"/>
            <a:ext cx="27432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irmã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4" name=""/>
          <p:cNvCxnSpPr>
            <a:stCxn id="905" idx="0"/>
            <a:endCxn id="906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7" name=""/>
          <p:cNvCxnSpPr>
            <a:stCxn id="908" idx="0"/>
            <a:endCxn id="906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9" name=""/>
          <p:cNvCxnSpPr>
            <a:stCxn id="906" idx="2"/>
            <a:endCxn id="900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0" name=""/>
          <p:cNvCxnSpPr>
            <a:stCxn id="906" idx="2"/>
            <a:endCxn id="902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911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912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905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908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920" name=""/>
          <p:cNvCxnSpPr>
            <a:stCxn id="906" idx="0"/>
            <a:endCxn id="921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2" name=""/>
          <p:cNvCxnSpPr>
            <a:endCxn id="921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0" name=""/>
          <p:cNvCxnSpPr>
            <a:stCxn id="928" idx="0"/>
            <a:endCxn id="89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1" name=""/>
          <p:cNvCxnSpPr>
            <a:stCxn id="929" idx="0"/>
            <a:endCxn id="89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32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6153120" y="1371600"/>
            <a:ext cx="619200" cy="595440"/>
            <a:chOff x="6153120" y="1371600"/>
            <a:chExt cx="619200" cy="595440"/>
          </a:xfrm>
        </p:grpSpPr>
        <p:sp>
          <p:nvSpPr>
            <p:cNvPr id="935" name=""/>
            <p:cNvSpPr/>
            <p:nvPr/>
          </p:nvSpPr>
          <p:spPr>
            <a:xfrm>
              <a:off x="6153120" y="137160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70560" y="1447920"/>
              <a:ext cx="401760" cy="492120"/>
            </a:xfrm>
            <a:custGeom>
              <a:avLst/>
              <a:gdLst/>
              <a:ahLst/>
              <a:rect l="l" t="t" r="r" b="b"/>
              <a:pathLst>
                <a:path w="253" h="310">
                  <a:moveTo>
                    <a:pt x="0" y="280"/>
                  </a:moveTo>
                  <a:cubicBezTo>
                    <a:pt x="38" y="234"/>
                    <a:pt x="26" y="244"/>
                    <a:pt x="30" y="216"/>
                  </a:cubicBezTo>
                  <a:cubicBezTo>
                    <a:pt x="34" y="192"/>
                    <a:pt x="58" y="189"/>
                    <a:pt x="61" y="176"/>
                  </a:cubicBezTo>
                  <a:cubicBezTo>
                    <a:pt x="64" y="163"/>
                    <a:pt x="49" y="151"/>
                    <a:pt x="47" y="140"/>
                  </a:cubicBezTo>
                  <a:cubicBezTo>
                    <a:pt x="45" y="129"/>
                    <a:pt x="49" y="133"/>
                    <a:pt x="49" y="112"/>
                  </a:cubicBezTo>
                  <a:cubicBezTo>
                    <a:pt x="45" y="79"/>
                    <a:pt x="53" y="70"/>
                    <a:pt x="47" y="14"/>
                  </a:cubicBezTo>
                  <a:cubicBezTo>
                    <a:pt x="56" y="0"/>
                    <a:pt x="67" y="13"/>
                    <a:pt x="83" y="8"/>
                  </a:cubicBezTo>
                  <a:cubicBezTo>
                    <a:pt x="92" y="5"/>
                    <a:pt x="154" y="25"/>
                    <a:pt x="154" y="25"/>
                  </a:cubicBezTo>
                  <a:cubicBezTo>
                    <a:pt x="179" y="28"/>
                    <a:pt x="188" y="31"/>
                    <a:pt x="196" y="55"/>
                  </a:cubicBezTo>
                  <a:cubicBezTo>
                    <a:pt x="202" y="105"/>
                    <a:pt x="222" y="152"/>
                    <a:pt x="244" y="196"/>
                  </a:cubicBezTo>
                  <a:cubicBezTo>
                    <a:pt x="253" y="258"/>
                    <a:pt x="249" y="295"/>
                    <a:pt x="190" y="310"/>
                  </a:cubicBezTo>
                  <a:cubicBezTo>
                    <a:pt x="169" y="309"/>
                    <a:pt x="148" y="309"/>
                    <a:pt x="127" y="307"/>
                  </a:cubicBezTo>
                  <a:cubicBezTo>
                    <a:pt x="118" y="306"/>
                    <a:pt x="100" y="298"/>
                    <a:pt x="100" y="298"/>
                  </a:cubicBezTo>
                  <a:cubicBezTo>
                    <a:pt x="88" y="286"/>
                    <a:pt x="28" y="294"/>
                    <a:pt x="0" y="28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5526000" y="3125880"/>
            <a:ext cx="401760" cy="492120"/>
          </a:xfrm>
          <a:custGeom>
            <a:avLst/>
            <a:gdLst/>
            <a:ahLst/>
            <a:rect l="l" t="t" r="r" b="b"/>
            <a:pathLst>
              <a:path w="253" h="310">
                <a:moveTo>
                  <a:pt x="0" y="280"/>
                </a:moveTo>
                <a:cubicBezTo>
                  <a:pt x="38" y="234"/>
                  <a:pt x="26" y="244"/>
                  <a:pt x="30" y="216"/>
                </a:cubicBezTo>
                <a:cubicBezTo>
                  <a:pt x="34" y="192"/>
                  <a:pt x="58" y="189"/>
                  <a:pt x="61" y="176"/>
                </a:cubicBezTo>
                <a:cubicBezTo>
                  <a:pt x="64" y="163"/>
                  <a:pt x="49" y="151"/>
                  <a:pt x="47" y="140"/>
                </a:cubicBezTo>
                <a:cubicBezTo>
                  <a:pt x="45" y="129"/>
                  <a:pt x="49" y="133"/>
                  <a:pt x="49" y="112"/>
                </a:cubicBezTo>
                <a:cubicBezTo>
                  <a:pt x="45" y="79"/>
                  <a:pt x="53" y="70"/>
                  <a:pt x="47" y="14"/>
                </a:cubicBezTo>
                <a:cubicBezTo>
                  <a:pt x="56" y="0"/>
                  <a:pt x="67" y="13"/>
                  <a:pt x="83" y="8"/>
                </a:cubicBezTo>
                <a:cubicBezTo>
                  <a:pt x="92" y="5"/>
                  <a:pt x="154" y="25"/>
                  <a:pt x="154" y="25"/>
                </a:cubicBezTo>
                <a:cubicBezTo>
                  <a:pt x="179" y="28"/>
                  <a:pt x="188" y="31"/>
                  <a:pt x="196" y="55"/>
                </a:cubicBezTo>
                <a:cubicBezTo>
                  <a:pt x="202" y="105"/>
                  <a:pt x="222" y="152"/>
                  <a:pt x="244" y="196"/>
                </a:cubicBezTo>
                <a:cubicBezTo>
                  <a:pt x="253" y="258"/>
                  <a:pt x="249" y="295"/>
                  <a:pt x="190" y="310"/>
                </a:cubicBezTo>
                <a:cubicBezTo>
                  <a:pt x="169" y="309"/>
                  <a:pt x="148" y="309"/>
                  <a:pt x="127" y="307"/>
                </a:cubicBezTo>
                <a:cubicBezTo>
                  <a:pt x="118" y="306"/>
                  <a:pt x="100" y="298"/>
                  <a:pt x="100" y="298"/>
                </a:cubicBezTo>
                <a:cubicBezTo>
                  <a:pt x="88" y="286"/>
                  <a:pt x="28" y="294"/>
                  <a:pt x="0" y="28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"/>
          <p:cNvSpPr/>
          <p:nvPr/>
        </p:nvSpPr>
        <p:spPr>
          <a:xfrm>
            <a:off x="6991200" y="3048120"/>
            <a:ext cx="357480" cy="595080"/>
          </a:xfrm>
          <a:custGeom>
            <a:avLst/>
            <a:gdLst/>
            <a:ahLst/>
            <a:rect l="l" t="t" r="r" b="b"/>
            <a:pathLst>
              <a:path w="225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204" y="86"/>
                  <a:pt x="204" y="116"/>
                </a:cubicBezTo>
                <a:cubicBezTo>
                  <a:pt x="204" y="132"/>
                  <a:pt x="222" y="140"/>
                  <a:pt x="224" y="156"/>
                </a:cubicBezTo>
                <a:cubicBezTo>
                  <a:pt x="225" y="167"/>
                  <a:pt x="220" y="200"/>
                  <a:pt x="220" y="200"/>
                </a:cubicBezTo>
                <a:cubicBezTo>
                  <a:pt x="219" y="218"/>
                  <a:pt x="216" y="250"/>
                  <a:pt x="204" y="268"/>
                </a:cubicBezTo>
                <a:cubicBezTo>
                  <a:pt x="198" y="277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"/>
          <p:cNvSpPr/>
          <p:nvPr/>
        </p:nvSpPr>
        <p:spPr>
          <a:xfrm>
            <a:off x="6331680" y="144792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94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53" name=""/>
            <p:cNvCxnSpPr>
              <a:stCxn id="954" idx="2"/>
              <a:endCxn id="94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5" name=""/>
            <p:cNvCxnSpPr>
              <a:stCxn id="954" idx="2"/>
              <a:endCxn id="95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6" name=""/>
            <p:cNvCxnSpPr>
              <a:stCxn id="949" idx="2"/>
              <a:endCxn id="95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7" name=""/>
            <p:cNvCxnSpPr>
              <a:stCxn id="949" idx="2"/>
              <a:endCxn id="95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95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9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1"/>
          <a:srcRect l="0" t="0" r="15733" b="3232"/>
          <a:stretch/>
        </p:blipFill>
        <p:spPr>
          <a:xfrm>
            <a:off x="0" y="1190520"/>
            <a:ext cx="9144000" cy="5668920"/>
          </a:xfrm>
          <a:prstGeom prst="rect">
            <a:avLst/>
          </a:prstGeom>
          <a:ln w="0">
            <a:noFill/>
          </a:ln>
        </p:spPr>
      </p:pic>
      <p:sp>
        <p:nvSpPr>
          <p:cNvPr id="964" name="Espaço Reservado para Conteúdo 2"/>
          <p:cNvSpPr/>
          <p:nvPr/>
        </p:nvSpPr>
        <p:spPr>
          <a:xfrm>
            <a:off x="216000" y="782640"/>
            <a:ext cx="8928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52360" indent="-23076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interpretation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1"/>
          <a:srcRect l="0" t="0" r="15556" b="3232"/>
          <a:stretch/>
        </p:blipFill>
        <p:spPr>
          <a:xfrm>
            <a:off x="3240" y="1201680"/>
            <a:ext cx="9140760" cy="5656320"/>
          </a:xfrm>
          <a:prstGeom prst="rect">
            <a:avLst/>
          </a:prstGeom>
          <a:ln w="0">
            <a:noFill/>
          </a:ln>
        </p:spPr>
      </p:pic>
      <p:sp>
        <p:nvSpPr>
          <p:cNvPr id="968" name="Espaço Reservado para Conteúdo 2"/>
          <p:cNvSpPr/>
          <p:nvPr/>
        </p:nvSpPr>
        <p:spPr>
          <a:xfrm>
            <a:off x="216000" y="78264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partial results (Top-down proces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Characteristic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90160" y="1265400"/>
            <a:ext cx="832644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ed for the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utomated interpretation of complex sce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multisensor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odular architectural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respect to the inclusion of specific operators for object extraction/image segmentation and decision oper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ulti-plat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indows (v1.26) and LINUX (v0.9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en 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++, Qt4 and TerraLib (IN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1"/>
          <a:srcRect l="0" t="0" r="15644" b="3232"/>
          <a:stretch/>
        </p:blipFill>
        <p:spPr>
          <a:xfrm>
            <a:off x="0" y="1195560"/>
            <a:ext cx="9144000" cy="5662440"/>
          </a:xfrm>
          <a:prstGeom prst="rect">
            <a:avLst/>
          </a:prstGeom>
          <a:ln w="0">
            <a:noFill/>
          </a:ln>
        </p:spPr>
      </p:pic>
      <p:sp>
        <p:nvSpPr>
          <p:cNvPr id="972" name="Espaço Reservado para Conteúdo 2"/>
          <p:cNvSpPr/>
          <p:nvPr/>
        </p:nvSpPr>
        <p:spPr>
          <a:xfrm>
            <a:off x="216000" y="78264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partial results (Bottom-up proces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1"/>
          <a:srcRect l="0" t="0" r="7367" b="5249"/>
          <a:stretch/>
        </p:blipFill>
        <p:spPr>
          <a:xfrm>
            <a:off x="0" y="1596960"/>
            <a:ext cx="9144000" cy="5261040"/>
          </a:xfrm>
          <a:prstGeom prst="rect">
            <a:avLst/>
          </a:prstGeom>
          <a:ln w="0">
            <a:noFill/>
          </a:ln>
        </p:spPr>
      </p:pic>
      <p:sp>
        <p:nvSpPr>
          <p:cNvPr id="976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rule outcome’s insp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rcRect l="0" t="0" r="7618" b="5249"/>
          <a:stretch/>
        </p:blipFill>
        <p:spPr>
          <a:xfrm>
            <a:off x="0" y="1581120"/>
            <a:ext cx="9144000" cy="5276880"/>
          </a:xfrm>
          <a:prstGeom prst="rect">
            <a:avLst/>
          </a:prstGeom>
          <a:ln w="0">
            <a:noFill/>
          </a:ln>
        </p:spPr>
      </p:pic>
      <p:sp>
        <p:nvSpPr>
          <p:cNvPr id="980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feature view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rcRect l="0" t="0" r="7441" b="5249"/>
          <a:stretch/>
        </p:blipFill>
        <p:spPr>
          <a:xfrm>
            <a:off x="0" y="159228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984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histogra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rcRect l="0" t="0" r="7441" b="5249"/>
          <a:stretch/>
        </p:blipFill>
        <p:spPr>
          <a:xfrm>
            <a:off x="0" y="159228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988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scatter plo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1541520" y="1671480"/>
            <a:ext cx="6207120" cy="4646880"/>
          </a:xfrm>
          <a:prstGeom prst="rect">
            <a:avLst/>
          </a:prstGeom>
          <a:ln w="0">
            <a:noFill/>
          </a:ln>
        </p:spPr>
      </p:pic>
      <p:sp>
        <p:nvSpPr>
          <p:cNvPr id="992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Editor: definition of Regions Of Inter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files or binary raster fi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457200" y="1650960"/>
            <a:ext cx="8265960" cy="5207040"/>
          </a:xfrm>
          <a:prstGeom prst="rect">
            <a:avLst/>
          </a:prstGeom>
          <a:ln w="0">
            <a:noFill/>
          </a:ln>
        </p:spPr>
      </p:pic>
      <p:sp>
        <p:nvSpPr>
          <p:cNvPr id="996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editor: definition of samples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ed classification operato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Final Remark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290520" y="1278000"/>
            <a:ext cx="82980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pplications already develop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asically in IN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orking on support for large im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 few bugs are expect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phase of the focuses on the development of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functionality to deal with Radar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ew partners are welco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2999"/>
              </a:spcAft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Documentation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90520" y="1278000"/>
            <a:ext cx="82980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’s site: </a:t>
            </a:r>
            <a:br>
              <a:rPr sz="2400"/>
            </a:b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1"/>
              </a:rPr>
              <a:t>http://www.lvc.ele.puc-rio.br/projects/interimage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2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ki: </a:t>
            </a:r>
            <a:br>
              <a:rPr sz="2400"/>
            </a:b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3"/>
              </a:rPr>
              <a:t>http://wiki.dpi.inpe.br/doku.php?id=inter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21708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8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lassification of geomorphological units in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São José dos Camp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Municip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1523880" y="2382840"/>
            <a:ext cx="6215040" cy="33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Characteristic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90520" y="1265400"/>
            <a:ext cx="8362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Based on GeoA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veloped at TNT Institute from Leibniz Universität Hann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the same interpretation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s (practically) the same 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n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ffort is to provide interactivity support to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reate and adjust a knowledge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oal is to make the system it available to a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rger user commun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1199"/>
              </a:spcBef>
              <a:buClr>
                <a:srgbClr val="33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21708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74160" indent="-67680">
              <a:spcBef>
                <a:spcPts val="8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ification of geomorphological units in the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São José dos Camp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unicip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ification of the area into: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Mountains; Sedimentary Hills; Aluvial Plains; and Lakes and Reservoi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3574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Input da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gital Elevation Model generated (externally) from a ASTER/Terra stereoscopic pa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ural and Geomorphometric variables extracted from the DEM (entropy and elev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ector drainage m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2100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198000" y="1074240"/>
            <a:ext cx="837900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nowledge Mod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639720" y="2021040"/>
          <a:ext cx="8039160" cy="3119400"/>
        </p:xfrm>
        <a:graphic>
          <a:graphicData uri="http://schemas.openxmlformats.org/drawingml/2006/table">
            <a:tbl>
              <a:tblPr/>
              <a:tblGrid>
                <a:gridCol w="3524400"/>
                <a:gridCol w="4514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indent="158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morpholog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nt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drainage 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height between 572 and 210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4,9º and 34,9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H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height between 560 and 688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entropy between 1,2 and 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2,5º and 12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uvial Pl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entropy between -0,01 and 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1,4º and 10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19800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nowledge model in InterIMA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289080" y="1874880"/>
            <a:ext cx="2311200" cy="2158920"/>
          </a:xfrm>
          <a:prstGeom prst="rect">
            <a:avLst/>
          </a:prstGeom>
          <a:ln w="0">
            <a:noFill/>
          </a:ln>
        </p:spPr>
      </p:pic>
      <p:sp>
        <p:nvSpPr>
          <p:cNvPr id="1012" name="Espaço Reservado para Conteúdo 2"/>
          <p:cNvSpPr/>
          <p:nvPr/>
        </p:nvSpPr>
        <p:spPr>
          <a:xfrm>
            <a:off x="2674800" y="1747800"/>
            <a:ext cx="6469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96120" indent="-8748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dow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perator that imports shapefile of the limits of the Municip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SedimentaryHi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Mounta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AlluvialPla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perator that performs a segmentation (Baatz and Shäpe algorithm) of the DEM (geographically coincident hypothese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rvoirs: operator that imports a shapefile of the region’s hydrograp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tom-up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cision rule that decides among the concurrent hypotheses associated to the leaf 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14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2"/>
          <a:stretch/>
        </p:blipFill>
        <p:spPr>
          <a:xfrm>
            <a:off x="57168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3"/>
          <a:stretch/>
        </p:blipFill>
        <p:spPr>
          <a:xfrm>
            <a:off x="3330720" y="3914640"/>
            <a:ext cx="2381040" cy="160992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1227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"/>
          <p:cNvSpPr/>
          <p:nvPr/>
        </p:nvSpPr>
        <p:spPr>
          <a:xfrm>
            <a:off x="1356120" y="5291280"/>
            <a:ext cx="84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2"/>
          <a:stretch/>
        </p:blipFill>
        <p:spPr>
          <a:xfrm>
            <a:off x="3232080" y="1582560"/>
            <a:ext cx="2422440" cy="179388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3"/>
          <a:stretch/>
        </p:blipFill>
        <p:spPr>
          <a:xfrm>
            <a:off x="57168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28" name="" descr=""/>
          <p:cNvPicPr/>
          <p:nvPr/>
        </p:nvPicPr>
        <p:blipFill>
          <a:blip r:embed="rId4"/>
          <a:stretch/>
        </p:blipFill>
        <p:spPr>
          <a:xfrm>
            <a:off x="333072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29" name="" descr=""/>
          <p:cNvPicPr/>
          <p:nvPr/>
        </p:nvPicPr>
        <p:blipFill>
          <a:blip r:embed="rId5"/>
          <a:stretch/>
        </p:blipFill>
        <p:spPr>
          <a:xfrm>
            <a:off x="6083280" y="3914640"/>
            <a:ext cx="2381400" cy="16099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287280" y="1608120"/>
            <a:ext cx="2859120" cy="186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"/>
          <p:cNvSpPr/>
          <p:nvPr/>
        </p:nvSpPr>
        <p:spPr>
          <a:xfrm>
            <a:off x="4127400" y="5359320"/>
            <a:ext cx="787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/>
          <p:nvPr/>
        </p:nvSpPr>
        <p:spPr>
          <a:xfrm>
            <a:off x="6934320" y="5359320"/>
            <a:ext cx="647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"/>
          <p:cNvSpPr/>
          <p:nvPr/>
        </p:nvSpPr>
        <p:spPr>
          <a:xfrm>
            <a:off x="6932520" y="52912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"/>
          <p:cNvSpPr/>
          <p:nvPr/>
        </p:nvSpPr>
        <p:spPr>
          <a:xfrm>
            <a:off x="1356120" y="5291280"/>
            <a:ext cx="84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"/>
          <p:cNvSpPr/>
          <p:nvPr/>
        </p:nvSpPr>
        <p:spPr>
          <a:xfrm>
            <a:off x="1227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"/>
          <p:cNvSpPr/>
          <p:nvPr/>
        </p:nvSpPr>
        <p:spPr>
          <a:xfrm>
            <a:off x="6726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/>
          <p:cNvPicPr/>
          <p:nvPr/>
        </p:nvPicPr>
        <p:blipFill>
          <a:blip r:embed="rId2"/>
          <a:stretch/>
        </p:blipFill>
        <p:spPr>
          <a:xfrm>
            <a:off x="3232080" y="1582560"/>
            <a:ext cx="2422440" cy="179388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/>
          <p:cNvPicPr/>
          <p:nvPr/>
        </p:nvPicPr>
        <p:blipFill>
          <a:blip r:embed="rId3"/>
          <a:stretch/>
        </p:blipFill>
        <p:spPr>
          <a:xfrm>
            <a:off x="6357960" y="1519200"/>
            <a:ext cx="2389320" cy="170172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4"/>
          <a:stretch/>
        </p:blipFill>
        <p:spPr>
          <a:xfrm>
            <a:off x="6083280" y="3914640"/>
            <a:ext cx="2381400" cy="16099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5"/>
          <a:stretch/>
        </p:blipFill>
        <p:spPr>
          <a:xfrm>
            <a:off x="3332160" y="3914640"/>
            <a:ext cx="2381400" cy="160992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287280" y="1608120"/>
            <a:ext cx="5577120" cy="186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"/>
          <p:cNvSpPr/>
          <p:nvPr/>
        </p:nvSpPr>
        <p:spPr>
          <a:xfrm>
            <a:off x="4127400" y="5359320"/>
            <a:ext cx="787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"/>
          <p:cNvSpPr/>
          <p:nvPr/>
        </p:nvSpPr>
        <p:spPr>
          <a:xfrm>
            <a:off x="6934320" y="5359320"/>
            <a:ext cx="647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/>
          <p:nvPr/>
        </p:nvSpPr>
        <p:spPr>
          <a:xfrm>
            <a:off x="6932520" y="52912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"/>
          <p:cNvSpPr/>
          <p:nvPr/>
        </p:nvSpPr>
        <p:spPr>
          <a:xfrm>
            <a:off x="6726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1585800" y="1608120"/>
            <a:ext cx="5042160" cy="4905360"/>
          </a:xfrm>
          <a:prstGeom prst="rect">
            <a:avLst/>
          </a:prstGeom>
          <a:ln w="0">
            <a:noFill/>
          </a:ln>
        </p:spPr>
      </p:pic>
      <p:sp>
        <p:nvSpPr>
          <p:cNvPr id="1060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1679040" y="898560"/>
            <a:ext cx="2349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ferenc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rcRect l="38828" t="0" r="0" b="0"/>
          <a:stretch/>
        </p:blipFill>
        <p:spPr>
          <a:xfrm>
            <a:off x="806400" y="1405080"/>
            <a:ext cx="3659400" cy="411156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2"/>
          <a:srcRect l="36229" t="0" r="0" b="0"/>
          <a:stretch/>
        </p:blipFill>
        <p:spPr>
          <a:xfrm>
            <a:off x="4808520" y="1419120"/>
            <a:ext cx="3813120" cy="4110120"/>
          </a:xfrm>
          <a:prstGeom prst="rect">
            <a:avLst/>
          </a:prstGeom>
          <a:ln w="0">
            <a:noFill/>
          </a:ln>
        </p:spPr>
      </p:pic>
      <p:sp>
        <p:nvSpPr>
          <p:cNvPr id="1065" name="Espaço Reservado para Conteúdo 2"/>
          <p:cNvSpPr/>
          <p:nvPr/>
        </p:nvSpPr>
        <p:spPr>
          <a:xfrm>
            <a:off x="5452920" y="898560"/>
            <a:ext cx="27813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tomatic Interpre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"/>
          <p:cNvSpPr/>
          <p:nvPr/>
        </p:nvSpPr>
        <p:spPr>
          <a:xfrm>
            <a:off x="1295280" y="5759280"/>
            <a:ext cx="228600" cy="1270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Espaço Reservado para Conteúdo 2"/>
          <p:cNvSpPr/>
          <p:nvPr/>
        </p:nvSpPr>
        <p:spPr>
          <a:xfrm>
            <a:off x="1533600" y="5697360"/>
            <a:ext cx="180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Espaço Reservado para Conteúdo 2"/>
          <p:cNvSpPr/>
          <p:nvPr/>
        </p:nvSpPr>
        <p:spPr>
          <a:xfrm>
            <a:off x="3249720" y="5697360"/>
            <a:ext cx="153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dimentary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Espaço Reservado para Conteúdo 2"/>
          <p:cNvSpPr/>
          <p:nvPr/>
        </p:nvSpPr>
        <p:spPr>
          <a:xfrm>
            <a:off x="5383080" y="5695920"/>
            <a:ext cx="1233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lluvial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Espaço Reservado para Conteúdo 2"/>
          <p:cNvSpPr/>
          <p:nvPr/>
        </p:nvSpPr>
        <p:spPr>
          <a:xfrm>
            <a:off x="7209000" y="5695920"/>
            <a:ext cx="10126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servo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/>
          <p:nvPr/>
        </p:nvSpPr>
        <p:spPr>
          <a:xfrm>
            <a:off x="3022560" y="5759280"/>
            <a:ext cx="228600" cy="1270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"/>
          <p:cNvSpPr/>
          <p:nvPr/>
        </p:nvSpPr>
        <p:spPr>
          <a:xfrm>
            <a:off x="5153040" y="5759280"/>
            <a:ext cx="228600" cy="127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"/>
          <p:cNvSpPr/>
          <p:nvPr/>
        </p:nvSpPr>
        <p:spPr>
          <a:xfrm>
            <a:off x="6962760" y="5759280"/>
            <a:ext cx="228600" cy="127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Espaço Reservado para Conteúdo 2"/>
          <p:cNvSpPr/>
          <p:nvPr/>
        </p:nvSpPr>
        <p:spPr>
          <a:xfrm>
            <a:off x="2300400" y="6153120"/>
            <a:ext cx="23493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lobal Accuracy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0,953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Espaço Reservado para Conteúdo 2"/>
          <p:cNvSpPr/>
          <p:nvPr/>
        </p:nvSpPr>
        <p:spPr>
          <a:xfrm>
            <a:off x="4700520" y="6153120"/>
            <a:ext cx="234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Kappa Index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0,88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Rio de Janeiro, August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gilson@ele.puc-rio.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2" name="Espaço Reservado para Conteúdo 2"/>
          <p:cNvSpPr/>
          <p:nvPr/>
        </p:nvSpPr>
        <p:spPr>
          <a:xfrm>
            <a:off x="290520" y="1265400"/>
            <a:ext cx="84772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e interpretation based on a user-defined knowledge model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emantic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ecision r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era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ach 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emantic network the user can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ssign an oper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efine a decision 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33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97320" y="4022640"/>
            <a:ext cx="2819160" cy="1435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921360" y="4149720"/>
            <a:ext cx="124488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308240" y="3809880"/>
            <a:ext cx="1384200" cy="1855800"/>
            <a:chOff x="1308240" y="3809880"/>
            <a:chExt cx="1384200" cy="1855800"/>
          </a:xfrm>
        </p:grpSpPr>
        <p:pic>
          <p:nvPicPr>
            <p:cNvPr id="106" name="" descr=""/>
            <p:cNvPicPr/>
            <p:nvPr/>
          </p:nvPicPr>
          <p:blipFill>
            <a:blip r:embed="rId3"/>
            <a:srcRect l="0" t="0" r="0" b="22346"/>
            <a:stretch/>
          </p:blipFill>
          <p:spPr>
            <a:xfrm>
              <a:off x="1308240" y="3809880"/>
              <a:ext cx="138420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455840" y="5500800"/>
              <a:ext cx="164880" cy="16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9" name="Espaço Reservado para Conteúdo 2"/>
          <p:cNvSpPr/>
          <p:nvPr/>
        </p:nvSpPr>
        <p:spPr>
          <a:xfrm>
            <a:off x="290520" y="1265400"/>
            <a:ext cx="8655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 implement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generic segmentation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or complex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pecific feature extraction algorith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 are executable programs, external to the system core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ew operators can be easily 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uite of operators –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erraA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: region growing, checkerboard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arization (math band + threshol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file import and inters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ed classifier (C4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440" y="138600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113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a Knowledge Model – Semantic Net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17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1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20:37:11Z</dcterms:created>
  <dc:creator/>
  <dc:description/>
  <dc:language>en-US</dc:language>
  <cp:lastModifiedBy/>
  <dcterms:modified xsi:type="dcterms:W3CDTF">2011-08-03T22:02:32Z</dcterms:modified>
  <cp:revision>272</cp:revision>
  <dc:subject/>
  <dc:title>SISTEMAS NEURO-FUZZY PARA CLASSIFICACAO DE IMAGENS DE SENSORES REMO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6</vt:r8>
  </property>
  <property fmtid="{D5CDD505-2E9C-101B-9397-08002B2CF9AE}" pid="3" name="_Version">
    <vt:lpwstr>12.0.4518</vt:lpwstr>
  </property>
</Properties>
</file>