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9BE-EBB5-42FF-B902-66EF0FB65EC0}" type="slidenum">
              <a:rPr b="0" lang="pt-BR" sz="1400" spc="-1" strike="noStrike">
                <a:solidFill>
                  <a:srgbClr val="dddddd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EAA-4270-4603-9DC3-F57EB71379EE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, salvar o projeto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60640" y="422280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81440" y="2900520"/>
            <a:ext cx="34099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shapefile com uma pequena área de interesse (ROI) sobre uma região da 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3600" y="2155680"/>
            <a:ext cx="35780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75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68920" y="11206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11560" y="3255840"/>
            <a:ext cx="2762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9040" y="1849320"/>
            <a:ext cx="159084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13080" y="4103640"/>
            <a:ext cx="2943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8520" y="1519200"/>
            <a:ext cx="146700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98720" y="383076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h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0760" y="1797120"/>
            <a:ext cx="323856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37000" y="35337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scatter plot 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41600" y="2860560"/>
            <a:ext cx="4210200" cy="2038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62120" y="530064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70440" y="2714760"/>
            <a:ext cx="1371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4680" y="1074600"/>
            <a:ext cx="7981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66960" y="3243240"/>
            <a:ext cx="29145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bottom-up e top-down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2840" y="1874880"/>
            <a:ext cx="60516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shapefile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19840" y="337824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0600" y="1473120"/>
            <a:ext cx="1504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43200" y="257796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0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54120" y="370368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1:59:11Z</dcterms:modified>
  <cp:revision>29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