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8401320" y="-792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C2B2-57FF-43D4-A1B3-0582BA6121B7}" type="slidenum">
              <a:rPr b="0" lang="pt-BR" sz="1400" spc="-1" strike="noStrike">
                <a:solidFill>
                  <a:srgbClr val="dddddd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1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9342-09AF-4401-B0E7-79582293E0E3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Rio de Janeiro, Agosto de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shapefil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os recursos do projeto com o nom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ao nó Construções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C45_Classifi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nfigurando os atributos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raining Set 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put Shape 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aminar o resultado d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mais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as classes com maior confus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 amostras (sobrescrev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s resultados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Realizar uma limiarização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_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limiares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, salvar o projeto e re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44760" y="1819440"/>
            <a:ext cx="1638360" cy="923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625840" y="3452760"/>
            <a:ext cx="31240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6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marc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limpar o atributo</a:t>
            </a:r>
            <a:br>
              <a:rPr sz="1600"/>
            </a:b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on-Class nam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74840" y="1473120"/>
            <a:ext cx="1629000" cy="1247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60640" y="4222800"/>
            <a:ext cx="3133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6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, 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, 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nforme a figura abaix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spcBef>
                <a:spcPts val="130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81440" y="2900520"/>
            <a:ext cx="340992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shapefile com uma pequena área de interesse (ROI) sobre uma região da imagem com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file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dicioná-lo aos recursos do projeto com o nom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3280" indent="-393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03600" y="2155680"/>
            <a:ext cx="357804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751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ROI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 File Nam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roi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bel Image Resolu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NDVI_Segment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5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7400" indent="-4158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TopDown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568920" y="1120680"/>
            <a:ext cx="1428840" cy="876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11560" y="3255840"/>
            <a:ext cx="27622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à rede semântica, como filhos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5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reakpoin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 associar ao nó o operado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59040" y="1849320"/>
            <a:ext cx="1590840" cy="1486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313080" y="4103640"/>
            <a:ext cx="2943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TopDown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abilit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bug Mo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executar o projeto de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do a interpretação pausar, abri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Explor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638520" y="1519200"/>
            <a:ext cx="1467000" cy="1419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898720" y="3830760"/>
            <a:ext cx="2971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à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s atributo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trophyLayer4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tioLayer4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eaArb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mo na figura abaix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ttribute View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selecionar um dos novos atributos e pressionar o botão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ppl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Repetir a operação para outro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60760" y="1797120"/>
            <a:ext cx="3238560" cy="1143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537000" y="3533760"/>
            <a:ext cx="15238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Tool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gerar o histograma para um dos atributos e investigar limiares de seleçã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 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Repetir a operação para outro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rar um scatter plot para dois atributos e investigar linhas de seleçã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 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um critério de seleção como na figura abaixo à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depois o botão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Ru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41600" y="2860560"/>
            <a:ext cx="4210200" cy="2038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562120" y="5300640"/>
            <a:ext cx="37623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Realizar uma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a imagem (pan, zoom, mudança de composição de co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um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70440" y="2714760"/>
            <a:ext cx="13716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44680" y="1074600"/>
            <a:ext cx="798192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aminar visualmente os objetos que fazem parte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put Lay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utput Lay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critérios de seleção n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do satisfeito com os resultados, 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continuar a interpretação e avali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abilit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ir do modo de depuração, despressionando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bug Mo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3440" indent="-155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766960" y="3243240"/>
            <a:ext cx="29145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8 – Investigação de um projeto complex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brir o projet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audo_tessio_landcover.ga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examinar operadores, regras de decisão bottom-up e top-down associados aos diferente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82840" y="1874880"/>
            <a:ext cx="60516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Rio de Janeiro, Agosto de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Realizar uma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resultado da segmentação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cor da borda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parâmetros do operador top-down de segmentação (ou usar outro operador de segmentaçã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(segmentos)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shapefile aos recursos do projet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File/Edit Project..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shapefile através do InterIMAGE – criar um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001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shapefile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o shapefile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quad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o shapefile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shapefile de quadras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rnar invisível o shapefile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Quadras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Shape File Name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quadr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Shape File Attribute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CODI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Label Image Resolution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19840" y="3378240"/>
            <a:ext cx="1581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5840" indent="-41904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185840" indent="-41904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185840" indent="-41904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s resultados d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TopDown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3 – Realizar uma segmentação intra-regiões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resul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630600" y="1473120"/>
            <a:ext cx="1504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õe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lhado_Cerâm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nova composição colorida d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R4,G1,B2)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43200" y="2577960"/>
            <a:ext cx="1771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lecionar (clicar no)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sando para a segmentação o operador Top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_Baatz_Segmen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ale Parame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0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 amostras par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exportando os atributos como mostra a fig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54120" y="3703680"/>
            <a:ext cx="4591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8-03T21:59:11Z</dcterms:modified>
  <cp:revision>293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