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83400" cy="9169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8528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5636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1420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8528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5636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14200" y="443880"/>
            <a:ext cx="878688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42920" y="-1806840"/>
            <a:ext cx="88581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14200" y="443880"/>
            <a:ext cx="878688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18528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5636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1420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18528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5636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42920" y="-1806840"/>
            <a:ext cx="88581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03787640">
              <a:spcBef>
                <a:spcPts val="601"/>
              </a:spcBef>
              <a:buClr>
                <a:srgbClr val="3369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79" descr="logo_lvc"/>
          <p:cNvPicPr/>
          <p:nvPr/>
        </p:nvPicPr>
        <p:blipFill>
          <a:blip r:embed="rId2">
            <a:grayscl/>
          </a:blip>
          <a:stretch/>
        </p:blipFill>
        <p:spPr>
          <a:xfrm>
            <a:off x="8405640" y="6357960"/>
            <a:ext cx="562320" cy="3650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80" descr="logo_lvc_name"/>
          <p:cNvPicPr/>
          <p:nvPr/>
        </p:nvPicPr>
        <p:blipFill>
          <a:blip r:embed="rId3">
            <a:grayscl/>
          </a:blip>
          <a:stretch/>
        </p:blipFill>
        <p:spPr>
          <a:xfrm>
            <a:off x="6727680" y="6515280"/>
            <a:ext cx="1651320" cy="1918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" descr=""/>
          <p:cNvPicPr/>
          <p:nvPr/>
        </p:nvPicPr>
        <p:blipFill>
          <a:blip r:embed="rId4"/>
          <a:stretch/>
        </p:blipFill>
        <p:spPr>
          <a:xfrm>
            <a:off x="571680" y="6429240"/>
            <a:ext cx="620640" cy="3574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3" descr=""/>
          <p:cNvPicPr/>
          <p:nvPr/>
        </p:nvPicPr>
        <p:blipFill>
          <a:blip r:embed="rId5"/>
          <a:stretch/>
        </p:blipFill>
        <p:spPr>
          <a:xfrm>
            <a:off x="142920" y="6286680"/>
            <a:ext cx="419040" cy="46656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solidFill>
            <a:srgbClr val="477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5842080"/>
            <a:ext cx="132084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233280" y="6230880"/>
            <a:ext cx="590760" cy="50004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8401320" y="-792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EE9E-B00A-4EEB-B72F-5ED618D413D0}" type="slidenum">
              <a:rPr b="0" lang="pt-BR" sz="1400" spc="-1" strike="noStrike">
                <a:solidFill>
                  <a:srgbClr val="dddddd"/>
                </a:solidFill>
                <a:latin typeface="Arial Blac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"/>
          <p:cNvSpPr/>
          <p:nvPr/>
        </p:nvSpPr>
        <p:spPr>
          <a:xfrm>
            <a:off x="0" y="3505320"/>
            <a:ext cx="9144000" cy="114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1000080"/>
            <a:ext cx="9144000" cy="2643120"/>
          </a:xfrm>
          <a:prstGeom prst="rect">
            <a:avLst/>
          </a:prstGeom>
          <a:solidFill>
            <a:srgbClr val="477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0" y="4646520"/>
            <a:ext cx="9144000" cy="27000"/>
          </a:xfrm>
          <a:prstGeom prst="rect">
            <a:avLst/>
          </a:prstGeom>
          <a:solidFill>
            <a:srgbClr val="477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285840" y="214200"/>
            <a:ext cx="1049400" cy="1857600"/>
          </a:xfrm>
          <a:prstGeom prst="rect">
            <a:avLst/>
          </a:prstGeom>
          <a:ln w="9360">
            <a:solidFill>
              <a:srgbClr val="595959"/>
            </a:solidFill>
            <a:miter/>
          </a:ln>
        </p:spPr>
      </p:pic>
      <p:pic>
        <p:nvPicPr>
          <p:cNvPr id="51" name="Picture 79" descr="logo_lvc"/>
          <p:cNvPicPr/>
          <p:nvPr/>
        </p:nvPicPr>
        <p:blipFill>
          <a:blip r:embed="rId3">
            <a:grayscl/>
          </a:blip>
          <a:stretch/>
        </p:blipFill>
        <p:spPr>
          <a:xfrm>
            <a:off x="8215200" y="6072120"/>
            <a:ext cx="642960" cy="417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0" descr="logo_lvc_name"/>
          <p:cNvPicPr/>
          <p:nvPr/>
        </p:nvPicPr>
        <p:blipFill>
          <a:blip r:embed="rId4">
            <a:grayscl/>
          </a:blip>
          <a:stretch/>
        </p:blipFill>
        <p:spPr>
          <a:xfrm>
            <a:off x="7215120" y="6500880"/>
            <a:ext cx="1650960" cy="191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03787640">
              <a:spcBef>
                <a:spcPts val="601"/>
              </a:spcBef>
              <a:buClr>
                <a:srgbClr val="a96d2b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600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a0a0a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9EC4-A929-4185-AE2E-67D066C77372}" type="datetime">
              <a:rPr b="0" lang="pt-BR" sz="2400" spc="-1" strike="noStrike">
                <a:solidFill>
                  <a:srgbClr val="a0a0a0"/>
                </a:solidFill>
                <a:latin typeface="Times New Roman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695400"/>
            <a:ext cx="85582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ddddd"/>
                </a:solidFill>
                <a:latin typeface="Arial Black"/>
              </a:rPr>
              <a:t>InterIMAGE Workshop – Exercícios</a:t>
            </a:r>
            <a:br>
              <a:rPr sz="2200"/>
            </a:br>
            <a:r>
              <a:rPr b="0" lang="en-US" sz="2200" spc="-1" strike="noStrike">
                <a:solidFill>
                  <a:srgbClr val="dddddd"/>
                </a:solidFill>
                <a:latin typeface="Arial Black"/>
              </a:rPr>
              <a:t>Rio de Janeiro, Agosto de 201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600" y="4743360"/>
            <a:ext cx="6934320" cy="13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ilson A. O. P. Co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Rodrigo S. Ferrei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97000" y="5918040"/>
            <a:ext cx="860400" cy="729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00720" y="-177840"/>
            <a:ext cx="286704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4 – Realizar uma classificação supervisionada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1800"/>
              </a:spcBef>
              <a:buClr>
                <a:srgbClr val="336699"/>
              </a:buClr>
              <a:buSzPct val="130000"/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o shapefil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mostras.shp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aos recursos do projeto com o nom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most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800"/>
              </a:spcBef>
              <a:buClr>
                <a:srgbClr val="336699"/>
              </a:buClr>
              <a:buSzPct val="130000"/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800"/>
              </a:spcBef>
              <a:buClr>
                <a:srgbClr val="336699"/>
              </a:buClr>
              <a:buSzPct val="130000"/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ao nó Construções o operador top-down (multi-class)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C45_Classifie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configurando os atributos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raining Set Fil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Input Shape Fil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most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800"/>
              </a:spcBef>
              <a:buClr>
                <a:srgbClr val="336699"/>
              </a:buClr>
              <a:buSzPct val="130000"/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 e 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800"/>
              </a:spcBef>
              <a:buClr>
                <a:srgbClr val="336699"/>
              </a:buClr>
              <a:buSzPct val="130000"/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aminar o resultado d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800"/>
              </a:spcBef>
              <a:buClr>
                <a:srgbClr val="336699"/>
              </a:buClr>
              <a:buSzPct val="130000"/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letar mais amostras a partir d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amples Edito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as classes com maior confus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800"/>
              </a:spcBef>
              <a:buClr>
                <a:srgbClr val="336699"/>
              </a:buClr>
              <a:buSzPct val="130000"/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shapefile com amostras (sobrescrever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mostras.shp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800"/>
              </a:spcBef>
              <a:buClr>
                <a:srgbClr val="336699"/>
              </a:buClr>
              <a:buSzPct val="130000"/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portar os resultados para um shape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5 – Realizar uma limiarização (1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projeto de interpretação adicionando a imag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ijuca.t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rede semântica com os nós: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Não_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o operador top-down (multi-class)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Arithmetic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m os seguintes atribut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 e 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lterar os limiares (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hreshold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, salvar o projeto e re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344760" y="1819440"/>
            <a:ext cx="1638360" cy="9237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625840" y="3452760"/>
            <a:ext cx="312408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6 – Realizar uma limiarização (2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b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à rede semântica do exercício anteri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smarcar o atribut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Multi-Clas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limpar o atributo</a:t>
            </a:r>
            <a:br>
              <a:rPr sz="1600"/>
            </a:b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Non-Class nam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alterar o valor do atribut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Reliability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0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b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o operador top-down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Arithmetic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m os seguintes atribut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174840" y="1473120"/>
            <a:ext cx="1629000" cy="12477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960640" y="4222800"/>
            <a:ext cx="3133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6 – Realizar uma limiarização (2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47120" indent="-425160">
              <a:spcBef>
                <a:spcPts val="1301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, executar a interpretação e observar os result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spcBef>
                <a:spcPts val="1301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lterar o atribut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Reliability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spcBef>
                <a:spcPts val="1301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, executar a interpretação e observar os result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spcBef>
                <a:spcPts val="1301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o layer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braTD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conforme a figura abaix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spcBef>
                <a:spcPts val="1301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spcBef>
                <a:spcPts val="1301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spcBef>
                <a:spcPts val="1301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spcBef>
                <a:spcPts val="1301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spcBef>
                <a:spcPts val="1301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spcBef>
                <a:spcPts val="1301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spcBef>
                <a:spcPts val="1301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spcBef>
                <a:spcPts val="1301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Visualizar o layer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braTD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881440" y="2900520"/>
            <a:ext cx="3409920" cy="20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7 – Depuração e Exploração de Atributos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13280" indent="-393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projeto de interpretação adicionando a imag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ijuca.t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3280" indent="-393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shapefile com uma pequena área de interesse (ROI) sobre uma região da imagem com 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hapefile Edito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3280" indent="-393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3280" indent="-393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3280" indent="-393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3280" indent="-393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3280" indent="-393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3280" indent="-393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3280" indent="-393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3280" indent="-393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3280" indent="-393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3280" indent="-393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3280" indent="-393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3280" indent="-393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shapefile como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oi.shp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adicioná-lo aos recursos do projeto com o nom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oi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3280" indent="-393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703600" y="2155680"/>
            <a:ext cx="3578040" cy="33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7 – Depuração e Exploração de Atributos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37400" indent="-4158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rede semântica com os nós: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OI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7400" indent="-4158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7400" indent="-415800">
              <a:spcBef>
                <a:spcPts val="751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37400" indent="-4158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ROI o operador top-down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ShapeFile_Import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com os seguintes atributos: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hape File Nam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=roi;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Label Image Resolutio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=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7400" indent="-4158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o operador top-down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NDVI_Segmente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com os seguintes atribu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7400" indent="-4158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7400" indent="-4158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7400" indent="-4158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7400" indent="-4158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7400" indent="-415800">
              <a:spcBef>
                <a:spcPts val="1500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7400" indent="-4158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ditar a regra de decisão TopDown d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 adicionar a class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selecionar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Merge Al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568920" y="1120680"/>
            <a:ext cx="1428840" cy="876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211560" y="3255840"/>
            <a:ext cx="276228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7 – Depuração e Exploração de Atributos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 e 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à rede semântica, como filhos d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os nós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rbóre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astei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500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lterar o valor do atribut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Breakpoint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rbóre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opDow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a associar ao nó o operador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Baatz_Segmente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com os seguintes atribut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59040" y="1849320"/>
            <a:ext cx="1590840" cy="1486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313080" y="4103640"/>
            <a:ext cx="29433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7 – Depuração e Exploração de Atributos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ditar a regra de decisão TopDown d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rbóre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 adicionar a class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rbóre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sabilitar 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astei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essionar o bot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Debug Mod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executar o projeto de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uando a interpretação pausar, abrir 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Analysis Explore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638520" y="1519200"/>
            <a:ext cx="1467000" cy="1419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898720" y="3830760"/>
            <a:ext cx="2971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7 – Depuração e Exploração de Atributos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à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Decision Tre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os atributos: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ntrophyLayer4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atioLayer4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;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reaArb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como na figura abaix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essionar o bot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o painel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Control Pane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essionar o bot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Attribute View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o painel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Control Pane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selecionar um dos novos atributos e pressionar o botão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Apply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 Repetir a operação para outros atribu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660760" y="1797120"/>
            <a:ext cx="3238560" cy="1143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537000" y="3533760"/>
            <a:ext cx="152388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7 – Depuração e Exploração de Atributos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essionar o bot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Analysis Tools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o painel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Control Pane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gerar o histograma para um dos atributos e investigar limiares de seleção (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election Threshold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. Repetir a operação para outros atribu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erar um scatter plot para dois atributos e investigar linhas de seleção (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election Lin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um critério de seleção como na figura abaixo à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Decision Tre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essionar o bot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election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o painel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Control Panel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 depois o botão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 Ru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541600" y="2860560"/>
            <a:ext cx="4210200" cy="20383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562120" y="5300640"/>
            <a:ext cx="37623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1 – Realizar uma segmentação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projeto de interpretação adicionando a imag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ijuca.t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vestigar as possibilidades de visualização da imagem (pan, zoom, mudança de composição de core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rede com um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gment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gment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um operador top-down de segmentaçã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21600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TA_Baatz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21600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TA_Region_Growing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21600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TA_Checkerboard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21600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 e 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870440" y="2714760"/>
            <a:ext cx="137160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7 – Depuração e Exploração de Atributos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44680" y="1074600"/>
            <a:ext cx="7981920" cy="13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63440" indent="-155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aminar visualmente os objetos que fazem parte d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Input Laye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d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Output Laye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3440" indent="-155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lterar os critérios de seleção na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Decision Tre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pressionar o bot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Control Pan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3440" indent="-155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uando satisfeito com os resultados, pressionar o bot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3440" indent="-155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essionar o bot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Continu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continuar a interpretação e avaliar os result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3440" indent="-155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3440" indent="-155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3440" indent="-155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3440" indent="-155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Habilitar 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astei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na rede semân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3440" indent="-155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ir do modo de depuração, despressionando o bot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Debug Mod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3440" indent="-155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 e 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766960" y="3243240"/>
            <a:ext cx="29145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8 – Investigação de um projeto complexo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brir o projeto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laudo_tessio_landcover.gap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examinar operadores, regras de decisão bottom-up e top-down associados aos diferentes nós da rede semân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482840" y="1874880"/>
            <a:ext cx="605160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240" y="3695400"/>
            <a:ext cx="85582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ddddd"/>
                </a:solidFill>
                <a:latin typeface="Arial Black"/>
              </a:rPr>
              <a:t>InterIMAGE Workshop – Exercícios</a:t>
            </a:r>
            <a:br>
              <a:rPr sz="2200"/>
            </a:br>
            <a:r>
              <a:rPr b="0" lang="en-US" sz="2200" spc="-1" strike="noStrike">
                <a:solidFill>
                  <a:srgbClr val="dddddd"/>
                </a:solidFill>
                <a:latin typeface="Arial Black"/>
              </a:rPr>
              <a:t>Rio de Janeiro, Agosto de 201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28600" y="4743360"/>
            <a:ext cx="6934320" cy="13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ilson A. O. P. Co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Rodrigo S. Ferrei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97000" y="5918040"/>
            <a:ext cx="860400" cy="729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300720" y="-177840"/>
            <a:ext cx="286704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1 – Realizar uma segmentação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2001"/>
              </a:spcBef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vestigar as possibilidades de visualização do resultado da segmentação através do painel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Layer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(cor da borda, opacidad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001"/>
              </a:spcBef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lterar os parâmetros do operador top-down de segmentação (ou usar outro operador de segmentaçã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001"/>
              </a:spcBef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 e 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001"/>
              </a:spcBef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portar o resultado (segmentos) para um shape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001"/>
              </a:spcBef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o shapefile aos recursos do projeto (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File/Edit Project...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001"/>
              </a:spcBef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Visualizar o shapefile através do InterIMAGE – criar uma camada do tip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hap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através do painel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Layer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001"/>
              </a:spcBef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vestigar as possibilidades de visualização do shapefile através do painel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Layer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(cor da borda, preenchimento, opacidad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2 – Realizar uma segmentação intra-regiões (1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56840" indent="-43416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projeto de interpretação adicionando a imag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ijuca.tif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 o shapefile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quadras.shp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camada do tip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hap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através do painel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Layer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o shapefile de quad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vestigar as possibilidades de visualização do shapefile de quadras (cor da borda, preenchimento, opacidad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ornar invisível o shapefile de quad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rede com os nós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d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gment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Quadras o operador top-down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ShapeFile_Import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com os seguintes atributo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0600" indent="-29232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>
                <a:solidFill>
                  <a:srgbClr val="000000"/>
                </a:solidFill>
                <a:latin typeface="Arial"/>
              </a:rPr>
              <a:t>Shape File Name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= quadr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020600" indent="-29232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>
                <a:solidFill>
                  <a:srgbClr val="000000"/>
                </a:solidFill>
                <a:latin typeface="Arial"/>
              </a:rPr>
              <a:t>Shape File Attribute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= CODI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020600" indent="-29232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>
                <a:solidFill>
                  <a:srgbClr val="000000"/>
                </a:solidFill>
                <a:latin typeface="Arial"/>
              </a:rPr>
              <a:t>Label Image Resolution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919840" y="3378240"/>
            <a:ext cx="158112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2 – Realizar uma segmentação intra-regiões (1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gment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um operador top-down de segmentaçã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85840" indent="-41904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TA_Baatz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185840" indent="-41904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TA_Checkerboard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185840" indent="-41904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TA_Region_Growing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ecutar a interpretação, observando os contadores de processos ao lado dos nós da rede semân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Visualizar os resultados d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lapsar 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d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observar os atributos dos objetos no painel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Object Informatio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2 – Realizar uma segmentação intra-regiões (1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ditar a regra de decisão TopDown d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d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 adicionar a class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d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selecionar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Merge Al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ecutar a interpretação, observando os contadores de processos ao lado dos nós da rede semân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lapsar 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d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observar os atributos dos objetos no painel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Object Informatio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3 – Realizar uma segmentação intra-regiões (2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u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à rede semântica do exercício anterio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 e 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Visualizar o result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630600" y="1473120"/>
            <a:ext cx="15048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4 – Realizar uma classificação supervisionada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projeto de interpretação adicionando a imag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ijuca.t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rede semântica com os nós: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nstruçõe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elhado_Cerâmic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;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b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nova composição colorida da imag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ijuca.tif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(R4,G1,B2) através do painel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Layer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643200" y="2577960"/>
            <a:ext cx="17719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4 – Realizar uma classificação supervisionada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lecionar (clicar no)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e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letar amostras a partir d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amples Edito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usando para a segmentação o operador TopDown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_Baatz_Segmen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cale Parame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100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shapefile com amostras para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mostras.shp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sem fechar 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amples Edito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exportando os atributos como mostra a figu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454120" y="3703680"/>
            <a:ext cx="459108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6T20:37:11Z</dcterms:created>
  <dc:creator/>
  <dc:description/>
  <dc:language>en-US</dc:language>
  <cp:lastModifiedBy/>
  <dcterms:modified xsi:type="dcterms:W3CDTF">2011-08-03T21:59:11Z</dcterms:modified>
  <cp:revision>293</cp:revision>
  <dc:subject/>
  <dc:title>SISTEMAS NEURO-FUZZY PARA CLASSIFICACAO DE IMAGENS DE SENSORES REMOT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LCID">
    <vt:r8>1046</vt:r8>
  </property>
  <property fmtid="{D5CDD505-2E9C-101B-9397-08002B2CF9AE}" pid="3" name="_Version">
    <vt:lpwstr>12.0.4518</vt:lpwstr>
  </property>
</Properties>
</file>