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8401320" y="-79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A090-EF6F-4D11-A50F-C6D3A40B8770}" type="slidenum">
              <a:rPr b="0" lang="pt-BR" sz="1400" spc="-1" strike="noStrike">
                <a:solidFill>
                  <a:srgbClr val="dddddd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1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A8E-5ADF-4DD5-9FDA-0DA2A7B2D7F0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gosto de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Construções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nfigurando os atributos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raining Set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Shape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o resultado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as classes com maior confu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(sobrescrev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s resultados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, salvar o projeto e re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4760" y="181944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25840" y="3452760"/>
            <a:ext cx="3124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limpar o atributo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on-Class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74840" y="14731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60640" y="4222800"/>
            <a:ext cx="3133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81440" y="2900520"/>
            <a:ext cx="340992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shapefile com uma pequena área de interesse (ROI) sobre uma região da imagem com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file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dicioná-lo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03600" y="2155680"/>
            <a:ext cx="357804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75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ROI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roi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NDVI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5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68920" y="1120680"/>
            <a:ext cx="1428840" cy="87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11560" y="3255840"/>
            <a:ext cx="2762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rede semântica, como filhos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5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reakpoin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associar ao nó 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59040" y="1849320"/>
            <a:ext cx="1590840" cy="1486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313080" y="4103640"/>
            <a:ext cx="2943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ecutar o projeto de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a interpretação pausar, abri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38520" y="1519200"/>
            <a:ext cx="1467000" cy="1419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98720" y="3830760"/>
            <a:ext cx="2971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atributo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ophy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tio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eaAr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o na figura abaix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ttribute View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selecionar um dos novos atributos e pressionar o botã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ppl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60760" y="1797120"/>
            <a:ext cx="323856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537000" y="3533760"/>
            <a:ext cx="1523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Tool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gerar o histograma para um dos atributos e investigar limiare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r um scatter plot para dois atributos e investigar linha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um critério de seleção como na figura abaixo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depois o botão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41600" y="2860560"/>
            <a:ext cx="4210200" cy="2038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62120" y="5300640"/>
            <a:ext cx="3762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pan, zoom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70440" y="2714760"/>
            <a:ext cx="1371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4680" y="1074600"/>
            <a:ext cx="79819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visualmente os objetos que fazem part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ut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critérios de seleção n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satisfeito com os resultados,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continuar a interpretação e avali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ir do modo de depuração, despressionando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66960" y="3243240"/>
            <a:ext cx="29145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8 – Investigação de um projeto complex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projet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audo_tessio_landcover.ga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aminar operadores, regras de decisão bottom-up e top-down associados aos diferente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82840" y="1874880"/>
            <a:ext cx="60516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gosto de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top-down de segmentação (ou usar outro operador de segmenta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aos recursos do projet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ile/Edit Project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shapefile através do InterIMAGE – 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shapefile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shapefile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rnar invisível 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Quadras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Nam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quadr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Attribut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CODI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Label Image Resolution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19840" y="337824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s resultados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Realizar uma segmentação intra-regiõe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30600" y="1473120"/>
            <a:ext cx="1504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R4,G1,B2)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43200" y="2577960"/>
            <a:ext cx="177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(clicar no)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sando para a segmentação o operador Top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_Baatz_Segm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ale Param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0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exportando os atributos como mostra a fig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54120" y="3703680"/>
            <a:ext cx="4591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8-03T21:59:11Z</dcterms:modified>
  <cp:revision>293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