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29.png" ContentType="image/png"/>
  <Override PartName="/ppt/media/image27.wmf" ContentType="image/x-wmf"/>
  <Override PartName="/ppt/media/image26.wmf" ContentType="image/x-wmf"/>
  <Override PartName="/ppt/media/image5.png" ContentType="image/png"/>
  <Override PartName="/ppt/media/image13.wmf" ContentType="image/x-wmf"/>
  <Override PartName="/ppt/media/image3.png" ContentType="image/png"/>
  <Override PartName="/ppt/media/image11.wmf" ContentType="image/x-wmf"/>
  <Override PartName="/ppt/media/image17.jpeg" ContentType="image/jpeg"/>
  <Override PartName="/ppt/media/image20.jpeg" ContentType="image/jpeg"/>
  <Override PartName="/ppt/media/image12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9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76704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2F6AC6-E6BE-482C-B110-028062875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74C184-20CC-4F6C-955E-E82CE2774D6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67E868-3F72-44BB-8869-AB7F4A243E5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40630D-E26E-408A-AB1A-AE2EA78EBDA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7B8F57-ADBA-4B3B-86B9-2EFE529FCF8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613DD5-B7F7-4BE6-AEF7-A098DE71A8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52716-0B6A-4092-B628-00F99E886F0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D88B8E-5B65-40B3-A519-65FF8FF9180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A2BD0-E201-45FB-8E6B-6536E355193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42D45-61A9-4335-9966-5ABFC839585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BDCA93-92A0-4CC2-97EC-2BCCCE2D4CE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4F859-1024-45B8-8EDC-E43319AABE2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F3399-BDE5-43CF-B24E-FB7FDB298BD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7F8154-9EF6-41DF-88B9-5EB2F360435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338DE5-CEF7-4219-92CC-EF5350D6F28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D9796F-4DC1-4BD3-84F6-75915EC4B73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78BB2-7723-416D-BF67-0C6120A470A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A05CE5-FBB1-4B88-846C-9FE0670824A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80704-5F40-4740-97D5-1A7847DD491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F96CF-6879-4968-B20C-FC0B1F17EDF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3093EB-BB4B-4A5B-A8A6-B4DAE1B5442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BC5C03-9BA6-4B29-8EA5-C0AFA77BB91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dfsdfsdfsdfsdfs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5F6B5-5D76-4388-BD2D-BDB5C23BD43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521693-F931-498B-8053-3C7D3192EF1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ADFC0C-5DA7-4AAD-8C64-B6C0C0CDD47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214247-FEF2-4BE0-B805-064005FD45A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7DC2E6-D30E-4DA4-8D28-FD7D8DFB42C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7F365D-3E1F-4E98-AEB5-CDB62EC2EC4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45FA57-F602-458E-8B4F-B7F4BEC4C3A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40D113-3C77-4FD4-B4CF-866209874DB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E91EC9-A407-4DA1-AD82-B3039E1FB56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ECCC2-CB41-44BE-8B94-6B5658212B3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33DC4B-73A2-4892-8FF5-057881B2A1A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3F991B-7AF0-4BA8-B3C4-DA91B13D3EB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5658-5E5F-4851-ACAE-ED9E9B55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74EB-5C6D-4AC0-8B05-CBEB2B70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984BF-A48B-4F46-A339-459B941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AECADD-8FB3-4214-A717-6209FB88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ECD4E2-41E0-4CF9-B091-1AC3F8DE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F09E1-0144-42A9-8DC6-64C52E0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AE1D3F-28DD-459D-A443-B146ACAE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84E74-0E42-46FE-AFB3-7561EA7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5258C-BBF6-4AB2-93A2-71906CCB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37C6BF-83F2-42A6-8467-4C0142B0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190011-4EA1-4D29-9A9A-26BA7FBC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2CD028-9C8B-4BE7-A889-226F5798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371C-AAE3-4AE4-A5ED-23FABAAF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186C3-4277-4296-9042-A7A330A4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135E9-121F-4DAE-82EF-17A08A70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812746-245C-436D-9E38-0B0D42C2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77123-0B12-4DAC-903E-47C4D8F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38A517-E77C-4CA5-9CB3-800297F0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9736E-69C8-492B-A28C-081302F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CA8ECB-C8B1-4F42-9A77-1611FD07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4E2817-00BC-49A8-A677-C3FDA0F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9970F6-7017-4946-B3C5-EB32E9BA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AF773D-2F6B-421D-9771-7159F099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DCB0-8E64-40B0-AA0B-6DE93F6C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14E128-558E-40DF-975F-379F93C1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AA4DF7-83A7-4DCC-A014-8E4C1D24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2E2370-ECAA-420A-94D9-257AD257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50B769-7463-4708-AAD0-1CFD30FD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ED30A0-81FA-4776-A85B-D764A06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AECE53-3DCD-41E0-A44F-A2B1DC63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FC80F9-FAAA-4222-93AA-216A0516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41922C-C436-4778-B0D5-4664EB85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6EE1B5-B9B7-4F98-8EB7-F974A953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435339-3476-4406-88E1-F2CC4466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4C1C-6B96-4B7F-AFAF-EA38698E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2B2D06-ED15-4B0C-8520-0B16D45F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4CCDBB-1B61-4163-A113-BA73CE45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6E0BB4-BC61-4143-A45E-8203C6D8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D340B7-DD57-4286-BBDA-70C763AC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E204BA-34CB-4F9B-B662-163E3F28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4B625F-26C7-4272-9419-98C5EE22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6285C1-DAF9-4DA4-B1E2-4C39C914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817ECD-94F0-45CD-A46A-3344B525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CA63D6-BE1A-4A60-A04D-0069B8DB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3792B6-F1E3-4421-80F3-65AFC3C2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9526-675C-49B9-A435-B4C0D6A7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4018A3-3148-4C03-9926-9FB8356F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3AB28D-3449-453C-BCC1-6B74577C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C55247-5266-454D-BF52-444B47BF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06CEF5-35F4-4624-8A54-89CC02F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F137A8-C303-40BD-B43C-5983B2DA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32AF60-AE53-4E72-9A42-F63DDACD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F5EA33-ABEF-4458-B5CE-1706D73E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3FA8E0-392D-4A90-99B6-8519BEEB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8E8D9A-9A28-4E0A-93BD-80E1441B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FB7910-7EDE-4776-A109-A2F01A93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6E32-E113-492E-9432-B4731636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B9BF37-A1EB-4353-AF9D-020CAAF4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46D353-C4FE-40B9-8DD7-BA16D973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35CA83-6021-42D2-9A98-E70E715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7F1231-FA73-4C1B-8A34-9569AB5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9F574B-C483-460D-93FF-347B5AD4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BA1BD6-ABE4-43EC-A153-DCE3F4D7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3C149D-775B-4304-BC4D-C56D4E77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84B870-87F0-4FE8-A082-0984FF99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974AD5-01BC-4B75-9B1E-89BBA2A4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530E40-F846-4D8B-87CF-C6686E1C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42F4-3B77-4404-A31C-A59BA3E3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8A12F9-E062-48CF-ADCC-05CC954F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651FB4-C865-4AAF-B75C-D679BF27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137188-311E-4F60-BC9B-6E9F4CFE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532621-A4C3-4703-ACA5-89B6BC0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C3F9EE-9206-4F7E-B9F5-CBC3EE9B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7A6A0D-41AD-4CE1-A43B-D3A1052B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3B7084-EC51-4D14-AEC5-56A89E41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9A3531-FBFC-41C6-8716-C1733392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5F6808-5887-464B-8585-C4C4C6D3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1600-65B0-4C20-BEDA-BF61C81B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9859-765C-42FA-AE3A-05496418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6109-9F53-4676-9115-8E39D83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A6A6-41BE-4DCD-B105-26E5B95A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314D-2F6A-4355-BEF4-02AAAC49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347C-089F-479F-ADDE-D2640F06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2CED-AB97-4231-8F28-C6CD9ADC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1DD1-1FBB-4901-83FF-F2B19964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10ED-65DB-4415-91B9-8D806756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A038-F762-4608-A2C0-8C5A314D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83AF3-D919-477F-8299-A5A0F501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14210-1792-4C19-8462-9E9361DE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8D738-FEA0-4DDC-BA5B-979578A1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32F6-0DC8-4CCA-A6B9-CE5D29B4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2D359-65D8-4031-9D43-CFE886EB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E38C7-ED14-46EA-8338-91A4018C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9810F-3E1F-46CA-A0D1-087D552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EB023-A855-45DB-A976-ED9D8A31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C8DB0-CAA9-4E20-BC93-2A2CBF9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F452F-00CC-4C97-AAE2-9EB3371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EEE56-BB17-4505-BB72-29C22F2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EDDB9-7C93-4633-8007-0A2A24D4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947A6-1486-4F46-8E02-5444CBF1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BA0CB-F08C-40AA-B64A-F2913EAD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04A2-6FD1-47D8-8A31-DA434416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BD1D3-CD9C-43FC-BD32-78A256A1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86DB7-464C-4584-8D44-D52F3445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CC9AE-26D3-4A08-A59F-712DBA9B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C8920-C455-4A31-A9C1-7A4E7E00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E2176-3C11-4FBE-BF03-28C28FF3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EB2D5-38C4-4501-95E5-EA0FFFB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B15D1-25F1-4062-8C49-E2C87EB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F1910-4350-434B-B0DE-F595161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D061E-610A-4D89-AC7A-8FE02315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0F834-2260-47DB-B60A-09E85275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75C6-9C09-4415-B86D-3D2E6DF9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85A57-1B8A-4400-ADF2-4591A47A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432F4-F006-4114-B4EF-7FB97C37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C2889-634B-4316-B15D-F2BFF9E2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71F6E-2F33-4E52-8B1B-F10D24E1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1254C-7EA5-4087-9D6B-22F4A8EF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4A453-5571-4E7D-BD8E-FBC904A8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04A0E-5CEC-4412-BE17-1F8CC607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C9478-D439-4A27-AD28-FF33662C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3CD5B-9FEB-48E4-816D-6106765A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99FE0-7FC8-4DE7-B5C6-7FC37008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15C3-D7A6-4556-A993-776224FD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C2FEF-C305-492C-8F52-ACB26FDB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3539E-C89B-4096-8925-152F900E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B57DA-EA1C-4E56-A138-799B9695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911BC-8CDD-4984-A172-71F48C67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8D914-ECE9-4B6E-B1C7-BC4CEEC0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E0198-7714-4274-8AB1-BE8FAAE4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2F042-CA4A-455B-A5C6-5AB1CCE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90096-5897-4924-9DCB-26E3D76A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5043C-99F5-4628-B5C6-2052A4A4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DE07C-C1E5-4FAB-B30B-00DFBAF5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2513-699D-4ECB-870E-70185368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7D750-3412-4700-A2EE-93BF3612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5A95F-62B6-4C3A-9C24-C06B2D1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2D35E-BBDE-46EB-AE88-4E660DE2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2F9DC-1285-4DB4-98BC-75DD5FBA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0650E-7088-4480-9220-587E7CB3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8CE96-238F-4981-A826-DAB23DA1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04F81-3694-4D31-B915-2D80F293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8A3AE-D637-4164-8967-BFE6163A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2F169-4E41-466F-891C-7BE347E0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4DF9B-D594-421F-B51C-59BF064D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827A-31CC-4762-88B0-B03AE0B0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5E82A-3A77-4A74-ADBD-E3981AA0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5A5E4-C237-4FFE-A901-52473AD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53543-FEC7-4A1B-92DE-E987417C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059E6-086A-422B-BA0F-971DB406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B2D61-3D92-4842-A03C-EC8FFE80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AE384-D7CF-4803-821F-5927C6DE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0AA57-166B-4849-9F23-E8F7EB28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7F5DE-89D7-47A1-A656-9424E2DF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426E60-B0A9-4F60-8841-87BCC9FE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E5E5FE-A488-4602-9DCB-D92C4E76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9DBF-5A1F-4D93-923C-3B91787610D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5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6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2154-8254-4C3B-8D88-AB835906C2D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dt" idx="27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28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9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73A-E257-4D76-AB2F-B6C1AA4D0B8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dt" idx="30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70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31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3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D500-DD4F-48FD-A4C1-FB60AF35DEA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dt" idx="33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13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34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35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9E82-3489-4E30-8519-2157A98A195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dt" idx="36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5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37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54E6-D762-4FDD-BFDC-4B255224608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39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SET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D3C8-0BDA-4853-BC63-7AFFAB2A441B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0" y="762120"/>
            <a:ext cx="9142560" cy="1904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0099cc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7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4560-018A-4ECE-B269-EC9D59B7258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9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0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1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1B36-73BD-4131-AAE1-F2A22682AF5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2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3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5229-99AC-4110-B629-400380CB010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15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6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7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15FA-D962-417C-8565-5C997F2CB8E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dt" idx="18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19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0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2474-0B5E-4423-966B-819DC0B7B66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1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2A51-D2F0-4666-A77A-BC56240FC12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8.png"/><Relationship Id="rId5" Type="http://schemas.openxmlformats.org/officeDocument/2006/relationships/image" Target="../media/image20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Object 1031"/>
          <p:cNvGraphicFramePr/>
          <p:nvPr/>
        </p:nvGraphicFramePr>
        <p:xfrm>
          <a:off x="685800" y="2490840"/>
          <a:ext cx="495288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90840"/>
                    <a:ext cx="495288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666520" y="10663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tatística Espacial</a:t>
            </a:r>
            <a:br>
              <a:rPr sz="3200"/>
            </a:br>
            <a:br>
              <a:rPr sz="7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nálise de Padrões de Distribuição de Pont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8" name="Text Box 1028"/>
          <p:cNvSpPr/>
          <p:nvPr/>
        </p:nvSpPr>
        <p:spPr>
          <a:xfrm>
            <a:off x="5268960" y="6477120"/>
            <a:ext cx="38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INPE - Divisão de Processamento de Imagen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FFCE-0E25-4783-9F72-20F5EC180CC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3" name="Text Box 1027"/>
          <p:cNvSpPr/>
          <p:nvPr/>
        </p:nvSpPr>
        <p:spPr>
          <a:xfrm>
            <a:off x="228600" y="684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figura abaixo apresenta quatro padrões de pontos (A, B, C e D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734" name="Group 1089"/>
          <p:cNvGrpSpPr/>
          <p:nvPr/>
        </p:nvGrpSpPr>
        <p:grpSpPr>
          <a:xfrm>
            <a:off x="5867280" y="2827440"/>
            <a:ext cx="2082960" cy="1981080"/>
            <a:chOff x="5867280" y="2827440"/>
            <a:chExt cx="2082960" cy="1981080"/>
          </a:xfrm>
        </p:grpSpPr>
        <p:sp>
          <p:nvSpPr>
            <p:cNvPr id="735" name="Oval 1090"/>
            <p:cNvSpPr/>
            <p:nvPr/>
          </p:nvSpPr>
          <p:spPr>
            <a:xfrm>
              <a:off x="6374160" y="3485880"/>
              <a:ext cx="127080" cy="134640"/>
            </a:xfrm>
            <a:prstGeom prst="ellipse">
              <a:avLst/>
            </a:prstGeom>
            <a:solidFill>
              <a:srgbClr val="00ff00"/>
            </a:solidFill>
            <a:ln cap="sq"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6" name="Oval 1091"/>
            <p:cNvSpPr/>
            <p:nvPr/>
          </p:nvSpPr>
          <p:spPr>
            <a:xfrm>
              <a:off x="6756120" y="3890160"/>
              <a:ext cx="127080" cy="134640"/>
            </a:xfrm>
            <a:prstGeom prst="ellipse">
              <a:avLst/>
            </a:prstGeom>
            <a:solidFill>
              <a:srgbClr val="ffff00"/>
            </a:soli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7" name="Oval 1092"/>
            <p:cNvSpPr/>
            <p:nvPr/>
          </p:nvSpPr>
          <p:spPr>
            <a:xfrm>
              <a:off x="7138440" y="3687840"/>
              <a:ext cx="127080" cy="134640"/>
            </a:xfrm>
            <a:prstGeom prst="ellipse">
              <a:avLst/>
            </a:prstGeom>
            <a:solidFill>
              <a:srgbClr val="ff00ff"/>
            </a:solidFill>
            <a:ln cap="sq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8" name="Oval 1093"/>
            <p:cNvSpPr/>
            <p:nvPr/>
          </p:nvSpPr>
          <p:spPr>
            <a:xfrm>
              <a:off x="7456680" y="3822480"/>
              <a:ext cx="127080" cy="134640"/>
            </a:xfrm>
            <a:prstGeom prst="ellipse">
              <a:avLst/>
            </a:prstGeom>
            <a:solidFill>
              <a:srgbClr val="ff0000"/>
            </a:solidFill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9" name="Rectangle 1094"/>
            <p:cNvSpPr/>
            <p:nvPr/>
          </p:nvSpPr>
          <p:spPr>
            <a:xfrm>
              <a:off x="5867280" y="2827440"/>
              <a:ext cx="2082960" cy="1981080"/>
            </a:xfrm>
            <a:prstGeom prst="rect">
              <a:avLst/>
            </a:prstGeom>
            <a:noFill/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740" name="Group 1095"/>
          <p:cNvGrpSpPr/>
          <p:nvPr/>
        </p:nvGrpSpPr>
        <p:grpSpPr>
          <a:xfrm>
            <a:off x="93600" y="1447560"/>
            <a:ext cx="4892760" cy="4759560"/>
            <a:chOff x="93600" y="1447560"/>
            <a:chExt cx="4892760" cy="4759560"/>
          </a:xfrm>
        </p:grpSpPr>
        <p:grpSp>
          <p:nvGrpSpPr>
            <p:cNvPr id="741" name="Group 1096"/>
            <p:cNvGrpSpPr/>
            <p:nvPr/>
          </p:nvGrpSpPr>
          <p:grpSpPr>
            <a:xfrm>
              <a:off x="431640" y="1828800"/>
              <a:ext cx="2089440" cy="1981080"/>
              <a:chOff x="431640" y="1828800"/>
              <a:chExt cx="2089440" cy="1981080"/>
            </a:xfrm>
          </p:grpSpPr>
          <p:grpSp>
            <p:nvGrpSpPr>
              <p:cNvPr id="742" name="Group 1097"/>
              <p:cNvGrpSpPr/>
              <p:nvPr/>
            </p:nvGrpSpPr>
            <p:grpSpPr>
              <a:xfrm>
                <a:off x="691200" y="2171160"/>
                <a:ext cx="784800" cy="867600"/>
                <a:chOff x="691200" y="2171160"/>
                <a:chExt cx="784800" cy="867600"/>
              </a:xfrm>
            </p:grpSpPr>
            <p:sp>
              <p:nvSpPr>
                <p:cNvPr id="743" name="Oval 1098"/>
                <p:cNvSpPr/>
                <p:nvPr/>
              </p:nvSpPr>
              <p:spPr>
                <a:xfrm>
                  <a:off x="691200" y="2556720"/>
                  <a:ext cx="10476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4" name="Oval 1099"/>
                <p:cNvSpPr/>
                <p:nvPr/>
              </p:nvSpPr>
              <p:spPr>
                <a:xfrm>
                  <a:off x="900360" y="294228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5" name="Oval 1100"/>
                <p:cNvSpPr/>
                <p:nvPr/>
              </p:nvSpPr>
              <p:spPr>
                <a:xfrm>
                  <a:off x="90036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6" name="Oval 1101"/>
                <p:cNvSpPr/>
                <p:nvPr/>
              </p:nvSpPr>
              <p:spPr>
                <a:xfrm>
                  <a:off x="90036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7" name="Oval 1102"/>
                <p:cNvSpPr/>
                <p:nvPr/>
              </p:nvSpPr>
              <p:spPr>
                <a:xfrm>
                  <a:off x="90036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8" name="Oval 1103"/>
                <p:cNvSpPr/>
                <p:nvPr/>
              </p:nvSpPr>
              <p:spPr>
                <a:xfrm>
                  <a:off x="110988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9" name="Oval 1104"/>
                <p:cNvSpPr/>
                <p:nvPr/>
              </p:nvSpPr>
              <p:spPr>
                <a:xfrm>
                  <a:off x="110988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0" name="Oval 1105"/>
                <p:cNvSpPr/>
                <p:nvPr/>
              </p:nvSpPr>
              <p:spPr>
                <a:xfrm>
                  <a:off x="110988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1" name="Oval 1106"/>
                <p:cNvSpPr/>
                <p:nvPr/>
              </p:nvSpPr>
              <p:spPr>
                <a:xfrm>
                  <a:off x="137160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2" name="Oval 1107"/>
                <p:cNvSpPr/>
                <p:nvPr/>
              </p:nvSpPr>
              <p:spPr>
                <a:xfrm>
                  <a:off x="137160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3" name="Oval 1108"/>
                <p:cNvSpPr/>
                <p:nvPr/>
              </p:nvSpPr>
              <p:spPr>
                <a:xfrm>
                  <a:off x="137160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4" name="Oval 1109"/>
                <p:cNvSpPr/>
                <p:nvPr/>
              </p:nvSpPr>
              <p:spPr>
                <a:xfrm>
                  <a:off x="1371600" y="217116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755" name="Rectangle 1110"/>
              <p:cNvSpPr/>
              <p:nvPr/>
            </p:nvSpPr>
            <p:spPr>
              <a:xfrm>
                <a:off x="431640" y="1828800"/>
                <a:ext cx="208944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756" name="Group 1111"/>
            <p:cNvGrpSpPr/>
            <p:nvPr/>
          </p:nvGrpSpPr>
          <p:grpSpPr>
            <a:xfrm>
              <a:off x="2897280" y="1828800"/>
              <a:ext cx="2089080" cy="1981080"/>
              <a:chOff x="2897280" y="1828800"/>
              <a:chExt cx="2089080" cy="1981080"/>
            </a:xfrm>
          </p:grpSpPr>
          <p:sp>
            <p:nvSpPr>
              <p:cNvPr id="757" name="Oval 1112"/>
              <p:cNvSpPr/>
              <p:nvPr/>
            </p:nvSpPr>
            <p:spPr>
              <a:xfrm>
                <a:off x="3512880" y="2944800"/>
                <a:ext cx="112320" cy="982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58" name="Oval 1113"/>
              <p:cNvSpPr/>
              <p:nvPr/>
            </p:nvSpPr>
            <p:spPr>
              <a:xfrm>
                <a:off x="3951000" y="27464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59" name="Oval 1114"/>
              <p:cNvSpPr/>
              <p:nvPr/>
            </p:nvSpPr>
            <p:spPr>
              <a:xfrm>
                <a:off x="333036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0" name="Oval 1115"/>
              <p:cNvSpPr/>
              <p:nvPr/>
            </p:nvSpPr>
            <p:spPr>
              <a:xfrm>
                <a:off x="350028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1" name="Oval 1116"/>
              <p:cNvSpPr/>
              <p:nvPr/>
            </p:nvSpPr>
            <p:spPr>
              <a:xfrm>
                <a:off x="350028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2" name="Oval 1117"/>
              <p:cNvSpPr/>
              <p:nvPr/>
            </p:nvSpPr>
            <p:spPr>
              <a:xfrm>
                <a:off x="372564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3" name="Oval 1118"/>
              <p:cNvSpPr/>
              <p:nvPr/>
            </p:nvSpPr>
            <p:spPr>
              <a:xfrm>
                <a:off x="372564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4" name="Oval 1119"/>
              <p:cNvSpPr/>
              <p:nvPr/>
            </p:nvSpPr>
            <p:spPr>
              <a:xfrm>
                <a:off x="372564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5" name="Oval 1120"/>
              <p:cNvSpPr/>
              <p:nvPr/>
            </p:nvSpPr>
            <p:spPr>
              <a:xfrm>
                <a:off x="3725640" y="25574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6" name="Oval 1121"/>
              <p:cNvSpPr/>
              <p:nvPr/>
            </p:nvSpPr>
            <p:spPr>
              <a:xfrm>
                <a:off x="395100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7" name="Oval 1122"/>
              <p:cNvSpPr/>
              <p:nvPr/>
            </p:nvSpPr>
            <p:spPr>
              <a:xfrm>
                <a:off x="395100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8" name="Oval 1123"/>
              <p:cNvSpPr/>
              <p:nvPr/>
            </p:nvSpPr>
            <p:spPr>
              <a:xfrm>
                <a:off x="423360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9" name="Rectangle 1124"/>
              <p:cNvSpPr/>
              <p:nvPr/>
            </p:nvSpPr>
            <p:spPr>
              <a:xfrm>
                <a:off x="2897280" y="1828800"/>
                <a:ext cx="208908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770" name="Group 1125"/>
            <p:cNvGrpSpPr/>
            <p:nvPr/>
          </p:nvGrpSpPr>
          <p:grpSpPr>
            <a:xfrm>
              <a:off x="431640" y="4226040"/>
              <a:ext cx="2089440" cy="1981080"/>
              <a:chOff x="431640" y="4226040"/>
              <a:chExt cx="2089440" cy="1981080"/>
            </a:xfrm>
          </p:grpSpPr>
          <p:grpSp>
            <p:nvGrpSpPr>
              <p:cNvPr id="771" name="Group 1126"/>
              <p:cNvGrpSpPr/>
              <p:nvPr/>
            </p:nvGrpSpPr>
            <p:grpSpPr>
              <a:xfrm>
                <a:off x="688680" y="4555800"/>
                <a:ext cx="1701720" cy="1466280"/>
                <a:chOff x="688680" y="4555800"/>
                <a:chExt cx="1701720" cy="1466280"/>
              </a:xfrm>
            </p:grpSpPr>
            <p:sp>
              <p:nvSpPr>
                <p:cNvPr id="772" name="Oval 1127"/>
                <p:cNvSpPr/>
                <p:nvPr/>
              </p:nvSpPr>
              <p:spPr>
                <a:xfrm>
                  <a:off x="1012320" y="5890320"/>
                  <a:ext cx="127440" cy="13176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3" name="Oval 1128"/>
                <p:cNvSpPr/>
                <p:nvPr/>
              </p:nvSpPr>
              <p:spPr>
                <a:xfrm>
                  <a:off x="688680" y="560556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4" name="Oval 1129"/>
                <p:cNvSpPr/>
                <p:nvPr/>
              </p:nvSpPr>
              <p:spPr>
                <a:xfrm>
                  <a:off x="1007280" y="5005440"/>
                  <a:ext cx="10728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5" name="Oval 1130"/>
                <p:cNvSpPr/>
                <p:nvPr/>
              </p:nvSpPr>
              <p:spPr>
                <a:xfrm>
                  <a:off x="1274040" y="455580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6" name="Oval 1131"/>
                <p:cNvSpPr/>
                <p:nvPr/>
              </p:nvSpPr>
              <p:spPr>
                <a:xfrm>
                  <a:off x="1486080" y="545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7" name="Oval 1132"/>
                <p:cNvSpPr/>
                <p:nvPr/>
              </p:nvSpPr>
              <p:spPr>
                <a:xfrm>
                  <a:off x="148608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8" name="Oval 1133"/>
                <p:cNvSpPr/>
                <p:nvPr/>
              </p:nvSpPr>
              <p:spPr>
                <a:xfrm>
                  <a:off x="1645560" y="5905440"/>
                  <a:ext cx="10584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9" name="Oval 1134"/>
                <p:cNvSpPr/>
                <p:nvPr/>
              </p:nvSpPr>
              <p:spPr>
                <a:xfrm>
                  <a:off x="180468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0" name="Oval 1135"/>
                <p:cNvSpPr/>
                <p:nvPr/>
              </p:nvSpPr>
              <p:spPr>
                <a:xfrm>
                  <a:off x="2071440" y="59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1" name="Oval 1136"/>
                <p:cNvSpPr/>
                <p:nvPr/>
              </p:nvSpPr>
              <p:spPr>
                <a:xfrm>
                  <a:off x="2284200" y="530532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2" name="Oval 1137"/>
                <p:cNvSpPr/>
                <p:nvPr/>
              </p:nvSpPr>
              <p:spPr>
                <a:xfrm>
                  <a:off x="228420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783" name="Rectangle 1138"/>
              <p:cNvSpPr/>
              <p:nvPr/>
            </p:nvSpPr>
            <p:spPr>
              <a:xfrm>
                <a:off x="431640" y="4226040"/>
                <a:ext cx="208944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784" name="Text Box 1139"/>
            <p:cNvSpPr/>
            <p:nvPr/>
          </p:nvSpPr>
          <p:spPr>
            <a:xfrm>
              <a:off x="93600" y="37778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(0,0)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5" name="Text Box 1140"/>
            <p:cNvSpPr/>
            <p:nvPr/>
          </p:nvSpPr>
          <p:spPr>
            <a:xfrm>
              <a:off x="2021040" y="144756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(14, 12)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6" name="Line 1141"/>
            <p:cNvSpPr/>
            <p:nvPr/>
          </p:nvSpPr>
          <p:spPr>
            <a:xfrm flipV="1">
              <a:off x="304920" y="3124080"/>
              <a:ext cx="0" cy="519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7" name="Line 1142"/>
            <p:cNvSpPr/>
            <p:nvPr/>
          </p:nvSpPr>
          <p:spPr>
            <a:xfrm>
              <a:off x="776160" y="3962520"/>
              <a:ext cx="5191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8" name="Text Box 1143"/>
            <p:cNvSpPr/>
            <p:nvPr/>
          </p:nvSpPr>
          <p:spPr>
            <a:xfrm>
              <a:off x="438480" y="18424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9" name="Text Box 1144"/>
            <p:cNvSpPr/>
            <p:nvPr/>
          </p:nvSpPr>
          <p:spPr>
            <a:xfrm>
              <a:off x="2890080" y="1842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90" name="Text Box 1145"/>
            <p:cNvSpPr/>
            <p:nvPr/>
          </p:nvSpPr>
          <p:spPr>
            <a:xfrm>
              <a:off x="455040" y="42253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791" name="Group 1146"/>
            <p:cNvGrpSpPr/>
            <p:nvPr/>
          </p:nvGrpSpPr>
          <p:grpSpPr>
            <a:xfrm>
              <a:off x="2895480" y="4225320"/>
              <a:ext cx="2090880" cy="1981800"/>
              <a:chOff x="2895480" y="4225320"/>
              <a:chExt cx="2090880" cy="1981800"/>
            </a:xfrm>
          </p:grpSpPr>
          <p:sp>
            <p:nvSpPr>
              <p:cNvPr id="792" name="Oval 1147"/>
              <p:cNvSpPr/>
              <p:nvPr/>
            </p:nvSpPr>
            <p:spPr>
              <a:xfrm>
                <a:off x="3014640" y="552456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3" name="Oval 1148"/>
              <p:cNvSpPr/>
              <p:nvPr/>
            </p:nvSpPr>
            <p:spPr>
              <a:xfrm>
                <a:off x="3338640" y="4572000"/>
                <a:ext cx="9036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4" name="Oval 1149"/>
              <p:cNvSpPr/>
              <p:nvPr/>
            </p:nvSpPr>
            <p:spPr>
              <a:xfrm>
                <a:off x="3379680" y="4995720"/>
                <a:ext cx="889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5" name="Oval 1150"/>
              <p:cNvSpPr/>
              <p:nvPr/>
            </p:nvSpPr>
            <p:spPr>
              <a:xfrm>
                <a:off x="3495600" y="5869080"/>
                <a:ext cx="9072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6" name="Oval 1151"/>
              <p:cNvSpPr/>
              <p:nvPr/>
            </p:nvSpPr>
            <p:spPr>
              <a:xfrm>
                <a:off x="3817800" y="4556160"/>
                <a:ext cx="9072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7" name="Oval 1152"/>
              <p:cNvSpPr/>
              <p:nvPr/>
            </p:nvSpPr>
            <p:spPr>
              <a:xfrm>
                <a:off x="3817800" y="5194440"/>
                <a:ext cx="907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8" name="Oval 1153"/>
              <p:cNvSpPr/>
              <p:nvPr/>
            </p:nvSpPr>
            <p:spPr>
              <a:xfrm>
                <a:off x="3800520" y="552456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9" name="Oval 1154"/>
              <p:cNvSpPr/>
              <p:nvPr/>
            </p:nvSpPr>
            <p:spPr>
              <a:xfrm>
                <a:off x="4299120" y="5869080"/>
                <a:ext cx="8856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0" name="Oval 1155"/>
              <p:cNvSpPr/>
              <p:nvPr/>
            </p:nvSpPr>
            <p:spPr>
              <a:xfrm>
                <a:off x="4459320" y="509904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1" name="Oval 1156"/>
              <p:cNvSpPr/>
              <p:nvPr/>
            </p:nvSpPr>
            <p:spPr>
              <a:xfrm>
                <a:off x="4459320" y="4402080"/>
                <a:ext cx="9036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2" name="Oval 1157"/>
              <p:cNvSpPr/>
              <p:nvPr/>
            </p:nvSpPr>
            <p:spPr>
              <a:xfrm>
                <a:off x="4778280" y="5524560"/>
                <a:ext cx="907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3" name="Oval 1158"/>
              <p:cNvSpPr/>
              <p:nvPr/>
            </p:nvSpPr>
            <p:spPr>
              <a:xfrm>
                <a:off x="4778280" y="4703760"/>
                <a:ext cx="9072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4" name="Rectangle 1159"/>
              <p:cNvSpPr/>
              <p:nvPr/>
            </p:nvSpPr>
            <p:spPr>
              <a:xfrm>
                <a:off x="2895480" y="4226040"/>
                <a:ext cx="209088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5" name="Text Box 1160"/>
              <p:cNvSpPr/>
              <p:nvPr/>
            </p:nvSpPr>
            <p:spPr>
              <a:xfrm>
                <a:off x="2899080" y="422532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eaeaea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806" name="Text Box 1161"/>
          <p:cNvSpPr/>
          <p:nvPr/>
        </p:nvSpPr>
        <p:spPr>
          <a:xfrm>
            <a:off x="5197680" y="1447200"/>
            <a:ext cx="33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Frequência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= 12 em A, B, C, D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7" name="Text Box 1162"/>
          <p:cNvSpPr/>
          <p:nvPr/>
        </p:nvSpPr>
        <p:spPr>
          <a:xfrm>
            <a:off x="5192280" y="190584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Densidade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= 12/168 em A, B, C, D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8" name="Text Box 1163"/>
          <p:cNvSpPr/>
          <p:nvPr/>
        </p:nvSpPr>
        <p:spPr>
          <a:xfrm>
            <a:off x="5772240" y="23616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Centro Geométric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9" name="Text Box 1164"/>
          <p:cNvSpPr/>
          <p:nvPr/>
        </p:nvSpPr>
        <p:spPr>
          <a:xfrm>
            <a:off x="5047200" y="4920480"/>
            <a:ext cx="412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Nota: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CGa e CGb representam bem a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tendência central porque ambas distri-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buições estão concentradas em torno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dos respectivos centros. Por outro lado,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c e CGd não são bons indicadores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para suas respectivas distribuições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0" name="Rectangle 1165"/>
          <p:cNvSpPr/>
          <p:nvPr/>
        </p:nvSpPr>
        <p:spPr>
          <a:xfrm>
            <a:off x="6084360" y="31237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a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1" name="Rectangle 1166"/>
          <p:cNvSpPr/>
          <p:nvPr/>
        </p:nvSpPr>
        <p:spPr>
          <a:xfrm>
            <a:off x="6231600" y="37778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b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2" name="Rectangle 1167"/>
          <p:cNvSpPr/>
          <p:nvPr/>
        </p:nvSpPr>
        <p:spPr>
          <a:xfrm>
            <a:off x="7266240" y="39571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c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3" name="Rectangle 1168"/>
          <p:cNvSpPr/>
          <p:nvPr/>
        </p:nvSpPr>
        <p:spPr>
          <a:xfrm>
            <a:off x="6898320" y="335232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d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4" name="Oval 42"/>
          <p:cNvSpPr/>
          <p:nvPr/>
        </p:nvSpPr>
        <p:spPr>
          <a:xfrm>
            <a:off x="1897200" y="535608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6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8527-FD44-4052-A8BF-DC71F723174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7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818" name="Picture 1110" descr="Confetes pequenos"/>
          <p:cNvPicPr/>
          <p:nvPr/>
        </p:nvPicPr>
        <p:blipFill>
          <a:blip r:embed="rId1"/>
          <a:stretch/>
        </p:blipFill>
        <p:spPr>
          <a:xfrm>
            <a:off x="762120" y="1752480"/>
            <a:ext cx="2152440" cy="17528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0" name="Text Box 1027"/>
          <p:cNvSpPr/>
          <p:nvPr/>
        </p:nvSpPr>
        <p:spPr>
          <a:xfrm>
            <a:off x="228600" y="684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adrões de pontos com diferentes características de dispersão espacial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821" name="Picture 1109" descr="Confetes pequenos"/>
          <p:cNvPicPr/>
          <p:nvPr/>
        </p:nvPicPr>
        <p:blipFill>
          <a:blip r:embed="rId2"/>
          <a:stretch/>
        </p:blipFill>
        <p:spPr>
          <a:xfrm>
            <a:off x="5029200" y="1752480"/>
            <a:ext cx="2205000" cy="17528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111" descr="Confetes pequenos"/>
          <p:cNvPicPr/>
          <p:nvPr/>
        </p:nvPicPr>
        <p:blipFill>
          <a:blip r:embed="rId3"/>
          <a:stretch/>
        </p:blipFill>
        <p:spPr>
          <a:xfrm>
            <a:off x="762120" y="4114800"/>
            <a:ext cx="2171520" cy="17524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112" descr="Confetes pequenos"/>
          <p:cNvPicPr/>
          <p:nvPr/>
        </p:nvPicPr>
        <p:blipFill>
          <a:blip r:embed="rId4"/>
          <a:stretch/>
        </p:blipFill>
        <p:spPr>
          <a:xfrm>
            <a:off x="5029200" y="4114800"/>
            <a:ext cx="2205000" cy="175248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1126"/>
          <p:cNvSpPr/>
          <p:nvPr/>
        </p:nvSpPr>
        <p:spPr>
          <a:xfrm>
            <a:off x="762120" y="1752480"/>
            <a:ext cx="2152440" cy="175284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5" name="Rectangle 1127"/>
          <p:cNvSpPr/>
          <p:nvPr/>
        </p:nvSpPr>
        <p:spPr>
          <a:xfrm>
            <a:off x="5029200" y="1752480"/>
            <a:ext cx="2205000" cy="175284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6" name="Rectangle 1128"/>
          <p:cNvSpPr/>
          <p:nvPr/>
        </p:nvSpPr>
        <p:spPr>
          <a:xfrm>
            <a:off x="5029200" y="4114800"/>
            <a:ext cx="2205000" cy="175248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7" name="Rectangle 1129"/>
          <p:cNvSpPr/>
          <p:nvPr/>
        </p:nvSpPr>
        <p:spPr>
          <a:xfrm>
            <a:off x="762120" y="4114800"/>
            <a:ext cx="2171520" cy="175248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8" name="Text Box 1130"/>
          <p:cNvSpPr/>
          <p:nvPr/>
        </p:nvSpPr>
        <p:spPr>
          <a:xfrm>
            <a:off x="3006720" y="2110320"/>
            <a:ext cx="137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&gt;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9" name="Text Box 1133"/>
          <p:cNvSpPr/>
          <p:nvPr/>
        </p:nvSpPr>
        <p:spPr>
          <a:xfrm>
            <a:off x="7413480" y="2340360"/>
            <a:ext cx="12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&lt;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0" name="Text Box 1134"/>
          <p:cNvSpPr/>
          <p:nvPr/>
        </p:nvSpPr>
        <p:spPr>
          <a:xfrm>
            <a:off x="2819520" y="4626360"/>
            <a:ext cx="15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~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1" name="Text Box 1135"/>
          <p:cNvSpPr/>
          <p:nvPr/>
        </p:nvSpPr>
        <p:spPr>
          <a:xfrm>
            <a:off x="7292880" y="4626360"/>
            <a:ext cx="15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~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2" name="Text Box 1136"/>
          <p:cNvSpPr/>
          <p:nvPr/>
        </p:nvSpPr>
        <p:spPr>
          <a:xfrm>
            <a:off x="2970360" y="51807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(significante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3" name="Text Box 1138"/>
          <p:cNvSpPr/>
          <p:nvPr/>
        </p:nvSpPr>
        <p:spPr>
          <a:xfrm>
            <a:off x="7219440" y="51807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(insignificante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D6D4-5953-480F-83D1-586E691494A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8" name="Rectangle 1027"/>
          <p:cNvSpPr/>
          <p:nvPr/>
        </p:nvSpPr>
        <p:spPr>
          <a:xfrm>
            <a:off x="0" y="2000160"/>
            <a:ext cx="957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Objetiv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 verificar se os eventos observados apresentam algum tipo de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drão sistemático, ao invés de estarem distribuídos aleatoriamente.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9" name="Rectangle 1028"/>
          <p:cNvSpPr/>
          <p:nvPr/>
        </p:nvSpPr>
        <p:spPr>
          <a:xfrm>
            <a:off x="1757520" y="4806720"/>
            <a:ext cx="10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Aleatório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40" name="Rectangle 1029"/>
          <p:cNvSpPr/>
          <p:nvPr/>
        </p:nvSpPr>
        <p:spPr>
          <a:xfrm>
            <a:off x="3787920" y="480672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Agrupado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41" name="Rectangle 1030"/>
          <p:cNvSpPr/>
          <p:nvPr/>
        </p:nvSpPr>
        <p:spPr>
          <a:xfrm>
            <a:off x="6316560" y="48067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Regular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842" name="Group 1031"/>
          <p:cNvGrpSpPr/>
          <p:nvPr/>
        </p:nvGrpSpPr>
        <p:grpSpPr>
          <a:xfrm>
            <a:off x="1457280" y="3122640"/>
            <a:ext cx="6156000" cy="1684440"/>
            <a:chOff x="1457280" y="3122640"/>
            <a:chExt cx="6156000" cy="1684440"/>
          </a:xfrm>
        </p:grpSpPr>
        <p:grpSp>
          <p:nvGrpSpPr>
            <p:cNvPr id="843" name="Group 1032"/>
            <p:cNvGrpSpPr/>
            <p:nvPr/>
          </p:nvGrpSpPr>
          <p:grpSpPr>
            <a:xfrm>
              <a:off x="1457280" y="3122640"/>
              <a:ext cx="1732680" cy="1684440"/>
              <a:chOff x="1457280" y="3122640"/>
              <a:chExt cx="1732680" cy="1684440"/>
            </a:xfrm>
          </p:grpSpPr>
          <p:sp>
            <p:nvSpPr>
              <p:cNvPr id="844" name="Rectangle 1033"/>
              <p:cNvSpPr/>
              <p:nvPr/>
            </p:nvSpPr>
            <p:spPr>
              <a:xfrm>
                <a:off x="1457280" y="3122640"/>
                <a:ext cx="173268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5" name="Oval 1034"/>
              <p:cNvSpPr/>
              <p:nvPr/>
            </p:nvSpPr>
            <p:spPr>
              <a:xfrm>
                <a:off x="1636200" y="357660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6" name="Oval 1035"/>
              <p:cNvSpPr/>
              <p:nvPr/>
            </p:nvSpPr>
            <p:spPr>
              <a:xfrm>
                <a:off x="1576440" y="369036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7" name="Oval 1036"/>
              <p:cNvSpPr/>
              <p:nvPr/>
            </p:nvSpPr>
            <p:spPr>
              <a:xfrm>
                <a:off x="1893960" y="45421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8" name="Oval 1037"/>
              <p:cNvSpPr/>
              <p:nvPr/>
            </p:nvSpPr>
            <p:spPr>
              <a:xfrm>
                <a:off x="2252160" y="374580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9" name="Oval 1038"/>
              <p:cNvSpPr/>
              <p:nvPr/>
            </p:nvSpPr>
            <p:spPr>
              <a:xfrm>
                <a:off x="2055960" y="374580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0" name="Oval 1039"/>
              <p:cNvSpPr/>
              <p:nvPr/>
            </p:nvSpPr>
            <p:spPr>
              <a:xfrm>
                <a:off x="1834200" y="40878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1" name="Oval 1040"/>
              <p:cNvSpPr/>
              <p:nvPr/>
            </p:nvSpPr>
            <p:spPr>
              <a:xfrm>
                <a:off x="2413080" y="471132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2" name="Oval 1041"/>
              <p:cNvSpPr/>
              <p:nvPr/>
            </p:nvSpPr>
            <p:spPr>
              <a:xfrm>
                <a:off x="2114280" y="414468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3" name="Oval 1042"/>
              <p:cNvSpPr/>
              <p:nvPr/>
            </p:nvSpPr>
            <p:spPr>
              <a:xfrm>
                <a:off x="2771640" y="408780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4" name="Oval 1043"/>
              <p:cNvSpPr/>
              <p:nvPr/>
            </p:nvSpPr>
            <p:spPr>
              <a:xfrm>
                <a:off x="2534760" y="420264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5" name="Oval 1044"/>
              <p:cNvSpPr/>
              <p:nvPr/>
            </p:nvSpPr>
            <p:spPr>
              <a:xfrm>
                <a:off x="2714040" y="454212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6" name="Oval 1045"/>
              <p:cNvSpPr/>
              <p:nvPr/>
            </p:nvSpPr>
            <p:spPr>
              <a:xfrm>
                <a:off x="301068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7" name="Oval 1046"/>
              <p:cNvSpPr/>
              <p:nvPr/>
            </p:nvSpPr>
            <p:spPr>
              <a:xfrm>
                <a:off x="1893960" y="346428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8" name="Oval 1047"/>
              <p:cNvSpPr/>
              <p:nvPr/>
            </p:nvSpPr>
            <p:spPr>
              <a:xfrm>
                <a:off x="2353320" y="40878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9" name="Oval 1048"/>
              <p:cNvSpPr/>
              <p:nvPr/>
            </p:nvSpPr>
            <p:spPr>
              <a:xfrm>
                <a:off x="2534760" y="357660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0" name="Oval 1049"/>
              <p:cNvSpPr/>
              <p:nvPr/>
            </p:nvSpPr>
            <p:spPr>
              <a:xfrm>
                <a:off x="2893320" y="352008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1" name="Oval 1050"/>
              <p:cNvSpPr/>
              <p:nvPr/>
            </p:nvSpPr>
            <p:spPr>
              <a:xfrm>
                <a:off x="2950920" y="38606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2" name="Oval 1051"/>
              <p:cNvSpPr/>
              <p:nvPr/>
            </p:nvSpPr>
            <p:spPr>
              <a:xfrm>
                <a:off x="1697400" y="437184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3" name="Oval 1052"/>
              <p:cNvSpPr/>
              <p:nvPr/>
            </p:nvSpPr>
            <p:spPr>
              <a:xfrm>
                <a:off x="157644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4" name="Oval 1053"/>
              <p:cNvSpPr/>
              <p:nvPr/>
            </p:nvSpPr>
            <p:spPr>
              <a:xfrm>
                <a:off x="2193840" y="442980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5" name="Oval 1054"/>
              <p:cNvSpPr/>
              <p:nvPr/>
            </p:nvSpPr>
            <p:spPr>
              <a:xfrm>
                <a:off x="2293560" y="32810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6" name="Oval 1055"/>
              <p:cNvSpPr/>
              <p:nvPr/>
            </p:nvSpPr>
            <p:spPr>
              <a:xfrm>
                <a:off x="1774440" y="391752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7" name="Oval 1056"/>
              <p:cNvSpPr/>
              <p:nvPr/>
            </p:nvSpPr>
            <p:spPr>
              <a:xfrm>
                <a:off x="2534760" y="3860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8" name="Oval 1057"/>
              <p:cNvSpPr/>
              <p:nvPr/>
            </p:nvSpPr>
            <p:spPr>
              <a:xfrm>
                <a:off x="2725560" y="369036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9" name="Oval 1058"/>
              <p:cNvSpPr/>
              <p:nvPr/>
            </p:nvSpPr>
            <p:spPr>
              <a:xfrm>
                <a:off x="3010680" y="420264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0" name="Oval 1059"/>
              <p:cNvSpPr/>
              <p:nvPr/>
            </p:nvSpPr>
            <p:spPr>
              <a:xfrm>
                <a:off x="2950920" y="44852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871" name="Group 1060"/>
            <p:cNvGrpSpPr/>
            <p:nvPr/>
          </p:nvGrpSpPr>
          <p:grpSpPr>
            <a:xfrm>
              <a:off x="3668760" y="3122640"/>
              <a:ext cx="1733040" cy="1684440"/>
              <a:chOff x="3668760" y="3122640"/>
              <a:chExt cx="1733040" cy="1684440"/>
            </a:xfrm>
          </p:grpSpPr>
          <p:sp>
            <p:nvSpPr>
              <p:cNvPr id="872" name="Rectangle 1061"/>
              <p:cNvSpPr/>
              <p:nvPr/>
            </p:nvSpPr>
            <p:spPr>
              <a:xfrm>
                <a:off x="3668760" y="3122640"/>
                <a:ext cx="173304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3" name="Oval 1062"/>
              <p:cNvSpPr/>
              <p:nvPr/>
            </p:nvSpPr>
            <p:spPr>
              <a:xfrm>
                <a:off x="3847680" y="359568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4" name="Oval 1063"/>
              <p:cNvSpPr/>
              <p:nvPr/>
            </p:nvSpPr>
            <p:spPr>
              <a:xfrm>
                <a:off x="3786840" y="371052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5" name="Oval 1064"/>
              <p:cNvSpPr/>
              <p:nvPr/>
            </p:nvSpPr>
            <p:spPr>
              <a:xfrm>
                <a:off x="3907800" y="4598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6" name="Oval 1065"/>
              <p:cNvSpPr/>
              <p:nvPr/>
            </p:nvSpPr>
            <p:spPr>
              <a:xfrm>
                <a:off x="4564800" y="340632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7" name="Oval 1066"/>
              <p:cNvSpPr/>
              <p:nvPr/>
            </p:nvSpPr>
            <p:spPr>
              <a:xfrm>
                <a:off x="3986280" y="371052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8" name="Oval 1067"/>
              <p:cNvSpPr/>
              <p:nvPr/>
            </p:nvSpPr>
            <p:spPr>
              <a:xfrm>
                <a:off x="3847680" y="380376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9" name="Oval 1068"/>
              <p:cNvSpPr/>
              <p:nvPr/>
            </p:nvSpPr>
            <p:spPr>
              <a:xfrm>
                <a:off x="4524120" y="420264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0" name="Oval 1069"/>
              <p:cNvSpPr/>
              <p:nvPr/>
            </p:nvSpPr>
            <p:spPr>
              <a:xfrm>
                <a:off x="4404240" y="405000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1" name="Oval 1070"/>
              <p:cNvSpPr/>
              <p:nvPr/>
            </p:nvSpPr>
            <p:spPr>
              <a:xfrm>
                <a:off x="5105160" y="399204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2" name="Oval 1071"/>
              <p:cNvSpPr/>
              <p:nvPr/>
            </p:nvSpPr>
            <p:spPr>
              <a:xfrm>
                <a:off x="4505400" y="408780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3" name="Oval 1072"/>
              <p:cNvSpPr/>
              <p:nvPr/>
            </p:nvSpPr>
            <p:spPr>
              <a:xfrm>
                <a:off x="5105160" y="467568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4" name="Oval 1073"/>
              <p:cNvSpPr/>
              <p:nvPr/>
            </p:nvSpPr>
            <p:spPr>
              <a:xfrm>
                <a:off x="5222520" y="467568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5" name="Oval 1074"/>
              <p:cNvSpPr/>
              <p:nvPr/>
            </p:nvSpPr>
            <p:spPr>
              <a:xfrm>
                <a:off x="3907800" y="365256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6" name="Oval 1075"/>
              <p:cNvSpPr/>
              <p:nvPr/>
            </p:nvSpPr>
            <p:spPr>
              <a:xfrm>
                <a:off x="4505400" y="399204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7" name="Oval 1076"/>
              <p:cNvSpPr/>
              <p:nvPr/>
            </p:nvSpPr>
            <p:spPr>
              <a:xfrm>
                <a:off x="4623480" y="329976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8" name="Oval 1077"/>
              <p:cNvSpPr/>
              <p:nvPr/>
            </p:nvSpPr>
            <p:spPr>
              <a:xfrm>
                <a:off x="4524120" y="352008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9" name="Oval 1078"/>
              <p:cNvSpPr/>
              <p:nvPr/>
            </p:nvSpPr>
            <p:spPr>
              <a:xfrm>
                <a:off x="5162400" y="38797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0" name="Oval 1079"/>
              <p:cNvSpPr/>
              <p:nvPr/>
            </p:nvSpPr>
            <p:spPr>
              <a:xfrm>
                <a:off x="3786840" y="45608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1" name="Oval 1080"/>
              <p:cNvSpPr/>
              <p:nvPr/>
            </p:nvSpPr>
            <p:spPr>
              <a:xfrm>
                <a:off x="3786840" y="467568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2" name="Oval 1081"/>
              <p:cNvSpPr/>
              <p:nvPr/>
            </p:nvSpPr>
            <p:spPr>
              <a:xfrm>
                <a:off x="4446720" y="414468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3" name="Oval 1082"/>
              <p:cNvSpPr/>
              <p:nvPr/>
            </p:nvSpPr>
            <p:spPr>
              <a:xfrm>
                <a:off x="4505400" y="329976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4" name="Oval 1083"/>
              <p:cNvSpPr/>
              <p:nvPr/>
            </p:nvSpPr>
            <p:spPr>
              <a:xfrm>
                <a:off x="3907800" y="376596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5" name="Oval 1084"/>
              <p:cNvSpPr/>
              <p:nvPr/>
            </p:nvSpPr>
            <p:spPr>
              <a:xfrm>
                <a:off x="4684680" y="340632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6" name="Oval 1085"/>
              <p:cNvSpPr/>
              <p:nvPr/>
            </p:nvSpPr>
            <p:spPr>
              <a:xfrm>
                <a:off x="4464000" y="3406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7" name="Oval 1086"/>
              <p:cNvSpPr/>
              <p:nvPr/>
            </p:nvSpPr>
            <p:spPr>
              <a:xfrm>
                <a:off x="5222520" y="397332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8" name="Oval 1087"/>
              <p:cNvSpPr/>
              <p:nvPr/>
            </p:nvSpPr>
            <p:spPr>
              <a:xfrm>
                <a:off x="5162400" y="4504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9" name="Oval 1088"/>
              <p:cNvSpPr/>
              <p:nvPr/>
            </p:nvSpPr>
            <p:spPr>
              <a:xfrm>
                <a:off x="5043240" y="454212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0" name="Oval 1089"/>
              <p:cNvSpPr/>
              <p:nvPr/>
            </p:nvSpPr>
            <p:spPr>
              <a:xfrm>
                <a:off x="5105160" y="4598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1" name="Oval 1090"/>
              <p:cNvSpPr/>
              <p:nvPr/>
            </p:nvSpPr>
            <p:spPr>
              <a:xfrm>
                <a:off x="5222520" y="459864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2" name="Oval 1091"/>
              <p:cNvSpPr/>
              <p:nvPr/>
            </p:nvSpPr>
            <p:spPr>
              <a:xfrm>
                <a:off x="500184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3" name="Oval 1092"/>
              <p:cNvSpPr/>
              <p:nvPr/>
            </p:nvSpPr>
            <p:spPr>
              <a:xfrm>
                <a:off x="5163840" y="405000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4" name="Oval 1093"/>
              <p:cNvSpPr/>
              <p:nvPr/>
            </p:nvSpPr>
            <p:spPr>
              <a:xfrm>
                <a:off x="5223600" y="40500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5" name="Oval 1094"/>
              <p:cNvSpPr/>
              <p:nvPr/>
            </p:nvSpPr>
            <p:spPr>
              <a:xfrm>
                <a:off x="3847680" y="4504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906" name="Group 1095"/>
            <p:cNvGrpSpPr/>
            <p:nvPr/>
          </p:nvGrpSpPr>
          <p:grpSpPr>
            <a:xfrm>
              <a:off x="5880600" y="3122640"/>
              <a:ext cx="1732680" cy="1684440"/>
              <a:chOff x="5880600" y="3122640"/>
              <a:chExt cx="1732680" cy="1684440"/>
            </a:xfrm>
          </p:grpSpPr>
          <p:sp>
            <p:nvSpPr>
              <p:cNvPr id="907" name="Rectangle 1096"/>
              <p:cNvSpPr/>
              <p:nvPr/>
            </p:nvSpPr>
            <p:spPr>
              <a:xfrm>
                <a:off x="5880600" y="3122640"/>
                <a:ext cx="173268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ffc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grpSp>
            <p:nvGrpSpPr>
              <p:cNvPr id="908" name="Group 1097"/>
              <p:cNvGrpSpPr/>
              <p:nvPr/>
            </p:nvGrpSpPr>
            <p:grpSpPr>
              <a:xfrm>
                <a:off x="6059520" y="3315240"/>
                <a:ext cx="1346400" cy="56520"/>
                <a:chOff x="6059520" y="3315240"/>
                <a:chExt cx="1346400" cy="56520"/>
              </a:xfrm>
            </p:grpSpPr>
            <p:sp>
              <p:nvSpPr>
                <p:cNvPr id="909" name="Oval 1098"/>
                <p:cNvSpPr/>
                <p:nvPr/>
              </p:nvSpPr>
              <p:spPr>
                <a:xfrm>
                  <a:off x="605952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0" name="Oval 1099"/>
                <p:cNvSpPr/>
                <p:nvPr/>
              </p:nvSpPr>
              <p:spPr>
                <a:xfrm>
                  <a:off x="695556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1" name="Oval 1100"/>
                <p:cNvSpPr/>
                <p:nvPr/>
              </p:nvSpPr>
              <p:spPr>
                <a:xfrm>
                  <a:off x="647784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2" name="Oval 1101"/>
                <p:cNvSpPr/>
                <p:nvPr/>
              </p:nvSpPr>
              <p:spPr>
                <a:xfrm>
                  <a:off x="715356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3" name="Oval 1102"/>
                <p:cNvSpPr/>
                <p:nvPr/>
              </p:nvSpPr>
              <p:spPr>
                <a:xfrm>
                  <a:off x="625716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4" name="Oval 1103"/>
                <p:cNvSpPr/>
                <p:nvPr/>
              </p:nvSpPr>
              <p:spPr>
                <a:xfrm>
                  <a:off x="7346520" y="331524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5" name="Oval 1104"/>
                <p:cNvSpPr/>
                <p:nvPr/>
              </p:nvSpPr>
              <p:spPr>
                <a:xfrm>
                  <a:off x="671652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16" name="Group 1105"/>
              <p:cNvGrpSpPr/>
              <p:nvPr/>
            </p:nvGrpSpPr>
            <p:grpSpPr>
              <a:xfrm>
                <a:off x="6059520" y="3557880"/>
                <a:ext cx="1346400" cy="56520"/>
                <a:chOff x="6059520" y="3557880"/>
                <a:chExt cx="1346400" cy="56520"/>
              </a:xfrm>
            </p:grpSpPr>
            <p:sp>
              <p:nvSpPr>
                <p:cNvPr id="917" name="Oval 1106"/>
                <p:cNvSpPr/>
                <p:nvPr/>
              </p:nvSpPr>
              <p:spPr>
                <a:xfrm>
                  <a:off x="605952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8" name="Oval 1107"/>
                <p:cNvSpPr/>
                <p:nvPr/>
              </p:nvSpPr>
              <p:spPr>
                <a:xfrm>
                  <a:off x="695556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9" name="Oval 1108"/>
                <p:cNvSpPr/>
                <p:nvPr/>
              </p:nvSpPr>
              <p:spPr>
                <a:xfrm>
                  <a:off x="647784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0" name="Oval 1109"/>
                <p:cNvSpPr/>
                <p:nvPr/>
              </p:nvSpPr>
              <p:spPr>
                <a:xfrm>
                  <a:off x="715356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1" name="Oval 1110"/>
                <p:cNvSpPr/>
                <p:nvPr/>
              </p:nvSpPr>
              <p:spPr>
                <a:xfrm>
                  <a:off x="625716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2" name="Oval 1111"/>
                <p:cNvSpPr/>
                <p:nvPr/>
              </p:nvSpPr>
              <p:spPr>
                <a:xfrm>
                  <a:off x="7346520" y="355788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3" name="Oval 1112"/>
                <p:cNvSpPr/>
                <p:nvPr/>
              </p:nvSpPr>
              <p:spPr>
                <a:xfrm>
                  <a:off x="671652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24" name="Group 1113"/>
              <p:cNvGrpSpPr/>
              <p:nvPr/>
            </p:nvGrpSpPr>
            <p:grpSpPr>
              <a:xfrm>
                <a:off x="6059520" y="3800160"/>
                <a:ext cx="1346400" cy="56520"/>
                <a:chOff x="6059520" y="3800160"/>
                <a:chExt cx="1346400" cy="56520"/>
              </a:xfrm>
            </p:grpSpPr>
            <p:sp>
              <p:nvSpPr>
                <p:cNvPr id="925" name="Oval 1114"/>
                <p:cNvSpPr/>
                <p:nvPr/>
              </p:nvSpPr>
              <p:spPr>
                <a:xfrm>
                  <a:off x="605952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6" name="Oval 1115"/>
                <p:cNvSpPr/>
                <p:nvPr/>
              </p:nvSpPr>
              <p:spPr>
                <a:xfrm>
                  <a:off x="695556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7" name="Oval 1116"/>
                <p:cNvSpPr/>
                <p:nvPr/>
              </p:nvSpPr>
              <p:spPr>
                <a:xfrm>
                  <a:off x="647784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8" name="Oval 1117"/>
                <p:cNvSpPr/>
                <p:nvPr/>
              </p:nvSpPr>
              <p:spPr>
                <a:xfrm>
                  <a:off x="715356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9" name="Oval 1118"/>
                <p:cNvSpPr/>
                <p:nvPr/>
              </p:nvSpPr>
              <p:spPr>
                <a:xfrm>
                  <a:off x="625716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0" name="Oval 1119"/>
                <p:cNvSpPr/>
                <p:nvPr/>
              </p:nvSpPr>
              <p:spPr>
                <a:xfrm>
                  <a:off x="7346520" y="380016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1" name="Oval 1120"/>
                <p:cNvSpPr/>
                <p:nvPr/>
              </p:nvSpPr>
              <p:spPr>
                <a:xfrm>
                  <a:off x="671652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32" name="Group 1121"/>
              <p:cNvGrpSpPr/>
              <p:nvPr/>
            </p:nvGrpSpPr>
            <p:grpSpPr>
              <a:xfrm>
                <a:off x="6059520" y="4042800"/>
                <a:ext cx="1346400" cy="56520"/>
                <a:chOff x="6059520" y="4042800"/>
                <a:chExt cx="1346400" cy="56520"/>
              </a:xfrm>
            </p:grpSpPr>
            <p:sp>
              <p:nvSpPr>
                <p:cNvPr id="933" name="Oval 1122"/>
                <p:cNvSpPr/>
                <p:nvPr/>
              </p:nvSpPr>
              <p:spPr>
                <a:xfrm>
                  <a:off x="605952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4" name="Oval 1123"/>
                <p:cNvSpPr/>
                <p:nvPr/>
              </p:nvSpPr>
              <p:spPr>
                <a:xfrm>
                  <a:off x="695556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5" name="Oval 1124"/>
                <p:cNvSpPr/>
                <p:nvPr/>
              </p:nvSpPr>
              <p:spPr>
                <a:xfrm>
                  <a:off x="647784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6" name="Oval 1125"/>
                <p:cNvSpPr/>
                <p:nvPr/>
              </p:nvSpPr>
              <p:spPr>
                <a:xfrm>
                  <a:off x="715356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7" name="Oval 1126"/>
                <p:cNvSpPr/>
                <p:nvPr/>
              </p:nvSpPr>
              <p:spPr>
                <a:xfrm>
                  <a:off x="625716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8" name="Oval 1127"/>
                <p:cNvSpPr/>
                <p:nvPr/>
              </p:nvSpPr>
              <p:spPr>
                <a:xfrm>
                  <a:off x="7346520" y="404280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9" name="Oval 1128"/>
                <p:cNvSpPr/>
                <p:nvPr/>
              </p:nvSpPr>
              <p:spPr>
                <a:xfrm>
                  <a:off x="671652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40" name="Group 1129"/>
              <p:cNvGrpSpPr/>
              <p:nvPr/>
            </p:nvGrpSpPr>
            <p:grpSpPr>
              <a:xfrm>
                <a:off x="6059520" y="4285440"/>
                <a:ext cx="1346400" cy="56520"/>
                <a:chOff x="6059520" y="4285440"/>
                <a:chExt cx="1346400" cy="56520"/>
              </a:xfrm>
            </p:grpSpPr>
            <p:sp>
              <p:nvSpPr>
                <p:cNvPr id="941" name="Oval 1130"/>
                <p:cNvSpPr/>
                <p:nvPr/>
              </p:nvSpPr>
              <p:spPr>
                <a:xfrm>
                  <a:off x="605952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2" name="Oval 1131"/>
                <p:cNvSpPr/>
                <p:nvPr/>
              </p:nvSpPr>
              <p:spPr>
                <a:xfrm>
                  <a:off x="695556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3" name="Oval 1132"/>
                <p:cNvSpPr/>
                <p:nvPr/>
              </p:nvSpPr>
              <p:spPr>
                <a:xfrm>
                  <a:off x="647784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4" name="Oval 1133"/>
                <p:cNvSpPr/>
                <p:nvPr/>
              </p:nvSpPr>
              <p:spPr>
                <a:xfrm>
                  <a:off x="715356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5" name="Oval 1134"/>
                <p:cNvSpPr/>
                <p:nvPr/>
              </p:nvSpPr>
              <p:spPr>
                <a:xfrm>
                  <a:off x="625716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6" name="Oval 1135"/>
                <p:cNvSpPr/>
                <p:nvPr/>
              </p:nvSpPr>
              <p:spPr>
                <a:xfrm>
                  <a:off x="7346520" y="428544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7" name="Oval 1136"/>
                <p:cNvSpPr/>
                <p:nvPr/>
              </p:nvSpPr>
              <p:spPr>
                <a:xfrm>
                  <a:off x="671652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48" name="Group 1137"/>
              <p:cNvGrpSpPr/>
              <p:nvPr/>
            </p:nvGrpSpPr>
            <p:grpSpPr>
              <a:xfrm>
                <a:off x="6059520" y="4527720"/>
                <a:ext cx="1346400" cy="56520"/>
                <a:chOff x="6059520" y="4527720"/>
                <a:chExt cx="1346400" cy="56520"/>
              </a:xfrm>
            </p:grpSpPr>
            <p:sp>
              <p:nvSpPr>
                <p:cNvPr id="949" name="Oval 1138"/>
                <p:cNvSpPr/>
                <p:nvPr/>
              </p:nvSpPr>
              <p:spPr>
                <a:xfrm>
                  <a:off x="605952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0" name="Oval 1139"/>
                <p:cNvSpPr/>
                <p:nvPr/>
              </p:nvSpPr>
              <p:spPr>
                <a:xfrm>
                  <a:off x="695556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1" name="Oval 1140"/>
                <p:cNvSpPr/>
                <p:nvPr/>
              </p:nvSpPr>
              <p:spPr>
                <a:xfrm>
                  <a:off x="647784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2" name="Oval 1141"/>
                <p:cNvSpPr/>
                <p:nvPr/>
              </p:nvSpPr>
              <p:spPr>
                <a:xfrm>
                  <a:off x="715356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3" name="Oval 1142"/>
                <p:cNvSpPr/>
                <p:nvPr/>
              </p:nvSpPr>
              <p:spPr>
                <a:xfrm>
                  <a:off x="625716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4" name="Oval 1143"/>
                <p:cNvSpPr/>
                <p:nvPr/>
              </p:nvSpPr>
              <p:spPr>
                <a:xfrm>
                  <a:off x="7346520" y="452772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5" name="Oval 1144"/>
                <p:cNvSpPr/>
                <p:nvPr/>
              </p:nvSpPr>
              <p:spPr>
                <a:xfrm>
                  <a:off x="671652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</p:grpSp>
      </p:grpSp>
      <p:sp>
        <p:nvSpPr>
          <p:cNvPr id="956" name="Rectangle 1146"/>
          <p:cNvSpPr/>
          <p:nvPr/>
        </p:nvSpPr>
        <p:spPr>
          <a:xfrm>
            <a:off x="76320" y="545292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realidade o que se deseja é detectar padrões de aglomerados espaciais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“clusters”).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57" name="Rectangle 1149"/>
          <p:cNvSpPr/>
          <p:nvPr/>
        </p:nvSpPr>
        <p:spPr>
          <a:xfrm>
            <a:off x="0" y="71352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característica importante de um padrão espacial de pontos é a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ocalização dos eventos e a relação entre eles (arranjos espaciais).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5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39D4-8B2C-4CDF-AFBD-FC55E2470BE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aracterização de 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rocesso de análise de pontos pode ser descritos em termos de 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e Primeir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onsiderados globais ou de grande escal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orrespondem a variações no valor médio do process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Neste caso estamos interessados na intensidade do process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N</a:t>
            </a:r>
            <a:r>
              <a:rPr b="0" lang="pt-BR" sz="2000" spc="-1" strike="noStrike" u="sng" baseline="30000">
                <a:solidFill>
                  <a:srgbClr val="eaeaea"/>
                </a:solidFill>
                <a:uFillTx/>
                <a:latin typeface="Tahoma"/>
              </a:rPr>
              <a:t>o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ventos / Unidade de Área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e Segund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enominados locais ou de pequena escal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presentam a dependência espacial no process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 maior parte das técnicas de análise de distribuição de pontos supõe um comportamento isotrópic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371-DE35-479E-B091-C2FE93059BA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5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Técnicas a serem abordadas 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ara Efeitos de Primeir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stimador de Intensidade (“Kernel Estimation”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ara Efeitos de Segund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Vizinho mais Próxim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Função K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6094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aracterização de Distribuição de Pontos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57E8-41E0-4336-BF63-E3B2352F99B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Segundo (Bailey e Gatrell, 1995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função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é escolhida de forma adequada para construir uma superfície contínua sobre os even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11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parâmetro</a:t>
            </a:r>
            <a:r>
              <a:rPr b="0" i="1" lang="pt-BR" sz="2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é denominado “largura de faixa”. Controla o amacia- mento da superfície gerad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presenta uma localização qualquer na área de estudo a se esti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da e </a:t>
            </a:r>
            <a:r>
              <a:rPr b="0" i="1" lang="pt-BR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pt-BR" sz="2000" spc="-1" strike="noStrike" baseline="-14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são as localizações dos eventos observ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o número de even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Object 0"/>
              <p:cNvSpPr txBox="1"/>
              <p:nvPr/>
            </p:nvSpPr>
            <p:spPr>
              <a:xfrm>
                <a:off x="2514600" y="1643040"/>
                <a:ext cx="4260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B41-2809-44FF-85E2-0C10C8F64BB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função muito utilizada para  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I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é (Bailey e Gatrell, 1995)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a distância entre uma localização a ser estimada e os eventos observ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Object 0"/>
              <p:cNvSpPr txBox="1"/>
              <p:nvPr/>
            </p:nvSpPr>
            <p:spPr>
              <a:xfrm>
                <a:off x="2590920" y="1447920"/>
                <a:ext cx="3044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9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80" name="Grupo 45"/>
          <p:cNvGrpSpPr/>
          <p:nvPr/>
        </p:nvGrpSpPr>
        <p:grpSpPr>
          <a:xfrm>
            <a:off x="1643040" y="3643200"/>
            <a:ext cx="6685920" cy="2643480"/>
            <a:chOff x="1643040" y="3643200"/>
            <a:chExt cx="6685920" cy="2643480"/>
          </a:xfrm>
        </p:grpSpPr>
        <p:sp>
          <p:nvSpPr>
            <p:cNvPr id="981" name="Retângulo 8"/>
            <p:cNvSpPr/>
            <p:nvPr/>
          </p:nvSpPr>
          <p:spPr>
            <a:xfrm>
              <a:off x="1643040" y="3643200"/>
              <a:ext cx="2857680" cy="2643480"/>
            </a:xfrm>
            <a:prstGeom prst="rect">
              <a:avLst/>
            </a:prstGeom>
            <a:solidFill>
              <a:srgbClr val="00a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2" name="Conector reto 17"/>
            <p:cNvSpPr/>
            <p:nvPr/>
          </p:nvSpPr>
          <p:spPr>
            <a:xfrm>
              <a:off x="2172240" y="4126320"/>
              <a:ext cx="816840" cy="734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3" name="Conector reto 19"/>
            <p:cNvSpPr/>
            <p:nvPr/>
          </p:nvSpPr>
          <p:spPr>
            <a:xfrm flipV="1">
              <a:off x="2018520" y="4872960"/>
              <a:ext cx="946800" cy="237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4" name="Conector reto 20"/>
            <p:cNvSpPr/>
            <p:nvPr/>
          </p:nvSpPr>
          <p:spPr>
            <a:xfrm flipV="1">
              <a:off x="2989080" y="4090320"/>
              <a:ext cx="469080" cy="770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5" name="Conector reto 21"/>
            <p:cNvSpPr/>
            <p:nvPr/>
          </p:nvSpPr>
          <p:spPr>
            <a:xfrm>
              <a:off x="2989080" y="4880160"/>
              <a:ext cx="300600" cy="9914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6" name="Conector reto 22"/>
            <p:cNvSpPr/>
            <p:nvPr/>
          </p:nvSpPr>
          <p:spPr>
            <a:xfrm>
              <a:off x="3013920" y="4872960"/>
              <a:ext cx="1154880" cy="961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7" name="Conector reto 30"/>
            <p:cNvSpPr/>
            <p:nvPr/>
          </p:nvSpPr>
          <p:spPr>
            <a:xfrm flipV="1">
              <a:off x="2135520" y="4896720"/>
              <a:ext cx="842040" cy="7581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8" name="Elipse 9"/>
            <p:cNvSpPr/>
            <p:nvPr/>
          </p:nvSpPr>
          <p:spPr>
            <a:xfrm>
              <a:off x="2019240" y="397260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9" name="Elipse 10"/>
            <p:cNvSpPr/>
            <p:nvPr/>
          </p:nvSpPr>
          <p:spPr>
            <a:xfrm>
              <a:off x="1838520" y="480672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0" name="Elipse 11"/>
            <p:cNvSpPr/>
            <p:nvPr/>
          </p:nvSpPr>
          <p:spPr>
            <a:xfrm>
              <a:off x="3177360" y="575244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1" name="Elipse 12"/>
            <p:cNvSpPr/>
            <p:nvPr/>
          </p:nvSpPr>
          <p:spPr>
            <a:xfrm>
              <a:off x="3357360" y="397260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2" name="Elipse 13"/>
            <p:cNvSpPr/>
            <p:nvPr/>
          </p:nvSpPr>
          <p:spPr>
            <a:xfrm>
              <a:off x="4057920" y="488016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3" name="Elipse 14"/>
            <p:cNvSpPr/>
            <p:nvPr/>
          </p:nvSpPr>
          <p:spPr>
            <a:xfrm>
              <a:off x="2018520" y="557244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4" name="Elipse 15"/>
            <p:cNvSpPr/>
            <p:nvPr/>
          </p:nvSpPr>
          <p:spPr>
            <a:xfrm>
              <a:off x="2907360" y="4790160"/>
              <a:ext cx="180000" cy="1800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5" name="CaixaDeTexto 34"/>
            <p:cNvSpPr/>
            <p:nvPr/>
          </p:nvSpPr>
          <p:spPr>
            <a:xfrm>
              <a:off x="2413800" y="4066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6" name="CaixaDeTexto 35"/>
            <p:cNvSpPr/>
            <p:nvPr/>
          </p:nvSpPr>
          <p:spPr>
            <a:xfrm>
              <a:off x="2193840" y="4497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7" name="CaixaDeTexto 36"/>
            <p:cNvSpPr/>
            <p:nvPr/>
          </p:nvSpPr>
          <p:spPr>
            <a:xfrm>
              <a:off x="3453840" y="45892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8" name="CaixaDeTexto 37"/>
            <p:cNvSpPr/>
            <p:nvPr/>
          </p:nvSpPr>
          <p:spPr>
            <a:xfrm>
              <a:off x="2964600" y="41148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9" name="CaixaDeTexto 38"/>
            <p:cNvSpPr/>
            <p:nvPr/>
          </p:nvSpPr>
          <p:spPr>
            <a:xfrm>
              <a:off x="2170800" y="50292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0" name="CaixaDeTexto 39"/>
            <p:cNvSpPr/>
            <p:nvPr/>
          </p:nvSpPr>
          <p:spPr>
            <a:xfrm>
              <a:off x="3121920" y="51418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1" name="Elipse 41"/>
            <p:cNvSpPr/>
            <p:nvPr/>
          </p:nvSpPr>
          <p:spPr>
            <a:xfrm>
              <a:off x="5064120" y="447912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2" name="Elipse 42"/>
            <p:cNvSpPr/>
            <p:nvPr/>
          </p:nvSpPr>
          <p:spPr>
            <a:xfrm>
              <a:off x="5064120" y="5158800"/>
              <a:ext cx="180000" cy="1800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3" name="CaixaDeTexto 43"/>
            <p:cNvSpPr/>
            <p:nvPr/>
          </p:nvSpPr>
          <p:spPr>
            <a:xfrm>
              <a:off x="5295600" y="4356000"/>
              <a:ext cx="23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ventos observados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4" name="CaixaDeTexto 44"/>
            <p:cNvSpPr/>
            <p:nvPr/>
          </p:nvSpPr>
          <p:spPr>
            <a:xfrm>
              <a:off x="5289120" y="5059440"/>
              <a:ext cx="30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ocalização a ser estimada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6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77A0-9843-454D-ADAD-DF9754F1073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7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610480" cy="2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ntão, substituindo                                         na equação do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imador de intensidade                                                        , tem-s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334080" indent="-128520" algn="ctr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pt-BR" sz="2000" spc="-1" strike="noStrike" baseline="-12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a distância entre o ponto a calcular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 o valor observado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pt-BR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Object 4"/>
              <p:cNvSpPr txBox="1"/>
              <p:nvPr/>
            </p:nvSpPr>
            <p:spPr>
              <a:xfrm>
                <a:off x="2500200" y="857160"/>
                <a:ext cx="3044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5"/>
              <p:cNvSpPr txBox="1"/>
              <p:nvPr/>
            </p:nvSpPr>
            <p:spPr>
              <a:xfrm>
                <a:off x="3429000" y="2143080"/>
                <a:ext cx="4260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6"/>
              <p:cNvSpPr txBox="1"/>
              <p:nvPr/>
            </p:nvSpPr>
            <p:spPr>
              <a:xfrm>
                <a:off x="2374920" y="3714840"/>
                <a:ext cx="422604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3" name="Seta para a direita 11"/>
          <p:cNvSpPr/>
          <p:nvPr/>
        </p:nvSpPr>
        <p:spPr>
          <a:xfrm>
            <a:off x="757080" y="4322880"/>
            <a:ext cx="107172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33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1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37DB-73E2-480C-8E43-B474CD7DAF0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1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017" name="Object 0"/>
          <p:cNvGraphicFramePr/>
          <p:nvPr/>
        </p:nvGraphicFramePr>
        <p:xfrm>
          <a:off x="1090440" y="3174840"/>
          <a:ext cx="691056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3174840"/>
                    <a:ext cx="691056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9" name="Object 1"/>
              <p:cNvSpPr txBox="1"/>
              <p:nvPr/>
            </p:nvSpPr>
            <p:spPr>
              <a:xfrm>
                <a:off x="2809800" y="1600200"/>
                <a:ext cx="3218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0" name="Text Box 6"/>
          <p:cNvSpPr/>
          <p:nvPr/>
        </p:nvSpPr>
        <p:spPr>
          <a:xfrm>
            <a:off x="156240" y="913320"/>
            <a:ext cx="87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 Figura abaixo ilustra a idéia do estimador de intensidade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2" name="Text Box 47"/>
          <p:cNvSpPr/>
          <p:nvPr/>
        </p:nvSpPr>
        <p:spPr>
          <a:xfrm>
            <a:off x="5659200" y="429660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6699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3" name="Text Box 48"/>
          <p:cNvSpPr/>
          <p:nvPr/>
        </p:nvSpPr>
        <p:spPr>
          <a:xfrm>
            <a:off x="4728960" y="4426920"/>
            <a:ext cx="331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h</a:t>
            </a:r>
            <a:r>
              <a:rPr b="0" i="1" lang="pt-BR" sz="1800" spc="-1" strike="noStrike" baseline="-14000">
                <a:solidFill>
                  <a:srgbClr val="0066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4" name="Text Box 49"/>
          <p:cNvSpPr/>
          <p:nvPr/>
        </p:nvSpPr>
        <p:spPr>
          <a:xfrm>
            <a:off x="4311720" y="4336560"/>
            <a:ext cx="331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S</a:t>
            </a:r>
            <a:r>
              <a:rPr b="0" i="1" lang="pt-BR" sz="1800" spc="-1" strike="noStrike" baseline="-14000">
                <a:solidFill>
                  <a:srgbClr val="0066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5" name="Text Box 50"/>
          <p:cNvSpPr/>
          <p:nvPr/>
        </p:nvSpPr>
        <p:spPr>
          <a:xfrm>
            <a:off x="4725720" y="412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6" name="Text Box 60"/>
          <p:cNvSpPr/>
          <p:nvPr/>
        </p:nvSpPr>
        <p:spPr>
          <a:xfrm>
            <a:off x="1018800" y="3174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vent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7" name="Arc 61"/>
          <p:cNvSpPr/>
          <p:nvPr/>
        </p:nvSpPr>
        <p:spPr>
          <a:xfrm>
            <a:off x="2019240" y="3352680"/>
            <a:ext cx="419040" cy="776520"/>
          </a:xfrm>
          <a:custGeom>
            <a:avLst/>
            <a:gdLst>
              <a:gd name="textAreaLeft" fmla="*/ 0 w 419040"/>
              <a:gd name="textAreaRight" fmla="*/ 419400 w 41904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Espaço Reservado para Rodapé 4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9" name="Espaço Reservado para Número de Slide 5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945C-B25E-4F8D-8966-2112B75225C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0" name="Espaço Reservado para Data 6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2" name="Text Box 42"/>
          <p:cNvSpPr/>
          <p:nvPr/>
        </p:nvSpPr>
        <p:spPr>
          <a:xfrm>
            <a:off x="489600" y="763200"/>
            <a:ext cx="46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cc00"/>
              </a:buClr>
              <a:buSzPct val="90000"/>
              <a:buFont typeface="AHD Symbo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a Largura de Faixa (</a:t>
            </a:r>
            <a:r>
              <a:rPr b="0" lang="pt-BR" sz="32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033" name="Picture 46" descr="C:\AnaliseEspacial\espaceFig\bod3.gif"/>
          <p:cNvPicPr/>
          <p:nvPr/>
        </p:nvPicPr>
        <p:blipFill>
          <a:blip r:embed="rId1"/>
          <a:stretch/>
        </p:blipFill>
        <p:spPr>
          <a:xfrm>
            <a:off x="7066080" y="2243160"/>
            <a:ext cx="1380960" cy="855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034" name="Picture 47" descr="C:\AnaliseEspacial\espaceFig\bod4.gif"/>
          <p:cNvPicPr/>
          <p:nvPr/>
        </p:nvPicPr>
        <p:blipFill>
          <a:blip r:embed="rId2"/>
          <a:stretch/>
        </p:blipFill>
        <p:spPr>
          <a:xfrm>
            <a:off x="7105680" y="4721400"/>
            <a:ext cx="1301760" cy="84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035" name="Text Box 48"/>
          <p:cNvSpPr/>
          <p:nvPr/>
        </p:nvSpPr>
        <p:spPr>
          <a:xfrm>
            <a:off x="6796800" y="17517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Banda estreit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6" name="Text Box 49"/>
          <p:cNvSpPr/>
          <p:nvPr/>
        </p:nvSpPr>
        <p:spPr>
          <a:xfrm>
            <a:off x="6943320" y="423936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Banda larg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037" name="Object 52"/>
          <p:cNvGraphicFramePr/>
          <p:nvPr/>
        </p:nvGraphicFramePr>
        <p:xfrm>
          <a:off x="3962520" y="3962520"/>
          <a:ext cx="2438280" cy="23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962520"/>
                    <a:ext cx="2438280" cy="235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grpSp>
        <p:nvGrpSpPr>
          <p:cNvPr id="1039" name="Group 101"/>
          <p:cNvGrpSpPr/>
          <p:nvPr/>
        </p:nvGrpSpPr>
        <p:grpSpPr>
          <a:xfrm>
            <a:off x="685800" y="2703600"/>
            <a:ext cx="2438280" cy="2359080"/>
            <a:chOff x="685800" y="2703600"/>
            <a:chExt cx="2438280" cy="2359080"/>
          </a:xfrm>
        </p:grpSpPr>
        <p:sp>
          <p:nvSpPr>
            <p:cNvPr id="1040" name="Rectangle 55"/>
            <p:cNvSpPr/>
            <p:nvPr/>
          </p:nvSpPr>
          <p:spPr>
            <a:xfrm>
              <a:off x="685800" y="2703600"/>
              <a:ext cx="2438280" cy="23590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1" name="Freeform 56"/>
            <p:cNvSpPr/>
            <p:nvPr/>
          </p:nvSpPr>
          <p:spPr>
            <a:xfrm>
              <a:off x="754920" y="2889360"/>
              <a:ext cx="2313360" cy="2087640"/>
            </a:xfrm>
            <a:custGeom>
              <a:avLst/>
              <a:gdLst>
                <a:gd name="textAreaLeft" fmla="*/ 0 w 2313360"/>
                <a:gd name="textAreaRight" fmla="*/ 2313720 w 2313360"/>
                <a:gd name="textAreaTop" fmla="*/ 0 h 2087640"/>
                <a:gd name="textAreaBottom" fmla="*/ 2088000 h 2087640"/>
              </a:gdLst>
              <a:ahLst/>
              <a:rect l="textAreaLeft" t="textAreaTop" r="textAreaRight" b="textAreaBottom"/>
              <a:pathLst>
                <a:path w="1538" h="1315">
                  <a:moveTo>
                    <a:pt x="529" y="249"/>
                  </a:moveTo>
                  <a:cubicBezTo>
                    <a:pt x="516" y="252"/>
                    <a:pt x="504" y="257"/>
                    <a:pt x="493" y="263"/>
                  </a:cubicBezTo>
                  <a:cubicBezTo>
                    <a:pt x="489" y="272"/>
                    <a:pt x="488" y="277"/>
                    <a:pt x="478" y="280"/>
                  </a:cubicBezTo>
                  <a:cubicBezTo>
                    <a:pt x="476" y="283"/>
                    <a:pt x="458" y="306"/>
                    <a:pt x="457" y="307"/>
                  </a:cubicBezTo>
                  <a:cubicBezTo>
                    <a:pt x="452" y="310"/>
                    <a:pt x="441" y="311"/>
                    <a:pt x="435" y="314"/>
                  </a:cubicBezTo>
                  <a:cubicBezTo>
                    <a:pt x="430" y="321"/>
                    <a:pt x="428" y="329"/>
                    <a:pt x="423" y="335"/>
                  </a:cubicBezTo>
                  <a:cubicBezTo>
                    <a:pt x="414" y="347"/>
                    <a:pt x="383" y="350"/>
                    <a:pt x="370" y="352"/>
                  </a:cubicBezTo>
                  <a:cubicBezTo>
                    <a:pt x="353" y="359"/>
                    <a:pt x="367" y="383"/>
                    <a:pt x="349" y="388"/>
                  </a:cubicBezTo>
                  <a:cubicBezTo>
                    <a:pt x="338" y="402"/>
                    <a:pt x="319" y="416"/>
                    <a:pt x="305" y="427"/>
                  </a:cubicBezTo>
                  <a:cubicBezTo>
                    <a:pt x="300" y="444"/>
                    <a:pt x="308" y="426"/>
                    <a:pt x="296" y="436"/>
                  </a:cubicBezTo>
                  <a:cubicBezTo>
                    <a:pt x="284" y="447"/>
                    <a:pt x="288" y="462"/>
                    <a:pt x="269" y="467"/>
                  </a:cubicBezTo>
                  <a:cubicBezTo>
                    <a:pt x="261" y="482"/>
                    <a:pt x="248" y="488"/>
                    <a:pt x="238" y="501"/>
                  </a:cubicBezTo>
                  <a:cubicBezTo>
                    <a:pt x="235" y="512"/>
                    <a:pt x="224" y="519"/>
                    <a:pt x="214" y="523"/>
                  </a:cubicBezTo>
                  <a:cubicBezTo>
                    <a:pt x="211" y="535"/>
                    <a:pt x="204" y="542"/>
                    <a:pt x="195" y="549"/>
                  </a:cubicBezTo>
                  <a:cubicBezTo>
                    <a:pt x="192" y="559"/>
                    <a:pt x="188" y="570"/>
                    <a:pt x="178" y="573"/>
                  </a:cubicBezTo>
                  <a:cubicBezTo>
                    <a:pt x="170" y="579"/>
                    <a:pt x="159" y="584"/>
                    <a:pt x="149" y="587"/>
                  </a:cubicBezTo>
                  <a:cubicBezTo>
                    <a:pt x="136" y="596"/>
                    <a:pt x="130" y="607"/>
                    <a:pt x="118" y="616"/>
                  </a:cubicBezTo>
                  <a:cubicBezTo>
                    <a:pt x="113" y="631"/>
                    <a:pt x="114" y="637"/>
                    <a:pt x="104" y="647"/>
                  </a:cubicBezTo>
                  <a:cubicBezTo>
                    <a:pt x="88" y="689"/>
                    <a:pt x="116" y="732"/>
                    <a:pt x="104" y="775"/>
                  </a:cubicBezTo>
                  <a:cubicBezTo>
                    <a:pt x="106" y="788"/>
                    <a:pt x="93" y="796"/>
                    <a:pt x="89" y="808"/>
                  </a:cubicBezTo>
                  <a:cubicBezTo>
                    <a:pt x="87" y="839"/>
                    <a:pt x="85" y="835"/>
                    <a:pt x="70" y="856"/>
                  </a:cubicBezTo>
                  <a:cubicBezTo>
                    <a:pt x="68" y="862"/>
                    <a:pt x="66" y="874"/>
                    <a:pt x="61" y="878"/>
                  </a:cubicBezTo>
                  <a:cubicBezTo>
                    <a:pt x="57" y="882"/>
                    <a:pt x="46" y="887"/>
                    <a:pt x="46" y="887"/>
                  </a:cubicBezTo>
                  <a:cubicBezTo>
                    <a:pt x="43" y="899"/>
                    <a:pt x="32" y="902"/>
                    <a:pt x="22" y="909"/>
                  </a:cubicBezTo>
                  <a:cubicBezTo>
                    <a:pt x="19" y="919"/>
                    <a:pt x="16" y="930"/>
                    <a:pt x="13" y="940"/>
                  </a:cubicBezTo>
                  <a:cubicBezTo>
                    <a:pt x="11" y="962"/>
                    <a:pt x="0" y="1033"/>
                    <a:pt x="27" y="1041"/>
                  </a:cubicBezTo>
                  <a:cubicBezTo>
                    <a:pt x="37" y="1047"/>
                    <a:pt x="48" y="1073"/>
                    <a:pt x="58" y="1079"/>
                  </a:cubicBezTo>
                  <a:cubicBezTo>
                    <a:pt x="63" y="1093"/>
                    <a:pt x="85" y="1095"/>
                    <a:pt x="99" y="1099"/>
                  </a:cubicBezTo>
                  <a:cubicBezTo>
                    <a:pt x="104" y="1100"/>
                    <a:pt x="113" y="1103"/>
                    <a:pt x="113" y="1103"/>
                  </a:cubicBezTo>
                  <a:cubicBezTo>
                    <a:pt x="130" y="1114"/>
                    <a:pt x="140" y="1131"/>
                    <a:pt x="161" y="1137"/>
                  </a:cubicBezTo>
                  <a:cubicBezTo>
                    <a:pt x="169" y="1142"/>
                    <a:pt x="174" y="1147"/>
                    <a:pt x="183" y="1149"/>
                  </a:cubicBezTo>
                  <a:cubicBezTo>
                    <a:pt x="197" y="1163"/>
                    <a:pt x="216" y="1166"/>
                    <a:pt x="233" y="1175"/>
                  </a:cubicBezTo>
                  <a:cubicBezTo>
                    <a:pt x="245" y="1189"/>
                    <a:pt x="238" y="1183"/>
                    <a:pt x="255" y="1195"/>
                  </a:cubicBezTo>
                  <a:cubicBezTo>
                    <a:pt x="259" y="1198"/>
                    <a:pt x="269" y="1199"/>
                    <a:pt x="269" y="1199"/>
                  </a:cubicBezTo>
                  <a:cubicBezTo>
                    <a:pt x="280" y="1206"/>
                    <a:pt x="290" y="1209"/>
                    <a:pt x="303" y="1211"/>
                  </a:cubicBezTo>
                  <a:cubicBezTo>
                    <a:pt x="326" y="1221"/>
                    <a:pt x="351" y="1228"/>
                    <a:pt x="375" y="1235"/>
                  </a:cubicBezTo>
                  <a:cubicBezTo>
                    <a:pt x="385" y="1247"/>
                    <a:pt x="395" y="1243"/>
                    <a:pt x="409" y="1247"/>
                  </a:cubicBezTo>
                  <a:cubicBezTo>
                    <a:pt x="424" y="1258"/>
                    <a:pt x="441" y="1259"/>
                    <a:pt x="459" y="1262"/>
                  </a:cubicBezTo>
                  <a:cubicBezTo>
                    <a:pt x="475" y="1268"/>
                    <a:pt x="478" y="1267"/>
                    <a:pt x="488" y="1271"/>
                  </a:cubicBezTo>
                  <a:cubicBezTo>
                    <a:pt x="501" y="1273"/>
                    <a:pt x="523" y="1272"/>
                    <a:pt x="538" y="1276"/>
                  </a:cubicBezTo>
                  <a:cubicBezTo>
                    <a:pt x="556" y="1284"/>
                    <a:pt x="557" y="1294"/>
                    <a:pt x="577" y="1295"/>
                  </a:cubicBezTo>
                  <a:cubicBezTo>
                    <a:pt x="593" y="1300"/>
                    <a:pt x="611" y="1304"/>
                    <a:pt x="627" y="1307"/>
                  </a:cubicBezTo>
                  <a:cubicBezTo>
                    <a:pt x="641" y="1313"/>
                    <a:pt x="657" y="1312"/>
                    <a:pt x="673" y="1315"/>
                  </a:cubicBezTo>
                  <a:cubicBezTo>
                    <a:pt x="725" y="1314"/>
                    <a:pt x="779" y="1314"/>
                    <a:pt x="831" y="1310"/>
                  </a:cubicBezTo>
                  <a:cubicBezTo>
                    <a:pt x="837" y="1290"/>
                    <a:pt x="831" y="1296"/>
                    <a:pt x="845" y="1288"/>
                  </a:cubicBezTo>
                  <a:cubicBezTo>
                    <a:pt x="864" y="1262"/>
                    <a:pt x="849" y="1247"/>
                    <a:pt x="886" y="1243"/>
                  </a:cubicBezTo>
                  <a:cubicBezTo>
                    <a:pt x="913" y="1231"/>
                    <a:pt x="944" y="1233"/>
                    <a:pt x="973" y="1231"/>
                  </a:cubicBezTo>
                  <a:cubicBezTo>
                    <a:pt x="981" y="1228"/>
                    <a:pt x="987" y="1223"/>
                    <a:pt x="994" y="1219"/>
                  </a:cubicBezTo>
                  <a:cubicBezTo>
                    <a:pt x="1002" y="1206"/>
                    <a:pt x="1013" y="1213"/>
                    <a:pt x="1023" y="1199"/>
                  </a:cubicBezTo>
                  <a:cubicBezTo>
                    <a:pt x="1039" y="1177"/>
                    <a:pt x="1062" y="1166"/>
                    <a:pt x="1088" y="1159"/>
                  </a:cubicBezTo>
                  <a:cubicBezTo>
                    <a:pt x="1098" y="1148"/>
                    <a:pt x="1108" y="1139"/>
                    <a:pt x="1121" y="1132"/>
                  </a:cubicBezTo>
                  <a:cubicBezTo>
                    <a:pt x="1128" y="1128"/>
                    <a:pt x="1143" y="1123"/>
                    <a:pt x="1143" y="1123"/>
                  </a:cubicBezTo>
                  <a:cubicBezTo>
                    <a:pt x="1156" y="1114"/>
                    <a:pt x="1168" y="1094"/>
                    <a:pt x="1184" y="1091"/>
                  </a:cubicBezTo>
                  <a:cubicBezTo>
                    <a:pt x="1198" y="1085"/>
                    <a:pt x="1250" y="1093"/>
                    <a:pt x="1268" y="1091"/>
                  </a:cubicBezTo>
                  <a:cubicBezTo>
                    <a:pt x="1293" y="1086"/>
                    <a:pt x="1315" y="1073"/>
                    <a:pt x="1340" y="1067"/>
                  </a:cubicBezTo>
                  <a:cubicBezTo>
                    <a:pt x="1342" y="1066"/>
                    <a:pt x="1345" y="1065"/>
                    <a:pt x="1347" y="1063"/>
                  </a:cubicBezTo>
                  <a:cubicBezTo>
                    <a:pt x="1349" y="1061"/>
                    <a:pt x="1349" y="1057"/>
                    <a:pt x="1352" y="1055"/>
                  </a:cubicBezTo>
                  <a:cubicBezTo>
                    <a:pt x="1357" y="1052"/>
                    <a:pt x="1375" y="1048"/>
                    <a:pt x="1381" y="1046"/>
                  </a:cubicBezTo>
                  <a:cubicBezTo>
                    <a:pt x="1396" y="1035"/>
                    <a:pt x="1414" y="1031"/>
                    <a:pt x="1431" y="1024"/>
                  </a:cubicBezTo>
                  <a:cubicBezTo>
                    <a:pt x="1443" y="1008"/>
                    <a:pt x="1447" y="982"/>
                    <a:pt x="1450" y="962"/>
                  </a:cubicBezTo>
                  <a:cubicBezTo>
                    <a:pt x="1452" y="910"/>
                    <a:pt x="1427" y="838"/>
                    <a:pt x="1469" y="796"/>
                  </a:cubicBezTo>
                  <a:cubicBezTo>
                    <a:pt x="1473" y="786"/>
                    <a:pt x="1474" y="783"/>
                    <a:pt x="1472" y="772"/>
                  </a:cubicBezTo>
                  <a:cubicBezTo>
                    <a:pt x="1473" y="744"/>
                    <a:pt x="1474" y="717"/>
                    <a:pt x="1493" y="695"/>
                  </a:cubicBezTo>
                  <a:cubicBezTo>
                    <a:pt x="1505" y="667"/>
                    <a:pt x="1496" y="636"/>
                    <a:pt x="1503" y="607"/>
                  </a:cubicBezTo>
                  <a:cubicBezTo>
                    <a:pt x="1502" y="573"/>
                    <a:pt x="1481" y="451"/>
                    <a:pt x="1513" y="419"/>
                  </a:cubicBezTo>
                  <a:cubicBezTo>
                    <a:pt x="1519" y="398"/>
                    <a:pt x="1517" y="410"/>
                    <a:pt x="1515" y="383"/>
                  </a:cubicBezTo>
                  <a:cubicBezTo>
                    <a:pt x="1514" y="344"/>
                    <a:pt x="1515" y="310"/>
                    <a:pt x="1508" y="273"/>
                  </a:cubicBezTo>
                  <a:cubicBezTo>
                    <a:pt x="1509" y="258"/>
                    <a:pt x="1505" y="217"/>
                    <a:pt x="1527" y="211"/>
                  </a:cubicBezTo>
                  <a:cubicBezTo>
                    <a:pt x="1538" y="169"/>
                    <a:pt x="1531" y="167"/>
                    <a:pt x="1493" y="163"/>
                  </a:cubicBezTo>
                  <a:cubicBezTo>
                    <a:pt x="1476" y="157"/>
                    <a:pt x="1471" y="151"/>
                    <a:pt x="1457" y="141"/>
                  </a:cubicBezTo>
                  <a:cubicBezTo>
                    <a:pt x="1454" y="133"/>
                    <a:pt x="1443" y="134"/>
                    <a:pt x="1438" y="127"/>
                  </a:cubicBezTo>
                  <a:cubicBezTo>
                    <a:pt x="1435" y="113"/>
                    <a:pt x="1428" y="111"/>
                    <a:pt x="1421" y="100"/>
                  </a:cubicBezTo>
                  <a:cubicBezTo>
                    <a:pt x="1388" y="48"/>
                    <a:pt x="1332" y="68"/>
                    <a:pt x="1270" y="67"/>
                  </a:cubicBezTo>
                  <a:cubicBezTo>
                    <a:pt x="1213" y="62"/>
                    <a:pt x="1239" y="53"/>
                    <a:pt x="1177" y="50"/>
                  </a:cubicBezTo>
                  <a:cubicBezTo>
                    <a:pt x="1164" y="45"/>
                    <a:pt x="1155" y="37"/>
                    <a:pt x="1141" y="33"/>
                  </a:cubicBezTo>
                  <a:cubicBezTo>
                    <a:pt x="1097" y="6"/>
                    <a:pt x="1040" y="15"/>
                    <a:pt x="989" y="11"/>
                  </a:cubicBezTo>
                  <a:cubicBezTo>
                    <a:pt x="956" y="12"/>
                    <a:pt x="918" y="0"/>
                    <a:pt x="889" y="16"/>
                  </a:cubicBezTo>
                  <a:cubicBezTo>
                    <a:pt x="880" y="21"/>
                    <a:pt x="879" y="36"/>
                    <a:pt x="869" y="43"/>
                  </a:cubicBezTo>
                  <a:cubicBezTo>
                    <a:pt x="859" y="60"/>
                    <a:pt x="877" y="60"/>
                    <a:pt x="845" y="64"/>
                  </a:cubicBezTo>
                  <a:cubicBezTo>
                    <a:pt x="823" y="71"/>
                    <a:pt x="819" y="88"/>
                    <a:pt x="797" y="98"/>
                  </a:cubicBezTo>
                  <a:cubicBezTo>
                    <a:pt x="787" y="102"/>
                    <a:pt x="776" y="102"/>
                    <a:pt x="766" y="105"/>
                  </a:cubicBezTo>
                  <a:cubicBezTo>
                    <a:pt x="764" y="142"/>
                    <a:pt x="772" y="138"/>
                    <a:pt x="747" y="143"/>
                  </a:cubicBezTo>
                  <a:cubicBezTo>
                    <a:pt x="745" y="146"/>
                    <a:pt x="744" y="149"/>
                    <a:pt x="742" y="151"/>
                  </a:cubicBezTo>
                  <a:cubicBezTo>
                    <a:pt x="740" y="153"/>
                    <a:pt x="737" y="151"/>
                    <a:pt x="735" y="153"/>
                  </a:cubicBezTo>
                  <a:cubicBezTo>
                    <a:pt x="731" y="157"/>
                    <a:pt x="732" y="163"/>
                    <a:pt x="728" y="167"/>
                  </a:cubicBezTo>
                  <a:cubicBezTo>
                    <a:pt x="721" y="174"/>
                    <a:pt x="708" y="178"/>
                    <a:pt x="699" y="182"/>
                  </a:cubicBezTo>
                  <a:cubicBezTo>
                    <a:pt x="690" y="194"/>
                    <a:pt x="689" y="199"/>
                    <a:pt x="675" y="203"/>
                  </a:cubicBezTo>
                  <a:cubicBezTo>
                    <a:pt x="668" y="202"/>
                    <a:pt x="637" y="199"/>
                    <a:pt x="627" y="203"/>
                  </a:cubicBezTo>
                  <a:cubicBezTo>
                    <a:pt x="624" y="204"/>
                    <a:pt x="624" y="209"/>
                    <a:pt x="622" y="211"/>
                  </a:cubicBezTo>
                  <a:cubicBezTo>
                    <a:pt x="605" y="230"/>
                    <a:pt x="611" y="225"/>
                    <a:pt x="584" y="227"/>
                  </a:cubicBezTo>
                  <a:cubicBezTo>
                    <a:pt x="564" y="235"/>
                    <a:pt x="561" y="237"/>
                    <a:pt x="536" y="239"/>
                  </a:cubicBezTo>
                  <a:cubicBezTo>
                    <a:pt x="531" y="248"/>
                    <a:pt x="533" y="245"/>
                    <a:pt x="529" y="249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2" name="Oval 57"/>
            <p:cNvSpPr/>
            <p:nvPr/>
          </p:nvSpPr>
          <p:spPr>
            <a:xfrm>
              <a:off x="1029960" y="42562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3" name="Oval 58"/>
            <p:cNvSpPr/>
            <p:nvPr/>
          </p:nvSpPr>
          <p:spPr>
            <a:xfrm>
              <a:off x="117432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4" name="Oval 59"/>
            <p:cNvSpPr/>
            <p:nvPr/>
          </p:nvSpPr>
          <p:spPr>
            <a:xfrm>
              <a:off x="1318680" y="4408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5" name="Oval 60"/>
            <p:cNvSpPr/>
            <p:nvPr/>
          </p:nvSpPr>
          <p:spPr>
            <a:xfrm>
              <a:off x="1386720" y="38750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6" name="Oval 61"/>
            <p:cNvSpPr/>
            <p:nvPr/>
          </p:nvSpPr>
          <p:spPr>
            <a:xfrm>
              <a:off x="1463040" y="43322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7" name="Oval 62"/>
            <p:cNvSpPr/>
            <p:nvPr/>
          </p:nvSpPr>
          <p:spPr>
            <a:xfrm>
              <a:off x="160920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8" name="Oval 63"/>
            <p:cNvSpPr/>
            <p:nvPr/>
          </p:nvSpPr>
          <p:spPr>
            <a:xfrm>
              <a:off x="2618280" y="44848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9" name="Oval 64"/>
            <p:cNvSpPr/>
            <p:nvPr/>
          </p:nvSpPr>
          <p:spPr>
            <a:xfrm>
              <a:off x="225756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0" name="Oval 65"/>
            <p:cNvSpPr/>
            <p:nvPr/>
          </p:nvSpPr>
          <p:spPr>
            <a:xfrm>
              <a:off x="1679760" y="44848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1" name="Oval 66"/>
            <p:cNvSpPr/>
            <p:nvPr/>
          </p:nvSpPr>
          <p:spPr>
            <a:xfrm>
              <a:off x="1822680" y="44085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2" name="Oval 67"/>
            <p:cNvSpPr/>
            <p:nvPr/>
          </p:nvSpPr>
          <p:spPr>
            <a:xfrm>
              <a:off x="196704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3" name="Oval 68"/>
            <p:cNvSpPr/>
            <p:nvPr/>
          </p:nvSpPr>
          <p:spPr>
            <a:xfrm>
              <a:off x="1967040" y="45608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4" name="Oval 69"/>
            <p:cNvSpPr/>
            <p:nvPr/>
          </p:nvSpPr>
          <p:spPr>
            <a:xfrm>
              <a:off x="1533960" y="4637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5" name="Oval 70"/>
            <p:cNvSpPr/>
            <p:nvPr/>
          </p:nvSpPr>
          <p:spPr>
            <a:xfrm>
              <a:off x="1318680" y="47134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6" name="Oval 71"/>
            <p:cNvSpPr/>
            <p:nvPr/>
          </p:nvSpPr>
          <p:spPr>
            <a:xfrm>
              <a:off x="1248120" y="4637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7" name="Oval 72"/>
            <p:cNvSpPr/>
            <p:nvPr/>
          </p:nvSpPr>
          <p:spPr>
            <a:xfrm>
              <a:off x="1392480" y="40276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8" name="Oval 73"/>
            <p:cNvSpPr/>
            <p:nvPr/>
          </p:nvSpPr>
          <p:spPr>
            <a:xfrm>
              <a:off x="1463040" y="41799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9" name="Oval 74"/>
            <p:cNvSpPr/>
            <p:nvPr/>
          </p:nvSpPr>
          <p:spPr>
            <a:xfrm>
              <a:off x="1315800" y="41036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0" name="Oval 75"/>
            <p:cNvSpPr/>
            <p:nvPr/>
          </p:nvSpPr>
          <p:spPr>
            <a:xfrm>
              <a:off x="1174320" y="41036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1" name="Oval 76"/>
            <p:cNvSpPr/>
            <p:nvPr/>
          </p:nvSpPr>
          <p:spPr>
            <a:xfrm>
              <a:off x="1244880" y="38750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2" name="Oval 77"/>
            <p:cNvSpPr/>
            <p:nvPr/>
          </p:nvSpPr>
          <p:spPr>
            <a:xfrm>
              <a:off x="1315800" y="37274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3" name="Oval 78"/>
            <p:cNvSpPr/>
            <p:nvPr/>
          </p:nvSpPr>
          <p:spPr>
            <a:xfrm>
              <a:off x="1538280" y="39513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4" name="Oval 79"/>
            <p:cNvSpPr/>
            <p:nvPr/>
          </p:nvSpPr>
          <p:spPr>
            <a:xfrm>
              <a:off x="1467720" y="34228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5" name="Oval 80"/>
            <p:cNvSpPr/>
            <p:nvPr/>
          </p:nvSpPr>
          <p:spPr>
            <a:xfrm>
              <a:off x="1750680" y="34988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6" name="Oval 81"/>
            <p:cNvSpPr/>
            <p:nvPr/>
          </p:nvSpPr>
          <p:spPr>
            <a:xfrm>
              <a:off x="1752120" y="3346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7" name="Oval 82"/>
            <p:cNvSpPr/>
            <p:nvPr/>
          </p:nvSpPr>
          <p:spPr>
            <a:xfrm>
              <a:off x="1893600" y="3189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8" name="Oval 83"/>
            <p:cNvSpPr/>
            <p:nvPr/>
          </p:nvSpPr>
          <p:spPr>
            <a:xfrm>
              <a:off x="1964160" y="3270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9" name="Oval 84"/>
            <p:cNvSpPr/>
            <p:nvPr/>
          </p:nvSpPr>
          <p:spPr>
            <a:xfrm>
              <a:off x="2187000" y="3494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0" name="Oval 85"/>
            <p:cNvSpPr/>
            <p:nvPr/>
          </p:nvSpPr>
          <p:spPr>
            <a:xfrm>
              <a:off x="2187000" y="3346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1" name="Oval 86"/>
            <p:cNvSpPr/>
            <p:nvPr/>
          </p:nvSpPr>
          <p:spPr>
            <a:xfrm>
              <a:off x="2116080" y="31892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2" name="Oval 87"/>
            <p:cNvSpPr/>
            <p:nvPr/>
          </p:nvSpPr>
          <p:spPr>
            <a:xfrm>
              <a:off x="2257560" y="31132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3" name="Oval 88"/>
            <p:cNvSpPr/>
            <p:nvPr/>
          </p:nvSpPr>
          <p:spPr>
            <a:xfrm>
              <a:off x="2328120" y="3265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4" name="Oval 89"/>
            <p:cNvSpPr/>
            <p:nvPr/>
          </p:nvSpPr>
          <p:spPr>
            <a:xfrm>
              <a:off x="2398680" y="31132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5" name="Oval 90"/>
            <p:cNvSpPr/>
            <p:nvPr/>
          </p:nvSpPr>
          <p:spPr>
            <a:xfrm>
              <a:off x="2618280" y="3270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6" name="Oval 91"/>
            <p:cNvSpPr/>
            <p:nvPr/>
          </p:nvSpPr>
          <p:spPr>
            <a:xfrm>
              <a:off x="2116080" y="30369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7" name="Text Box 97"/>
            <p:cNvSpPr/>
            <p:nvPr/>
          </p:nvSpPr>
          <p:spPr>
            <a:xfrm>
              <a:off x="704520" y="280872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ahoma"/>
                </a:rPr>
                <a:t>eventos</a:t>
              </a:r>
              <a:endParaRPr b="0" lang="en-US" sz="1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8" name="Line 98"/>
            <p:cNvSpPr/>
            <p:nvPr/>
          </p:nvSpPr>
          <p:spPr>
            <a:xfrm>
              <a:off x="1029960" y="3113280"/>
              <a:ext cx="28584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aphicFrame>
        <p:nvGraphicFramePr>
          <p:cNvPr id="1079" name="Object 100"/>
          <p:cNvGraphicFramePr/>
          <p:nvPr/>
        </p:nvGraphicFramePr>
        <p:xfrm>
          <a:off x="3962520" y="1494000"/>
          <a:ext cx="2438280" cy="23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0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1494000"/>
                    <a:ext cx="2438280" cy="2354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sp>
        <p:nvSpPr>
          <p:cNvPr id="1081" name="Oval 104"/>
          <p:cNvSpPr/>
          <p:nvPr/>
        </p:nvSpPr>
        <p:spPr>
          <a:xfrm>
            <a:off x="1447920" y="3809880"/>
            <a:ext cx="761760" cy="762120"/>
          </a:xfrm>
          <a:prstGeom prst="ellipse">
            <a:avLst/>
          </a:prstGeom>
          <a:noFill/>
          <a:ln w="2844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2" name="Line 105"/>
          <p:cNvSpPr/>
          <p:nvPr/>
        </p:nvSpPr>
        <p:spPr>
          <a:xfrm flipV="1">
            <a:off x="1847880" y="3881520"/>
            <a:ext cx="209520" cy="304560"/>
          </a:xfrm>
          <a:prstGeom prst="line">
            <a:avLst/>
          </a:prstGeom>
          <a:ln cap="sq"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3" name="Text Box 106"/>
          <p:cNvSpPr/>
          <p:nvPr/>
        </p:nvSpPr>
        <p:spPr>
          <a:xfrm>
            <a:off x="1875960" y="387396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4" name="Text Box 108"/>
          <p:cNvSpPr/>
          <p:nvPr/>
        </p:nvSpPr>
        <p:spPr>
          <a:xfrm>
            <a:off x="1672920" y="4041000"/>
            <a:ext cx="3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0000"/>
              </a:buClr>
              <a:buSzPct val="140000"/>
              <a:buFont typeface="AHD Symbo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085" name="Group 112"/>
          <p:cNvGrpSpPr/>
          <p:nvPr/>
        </p:nvGrpSpPr>
        <p:grpSpPr>
          <a:xfrm>
            <a:off x="3200040" y="2671560"/>
            <a:ext cx="686160" cy="2470320"/>
            <a:chOff x="3200040" y="2671560"/>
            <a:chExt cx="686160" cy="2470320"/>
          </a:xfrm>
        </p:grpSpPr>
        <p:cxnSp>
          <p:nvCxnSpPr>
            <p:cNvPr id="1086" name="AutoShape 111"/>
            <p:cNvCxnSpPr>
              <a:stCxn id="1040" idx="3"/>
            </p:cNvCxnSpPr>
            <p:nvPr/>
          </p:nvCxnSpPr>
          <p:spPr>
            <a:xfrm flipV="1">
              <a:off x="3200040" y="2671560"/>
              <a:ext cx="686520" cy="1211760"/>
            </a:xfrm>
            <a:prstGeom prst="bentConnector3">
              <a:avLst>
                <a:gd name="adj1" fmla="val 50000"/>
              </a:avLst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87" name="AutoShape 110"/>
            <p:cNvCxnSpPr>
              <a:stCxn id="1040" idx="3"/>
            </p:cNvCxnSpPr>
            <p:nvPr/>
          </p:nvCxnSpPr>
          <p:spPr>
            <a:xfrm>
              <a:off x="3200040" y="3882600"/>
              <a:ext cx="686520" cy="1259640"/>
            </a:xfrm>
            <a:prstGeom prst="bentConnector3">
              <a:avLst>
                <a:gd name="adj1" fmla="val 50000"/>
              </a:avLst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088" name="AutoShape 113"/>
          <p:cNvSpPr/>
          <p:nvPr/>
        </p:nvSpPr>
        <p:spPr>
          <a:xfrm>
            <a:off x="6477120" y="2519280"/>
            <a:ext cx="520560" cy="304920"/>
          </a:xfrm>
          <a:prstGeom prst="rightArrow">
            <a:avLst>
              <a:gd name="adj1" fmla="val 50000"/>
              <a:gd name="adj2" fmla="val 4268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9" name="AutoShape 114"/>
          <p:cNvSpPr/>
          <p:nvPr/>
        </p:nvSpPr>
        <p:spPr>
          <a:xfrm>
            <a:off x="6477120" y="4989600"/>
            <a:ext cx="520560" cy="304560"/>
          </a:xfrm>
          <a:prstGeom prst="rightArrow">
            <a:avLst>
              <a:gd name="adj1" fmla="val 50000"/>
              <a:gd name="adj2" fmla="val 4273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8CF1-6CF4-4666-BC5C-A8DF4E41C4E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1" name="Espaço Reservado para Data 5"/>
          <p:cNvSpPr/>
          <p:nvPr/>
        </p:nvSpPr>
        <p:spPr>
          <a:xfrm>
            <a:off x="-7128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rganiza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ribuição de Pon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racterização de Distribuição de Pon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imador de Intensidade (“Kernel Estimation”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étodo do Vizinho Mais Próxim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unção K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s Práticos com o Sistema SPRIN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EB62-35C4-45B6-B1F8-97BB01140AE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2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3" name="Rectangle 66"/>
          <p:cNvSpPr/>
          <p:nvPr/>
        </p:nvSpPr>
        <p:spPr>
          <a:xfrm>
            <a:off x="401760" y="2867040"/>
            <a:ext cx="2573280" cy="23590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ma visão do Kernel em SI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6" name="Object 27"/>
          <p:cNvGraphicFramePr/>
          <p:nvPr/>
        </p:nvGraphicFramePr>
        <p:xfrm>
          <a:off x="6324480" y="2867040"/>
          <a:ext cx="243864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7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867040"/>
                    <a:ext cx="2438640" cy="235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sp>
        <p:nvSpPr>
          <p:cNvPr id="1098" name="Freeform 28"/>
          <p:cNvSpPr/>
          <p:nvPr/>
        </p:nvSpPr>
        <p:spPr>
          <a:xfrm>
            <a:off x="474840" y="3052800"/>
            <a:ext cx="2441520" cy="208764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538" h="1315">
                <a:moveTo>
                  <a:pt x="529" y="249"/>
                </a:moveTo>
                <a:cubicBezTo>
                  <a:pt x="516" y="252"/>
                  <a:pt x="504" y="257"/>
                  <a:pt x="493" y="263"/>
                </a:cubicBezTo>
                <a:cubicBezTo>
                  <a:pt x="489" y="272"/>
                  <a:pt x="488" y="277"/>
                  <a:pt x="478" y="280"/>
                </a:cubicBezTo>
                <a:cubicBezTo>
                  <a:pt x="476" y="283"/>
                  <a:pt x="458" y="306"/>
                  <a:pt x="457" y="307"/>
                </a:cubicBezTo>
                <a:cubicBezTo>
                  <a:pt x="452" y="310"/>
                  <a:pt x="441" y="311"/>
                  <a:pt x="435" y="314"/>
                </a:cubicBezTo>
                <a:cubicBezTo>
                  <a:pt x="430" y="321"/>
                  <a:pt x="428" y="329"/>
                  <a:pt x="423" y="335"/>
                </a:cubicBezTo>
                <a:cubicBezTo>
                  <a:pt x="414" y="347"/>
                  <a:pt x="383" y="350"/>
                  <a:pt x="370" y="352"/>
                </a:cubicBezTo>
                <a:cubicBezTo>
                  <a:pt x="353" y="359"/>
                  <a:pt x="367" y="383"/>
                  <a:pt x="349" y="388"/>
                </a:cubicBezTo>
                <a:cubicBezTo>
                  <a:pt x="338" y="402"/>
                  <a:pt x="319" y="416"/>
                  <a:pt x="305" y="427"/>
                </a:cubicBezTo>
                <a:cubicBezTo>
                  <a:pt x="300" y="444"/>
                  <a:pt x="308" y="426"/>
                  <a:pt x="296" y="436"/>
                </a:cubicBezTo>
                <a:cubicBezTo>
                  <a:pt x="284" y="447"/>
                  <a:pt x="288" y="462"/>
                  <a:pt x="269" y="467"/>
                </a:cubicBezTo>
                <a:cubicBezTo>
                  <a:pt x="261" y="482"/>
                  <a:pt x="248" y="488"/>
                  <a:pt x="238" y="501"/>
                </a:cubicBezTo>
                <a:cubicBezTo>
                  <a:pt x="235" y="512"/>
                  <a:pt x="224" y="519"/>
                  <a:pt x="214" y="523"/>
                </a:cubicBezTo>
                <a:cubicBezTo>
                  <a:pt x="211" y="535"/>
                  <a:pt x="204" y="542"/>
                  <a:pt x="195" y="549"/>
                </a:cubicBezTo>
                <a:cubicBezTo>
                  <a:pt x="192" y="559"/>
                  <a:pt x="188" y="570"/>
                  <a:pt x="178" y="573"/>
                </a:cubicBezTo>
                <a:cubicBezTo>
                  <a:pt x="170" y="579"/>
                  <a:pt x="159" y="584"/>
                  <a:pt x="149" y="587"/>
                </a:cubicBezTo>
                <a:cubicBezTo>
                  <a:pt x="136" y="596"/>
                  <a:pt x="130" y="607"/>
                  <a:pt x="118" y="616"/>
                </a:cubicBezTo>
                <a:cubicBezTo>
                  <a:pt x="113" y="631"/>
                  <a:pt x="114" y="637"/>
                  <a:pt x="104" y="647"/>
                </a:cubicBezTo>
                <a:cubicBezTo>
                  <a:pt x="88" y="689"/>
                  <a:pt x="116" y="732"/>
                  <a:pt x="104" y="775"/>
                </a:cubicBezTo>
                <a:cubicBezTo>
                  <a:pt x="106" y="788"/>
                  <a:pt x="93" y="796"/>
                  <a:pt x="89" y="808"/>
                </a:cubicBezTo>
                <a:cubicBezTo>
                  <a:pt x="87" y="839"/>
                  <a:pt x="85" y="835"/>
                  <a:pt x="70" y="856"/>
                </a:cubicBezTo>
                <a:cubicBezTo>
                  <a:pt x="68" y="862"/>
                  <a:pt x="66" y="874"/>
                  <a:pt x="61" y="878"/>
                </a:cubicBezTo>
                <a:cubicBezTo>
                  <a:pt x="57" y="882"/>
                  <a:pt x="46" y="887"/>
                  <a:pt x="46" y="887"/>
                </a:cubicBezTo>
                <a:cubicBezTo>
                  <a:pt x="43" y="899"/>
                  <a:pt x="32" y="902"/>
                  <a:pt x="22" y="909"/>
                </a:cubicBezTo>
                <a:cubicBezTo>
                  <a:pt x="19" y="919"/>
                  <a:pt x="16" y="930"/>
                  <a:pt x="13" y="940"/>
                </a:cubicBezTo>
                <a:cubicBezTo>
                  <a:pt x="11" y="962"/>
                  <a:pt x="0" y="1033"/>
                  <a:pt x="27" y="1041"/>
                </a:cubicBezTo>
                <a:cubicBezTo>
                  <a:pt x="37" y="1047"/>
                  <a:pt x="48" y="1073"/>
                  <a:pt x="58" y="1079"/>
                </a:cubicBezTo>
                <a:cubicBezTo>
                  <a:pt x="63" y="1093"/>
                  <a:pt x="85" y="1095"/>
                  <a:pt x="99" y="1099"/>
                </a:cubicBezTo>
                <a:cubicBezTo>
                  <a:pt x="104" y="1100"/>
                  <a:pt x="113" y="1103"/>
                  <a:pt x="113" y="1103"/>
                </a:cubicBezTo>
                <a:cubicBezTo>
                  <a:pt x="130" y="1114"/>
                  <a:pt x="140" y="1131"/>
                  <a:pt x="161" y="1137"/>
                </a:cubicBezTo>
                <a:cubicBezTo>
                  <a:pt x="169" y="1142"/>
                  <a:pt x="174" y="1147"/>
                  <a:pt x="183" y="1149"/>
                </a:cubicBezTo>
                <a:cubicBezTo>
                  <a:pt x="197" y="1163"/>
                  <a:pt x="216" y="1166"/>
                  <a:pt x="233" y="1175"/>
                </a:cubicBezTo>
                <a:cubicBezTo>
                  <a:pt x="245" y="1189"/>
                  <a:pt x="238" y="1183"/>
                  <a:pt x="255" y="1195"/>
                </a:cubicBezTo>
                <a:cubicBezTo>
                  <a:pt x="259" y="1198"/>
                  <a:pt x="269" y="1199"/>
                  <a:pt x="269" y="1199"/>
                </a:cubicBezTo>
                <a:cubicBezTo>
                  <a:pt x="280" y="1206"/>
                  <a:pt x="290" y="1209"/>
                  <a:pt x="303" y="1211"/>
                </a:cubicBezTo>
                <a:cubicBezTo>
                  <a:pt x="326" y="1221"/>
                  <a:pt x="351" y="1228"/>
                  <a:pt x="375" y="1235"/>
                </a:cubicBezTo>
                <a:cubicBezTo>
                  <a:pt x="385" y="1247"/>
                  <a:pt x="395" y="1243"/>
                  <a:pt x="409" y="1247"/>
                </a:cubicBezTo>
                <a:cubicBezTo>
                  <a:pt x="424" y="1258"/>
                  <a:pt x="441" y="1259"/>
                  <a:pt x="459" y="1262"/>
                </a:cubicBezTo>
                <a:cubicBezTo>
                  <a:pt x="475" y="1268"/>
                  <a:pt x="478" y="1267"/>
                  <a:pt x="488" y="1271"/>
                </a:cubicBezTo>
                <a:cubicBezTo>
                  <a:pt x="501" y="1273"/>
                  <a:pt x="523" y="1272"/>
                  <a:pt x="538" y="1276"/>
                </a:cubicBezTo>
                <a:cubicBezTo>
                  <a:pt x="556" y="1284"/>
                  <a:pt x="557" y="1294"/>
                  <a:pt x="577" y="1295"/>
                </a:cubicBezTo>
                <a:cubicBezTo>
                  <a:pt x="593" y="1300"/>
                  <a:pt x="611" y="1304"/>
                  <a:pt x="627" y="1307"/>
                </a:cubicBezTo>
                <a:cubicBezTo>
                  <a:pt x="641" y="1313"/>
                  <a:pt x="657" y="1312"/>
                  <a:pt x="673" y="1315"/>
                </a:cubicBezTo>
                <a:cubicBezTo>
                  <a:pt x="725" y="1314"/>
                  <a:pt x="779" y="1314"/>
                  <a:pt x="831" y="1310"/>
                </a:cubicBezTo>
                <a:cubicBezTo>
                  <a:pt x="837" y="1290"/>
                  <a:pt x="831" y="1296"/>
                  <a:pt x="845" y="1288"/>
                </a:cubicBezTo>
                <a:cubicBezTo>
                  <a:pt x="864" y="1262"/>
                  <a:pt x="849" y="1247"/>
                  <a:pt x="886" y="1243"/>
                </a:cubicBezTo>
                <a:cubicBezTo>
                  <a:pt x="913" y="1231"/>
                  <a:pt x="944" y="1233"/>
                  <a:pt x="973" y="1231"/>
                </a:cubicBezTo>
                <a:cubicBezTo>
                  <a:pt x="981" y="1228"/>
                  <a:pt x="987" y="1223"/>
                  <a:pt x="994" y="1219"/>
                </a:cubicBezTo>
                <a:cubicBezTo>
                  <a:pt x="1002" y="1206"/>
                  <a:pt x="1013" y="1213"/>
                  <a:pt x="1023" y="1199"/>
                </a:cubicBezTo>
                <a:cubicBezTo>
                  <a:pt x="1039" y="1177"/>
                  <a:pt x="1062" y="1166"/>
                  <a:pt x="1088" y="1159"/>
                </a:cubicBezTo>
                <a:cubicBezTo>
                  <a:pt x="1098" y="1148"/>
                  <a:pt x="1108" y="1139"/>
                  <a:pt x="1121" y="1132"/>
                </a:cubicBezTo>
                <a:cubicBezTo>
                  <a:pt x="1128" y="1128"/>
                  <a:pt x="1143" y="1123"/>
                  <a:pt x="1143" y="1123"/>
                </a:cubicBezTo>
                <a:cubicBezTo>
                  <a:pt x="1156" y="1114"/>
                  <a:pt x="1168" y="1094"/>
                  <a:pt x="1184" y="1091"/>
                </a:cubicBezTo>
                <a:cubicBezTo>
                  <a:pt x="1198" y="1085"/>
                  <a:pt x="1250" y="1093"/>
                  <a:pt x="1268" y="1091"/>
                </a:cubicBezTo>
                <a:cubicBezTo>
                  <a:pt x="1293" y="1086"/>
                  <a:pt x="1315" y="1073"/>
                  <a:pt x="1340" y="1067"/>
                </a:cubicBezTo>
                <a:cubicBezTo>
                  <a:pt x="1342" y="1066"/>
                  <a:pt x="1345" y="1065"/>
                  <a:pt x="1347" y="1063"/>
                </a:cubicBezTo>
                <a:cubicBezTo>
                  <a:pt x="1349" y="1061"/>
                  <a:pt x="1349" y="1057"/>
                  <a:pt x="1352" y="1055"/>
                </a:cubicBezTo>
                <a:cubicBezTo>
                  <a:pt x="1357" y="1052"/>
                  <a:pt x="1375" y="1048"/>
                  <a:pt x="1381" y="1046"/>
                </a:cubicBezTo>
                <a:cubicBezTo>
                  <a:pt x="1396" y="1035"/>
                  <a:pt x="1414" y="1031"/>
                  <a:pt x="1431" y="1024"/>
                </a:cubicBezTo>
                <a:cubicBezTo>
                  <a:pt x="1443" y="1008"/>
                  <a:pt x="1447" y="982"/>
                  <a:pt x="1450" y="962"/>
                </a:cubicBezTo>
                <a:cubicBezTo>
                  <a:pt x="1452" y="910"/>
                  <a:pt x="1427" y="838"/>
                  <a:pt x="1469" y="796"/>
                </a:cubicBezTo>
                <a:cubicBezTo>
                  <a:pt x="1473" y="786"/>
                  <a:pt x="1474" y="783"/>
                  <a:pt x="1472" y="772"/>
                </a:cubicBezTo>
                <a:cubicBezTo>
                  <a:pt x="1473" y="744"/>
                  <a:pt x="1474" y="717"/>
                  <a:pt x="1493" y="695"/>
                </a:cubicBezTo>
                <a:cubicBezTo>
                  <a:pt x="1505" y="667"/>
                  <a:pt x="1496" y="636"/>
                  <a:pt x="1503" y="607"/>
                </a:cubicBezTo>
                <a:cubicBezTo>
                  <a:pt x="1502" y="573"/>
                  <a:pt x="1481" y="451"/>
                  <a:pt x="1513" y="419"/>
                </a:cubicBezTo>
                <a:cubicBezTo>
                  <a:pt x="1519" y="398"/>
                  <a:pt x="1517" y="410"/>
                  <a:pt x="1515" y="383"/>
                </a:cubicBezTo>
                <a:cubicBezTo>
                  <a:pt x="1514" y="344"/>
                  <a:pt x="1515" y="310"/>
                  <a:pt x="1508" y="273"/>
                </a:cubicBezTo>
                <a:cubicBezTo>
                  <a:pt x="1509" y="258"/>
                  <a:pt x="1505" y="217"/>
                  <a:pt x="1527" y="211"/>
                </a:cubicBezTo>
                <a:cubicBezTo>
                  <a:pt x="1538" y="169"/>
                  <a:pt x="1531" y="167"/>
                  <a:pt x="1493" y="163"/>
                </a:cubicBezTo>
                <a:cubicBezTo>
                  <a:pt x="1476" y="157"/>
                  <a:pt x="1471" y="151"/>
                  <a:pt x="1457" y="141"/>
                </a:cubicBezTo>
                <a:cubicBezTo>
                  <a:pt x="1454" y="133"/>
                  <a:pt x="1443" y="134"/>
                  <a:pt x="1438" y="127"/>
                </a:cubicBezTo>
                <a:cubicBezTo>
                  <a:pt x="1435" y="113"/>
                  <a:pt x="1428" y="111"/>
                  <a:pt x="1421" y="100"/>
                </a:cubicBezTo>
                <a:cubicBezTo>
                  <a:pt x="1388" y="48"/>
                  <a:pt x="1332" y="68"/>
                  <a:pt x="1270" y="67"/>
                </a:cubicBezTo>
                <a:cubicBezTo>
                  <a:pt x="1213" y="62"/>
                  <a:pt x="1239" y="53"/>
                  <a:pt x="1177" y="50"/>
                </a:cubicBezTo>
                <a:cubicBezTo>
                  <a:pt x="1164" y="45"/>
                  <a:pt x="1155" y="37"/>
                  <a:pt x="1141" y="33"/>
                </a:cubicBezTo>
                <a:cubicBezTo>
                  <a:pt x="1097" y="6"/>
                  <a:pt x="1040" y="15"/>
                  <a:pt x="989" y="11"/>
                </a:cubicBezTo>
                <a:cubicBezTo>
                  <a:pt x="956" y="12"/>
                  <a:pt x="918" y="0"/>
                  <a:pt x="889" y="16"/>
                </a:cubicBezTo>
                <a:cubicBezTo>
                  <a:pt x="880" y="21"/>
                  <a:pt x="879" y="36"/>
                  <a:pt x="869" y="43"/>
                </a:cubicBezTo>
                <a:cubicBezTo>
                  <a:pt x="859" y="60"/>
                  <a:pt x="877" y="60"/>
                  <a:pt x="845" y="64"/>
                </a:cubicBezTo>
                <a:cubicBezTo>
                  <a:pt x="823" y="71"/>
                  <a:pt x="819" y="88"/>
                  <a:pt x="797" y="98"/>
                </a:cubicBezTo>
                <a:cubicBezTo>
                  <a:pt x="787" y="102"/>
                  <a:pt x="776" y="102"/>
                  <a:pt x="766" y="105"/>
                </a:cubicBezTo>
                <a:cubicBezTo>
                  <a:pt x="764" y="142"/>
                  <a:pt x="772" y="138"/>
                  <a:pt x="747" y="143"/>
                </a:cubicBezTo>
                <a:cubicBezTo>
                  <a:pt x="745" y="146"/>
                  <a:pt x="744" y="149"/>
                  <a:pt x="742" y="151"/>
                </a:cubicBezTo>
                <a:cubicBezTo>
                  <a:pt x="740" y="153"/>
                  <a:pt x="737" y="151"/>
                  <a:pt x="735" y="153"/>
                </a:cubicBezTo>
                <a:cubicBezTo>
                  <a:pt x="731" y="157"/>
                  <a:pt x="732" y="163"/>
                  <a:pt x="728" y="167"/>
                </a:cubicBezTo>
                <a:cubicBezTo>
                  <a:pt x="721" y="174"/>
                  <a:pt x="708" y="178"/>
                  <a:pt x="699" y="182"/>
                </a:cubicBezTo>
                <a:cubicBezTo>
                  <a:pt x="690" y="194"/>
                  <a:pt x="689" y="199"/>
                  <a:pt x="675" y="203"/>
                </a:cubicBezTo>
                <a:cubicBezTo>
                  <a:pt x="668" y="202"/>
                  <a:pt x="637" y="199"/>
                  <a:pt x="627" y="203"/>
                </a:cubicBezTo>
                <a:cubicBezTo>
                  <a:pt x="624" y="204"/>
                  <a:pt x="624" y="209"/>
                  <a:pt x="622" y="211"/>
                </a:cubicBezTo>
                <a:cubicBezTo>
                  <a:pt x="605" y="230"/>
                  <a:pt x="611" y="225"/>
                  <a:pt x="584" y="227"/>
                </a:cubicBezTo>
                <a:cubicBezTo>
                  <a:pt x="564" y="235"/>
                  <a:pt x="561" y="237"/>
                  <a:pt x="536" y="239"/>
                </a:cubicBezTo>
                <a:cubicBezTo>
                  <a:pt x="531" y="248"/>
                  <a:pt x="533" y="245"/>
                  <a:pt x="529" y="249"/>
                </a:cubicBezTo>
                <a:close/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9" name="Oval 29"/>
          <p:cNvSpPr/>
          <p:nvPr/>
        </p:nvSpPr>
        <p:spPr>
          <a:xfrm>
            <a:off x="765000" y="4419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0" name="Oval 30"/>
          <p:cNvSpPr/>
          <p:nvPr/>
        </p:nvSpPr>
        <p:spPr>
          <a:xfrm>
            <a:off x="91764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1" name="Oval 31"/>
          <p:cNvSpPr/>
          <p:nvPr/>
        </p:nvSpPr>
        <p:spPr>
          <a:xfrm>
            <a:off x="106992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2" name="Oval 32"/>
          <p:cNvSpPr/>
          <p:nvPr/>
        </p:nvSpPr>
        <p:spPr>
          <a:xfrm>
            <a:off x="114156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3" name="Oval 33"/>
          <p:cNvSpPr/>
          <p:nvPr/>
        </p:nvSpPr>
        <p:spPr>
          <a:xfrm>
            <a:off x="122220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4" name="Oval 34"/>
          <p:cNvSpPr/>
          <p:nvPr/>
        </p:nvSpPr>
        <p:spPr>
          <a:xfrm>
            <a:off x="13762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5" name="Oval 35"/>
          <p:cNvSpPr/>
          <p:nvPr/>
        </p:nvSpPr>
        <p:spPr>
          <a:xfrm>
            <a:off x="244152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6" name="Oval 36"/>
          <p:cNvSpPr/>
          <p:nvPr/>
        </p:nvSpPr>
        <p:spPr>
          <a:xfrm>
            <a:off x="206064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7" name="Oval 37"/>
          <p:cNvSpPr/>
          <p:nvPr/>
        </p:nvSpPr>
        <p:spPr>
          <a:xfrm>
            <a:off x="1450800" y="46483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8" name="Oval 38"/>
          <p:cNvSpPr/>
          <p:nvPr/>
        </p:nvSpPr>
        <p:spPr>
          <a:xfrm>
            <a:off x="1601640" y="45720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9" name="Oval 39"/>
          <p:cNvSpPr/>
          <p:nvPr/>
        </p:nvSpPr>
        <p:spPr>
          <a:xfrm>
            <a:off x="17542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0" name="Oval 40"/>
          <p:cNvSpPr/>
          <p:nvPr/>
        </p:nvSpPr>
        <p:spPr>
          <a:xfrm>
            <a:off x="1754280" y="47242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1" name="Oval 41"/>
          <p:cNvSpPr/>
          <p:nvPr/>
        </p:nvSpPr>
        <p:spPr>
          <a:xfrm>
            <a:off x="129708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2" name="Oval 42"/>
          <p:cNvSpPr/>
          <p:nvPr/>
        </p:nvSpPr>
        <p:spPr>
          <a:xfrm>
            <a:off x="1069920" y="48769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3" name="Oval 43"/>
          <p:cNvSpPr/>
          <p:nvPr/>
        </p:nvSpPr>
        <p:spPr>
          <a:xfrm>
            <a:off x="99540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4" name="Oval 44"/>
          <p:cNvSpPr/>
          <p:nvPr/>
        </p:nvSpPr>
        <p:spPr>
          <a:xfrm>
            <a:off x="1147680" y="41911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5" name="Oval 45"/>
          <p:cNvSpPr/>
          <p:nvPr/>
        </p:nvSpPr>
        <p:spPr>
          <a:xfrm>
            <a:off x="1222200" y="43434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6" name="Oval 46"/>
          <p:cNvSpPr/>
          <p:nvPr/>
        </p:nvSpPr>
        <p:spPr>
          <a:xfrm>
            <a:off x="1066680" y="42670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7" name="Oval 47"/>
          <p:cNvSpPr/>
          <p:nvPr/>
        </p:nvSpPr>
        <p:spPr>
          <a:xfrm>
            <a:off x="917640" y="42670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8" name="Oval 48"/>
          <p:cNvSpPr/>
          <p:nvPr/>
        </p:nvSpPr>
        <p:spPr>
          <a:xfrm>
            <a:off x="99216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9" name="Oval 49"/>
          <p:cNvSpPr/>
          <p:nvPr/>
        </p:nvSpPr>
        <p:spPr>
          <a:xfrm>
            <a:off x="1066680" y="38908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0" name="Oval 51"/>
          <p:cNvSpPr/>
          <p:nvPr/>
        </p:nvSpPr>
        <p:spPr>
          <a:xfrm>
            <a:off x="1301760" y="41148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1" name="Oval 52"/>
          <p:cNvSpPr/>
          <p:nvPr/>
        </p:nvSpPr>
        <p:spPr>
          <a:xfrm>
            <a:off x="1227240" y="3586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2" name="Oval 53"/>
          <p:cNvSpPr/>
          <p:nvPr/>
        </p:nvSpPr>
        <p:spPr>
          <a:xfrm>
            <a:off x="1525680" y="36622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3" name="Oval 54"/>
          <p:cNvSpPr/>
          <p:nvPr/>
        </p:nvSpPr>
        <p:spPr>
          <a:xfrm>
            <a:off x="152712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4" name="Oval 55"/>
          <p:cNvSpPr/>
          <p:nvPr/>
        </p:nvSpPr>
        <p:spPr>
          <a:xfrm>
            <a:off x="1676520" y="3352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5" name="Oval 56"/>
          <p:cNvSpPr/>
          <p:nvPr/>
        </p:nvSpPr>
        <p:spPr>
          <a:xfrm>
            <a:off x="175104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6" name="Oval 57"/>
          <p:cNvSpPr/>
          <p:nvPr/>
        </p:nvSpPr>
        <p:spPr>
          <a:xfrm>
            <a:off x="1986120" y="3657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7" name="Oval 58"/>
          <p:cNvSpPr/>
          <p:nvPr/>
        </p:nvSpPr>
        <p:spPr>
          <a:xfrm>
            <a:off x="198612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8" name="Oval 59"/>
          <p:cNvSpPr/>
          <p:nvPr/>
        </p:nvSpPr>
        <p:spPr>
          <a:xfrm>
            <a:off x="1911240" y="3352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9" name="Oval 60"/>
          <p:cNvSpPr/>
          <p:nvPr/>
        </p:nvSpPr>
        <p:spPr>
          <a:xfrm>
            <a:off x="2060640" y="3276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0" name="Oval 61"/>
          <p:cNvSpPr/>
          <p:nvPr/>
        </p:nvSpPr>
        <p:spPr>
          <a:xfrm>
            <a:off x="2135160" y="3429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1" name="Oval 62"/>
          <p:cNvSpPr/>
          <p:nvPr/>
        </p:nvSpPr>
        <p:spPr>
          <a:xfrm>
            <a:off x="2209680" y="3276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2" name="Oval 63"/>
          <p:cNvSpPr/>
          <p:nvPr/>
        </p:nvSpPr>
        <p:spPr>
          <a:xfrm>
            <a:off x="244152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3" name="Oval 65"/>
          <p:cNvSpPr/>
          <p:nvPr/>
        </p:nvSpPr>
        <p:spPr>
          <a:xfrm>
            <a:off x="1911240" y="32004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4" name="Rectangle 67"/>
          <p:cNvSpPr/>
          <p:nvPr/>
        </p:nvSpPr>
        <p:spPr>
          <a:xfrm>
            <a:off x="3352680" y="2867040"/>
            <a:ext cx="2573280" cy="23590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5" name="Freeform 68"/>
          <p:cNvSpPr/>
          <p:nvPr/>
        </p:nvSpPr>
        <p:spPr>
          <a:xfrm>
            <a:off x="3425760" y="3052800"/>
            <a:ext cx="2441520" cy="208764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538" h="1315">
                <a:moveTo>
                  <a:pt x="529" y="249"/>
                </a:moveTo>
                <a:cubicBezTo>
                  <a:pt x="516" y="252"/>
                  <a:pt x="504" y="257"/>
                  <a:pt x="493" y="263"/>
                </a:cubicBezTo>
                <a:cubicBezTo>
                  <a:pt x="489" y="272"/>
                  <a:pt x="488" y="277"/>
                  <a:pt x="478" y="280"/>
                </a:cubicBezTo>
                <a:cubicBezTo>
                  <a:pt x="476" y="283"/>
                  <a:pt x="458" y="306"/>
                  <a:pt x="457" y="307"/>
                </a:cubicBezTo>
                <a:cubicBezTo>
                  <a:pt x="452" y="310"/>
                  <a:pt x="441" y="311"/>
                  <a:pt x="435" y="314"/>
                </a:cubicBezTo>
                <a:cubicBezTo>
                  <a:pt x="430" y="321"/>
                  <a:pt x="428" y="329"/>
                  <a:pt x="423" y="335"/>
                </a:cubicBezTo>
                <a:cubicBezTo>
                  <a:pt x="414" y="347"/>
                  <a:pt x="383" y="350"/>
                  <a:pt x="370" y="352"/>
                </a:cubicBezTo>
                <a:cubicBezTo>
                  <a:pt x="353" y="359"/>
                  <a:pt x="367" y="383"/>
                  <a:pt x="349" y="388"/>
                </a:cubicBezTo>
                <a:cubicBezTo>
                  <a:pt x="338" y="402"/>
                  <a:pt x="319" y="416"/>
                  <a:pt x="305" y="427"/>
                </a:cubicBezTo>
                <a:cubicBezTo>
                  <a:pt x="300" y="444"/>
                  <a:pt x="308" y="426"/>
                  <a:pt x="296" y="436"/>
                </a:cubicBezTo>
                <a:cubicBezTo>
                  <a:pt x="284" y="447"/>
                  <a:pt x="288" y="462"/>
                  <a:pt x="269" y="467"/>
                </a:cubicBezTo>
                <a:cubicBezTo>
                  <a:pt x="261" y="482"/>
                  <a:pt x="248" y="488"/>
                  <a:pt x="238" y="501"/>
                </a:cubicBezTo>
                <a:cubicBezTo>
                  <a:pt x="235" y="512"/>
                  <a:pt x="224" y="519"/>
                  <a:pt x="214" y="523"/>
                </a:cubicBezTo>
                <a:cubicBezTo>
                  <a:pt x="211" y="535"/>
                  <a:pt x="204" y="542"/>
                  <a:pt x="195" y="549"/>
                </a:cubicBezTo>
                <a:cubicBezTo>
                  <a:pt x="192" y="559"/>
                  <a:pt x="188" y="570"/>
                  <a:pt x="178" y="573"/>
                </a:cubicBezTo>
                <a:cubicBezTo>
                  <a:pt x="170" y="579"/>
                  <a:pt x="159" y="584"/>
                  <a:pt x="149" y="587"/>
                </a:cubicBezTo>
                <a:cubicBezTo>
                  <a:pt x="136" y="596"/>
                  <a:pt x="130" y="607"/>
                  <a:pt x="118" y="616"/>
                </a:cubicBezTo>
                <a:cubicBezTo>
                  <a:pt x="113" y="631"/>
                  <a:pt x="114" y="637"/>
                  <a:pt x="104" y="647"/>
                </a:cubicBezTo>
                <a:cubicBezTo>
                  <a:pt x="88" y="689"/>
                  <a:pt x="116" y="732"/>
                  <a:pt x="104" y="775"/>
                </a:cubicBezTo>
                <a:cubicBezTo>
                  <a:pt x="106" y="788"/>
                  <a:pt x="93" y="796"/>
                  <a:pt x="89" y="808"/>
                </a:cubicBezTo>
                <a:cubicBezTo>
                  <a:pt x="87" y="839"/>
                  <a:pt x="85" y="835"/>
                  <a:pt x="70" y="856"/>
                </a:cubicBezTo>
                <a:cubicBezTo>
                  <a:pt x="68" y="862"/>
                  <a:pt x="66" y="874"/>
                  <a:pt x="61" y="878"/>
                </a:cubicBezTo>
                <a:cubicBezTo>
                  <a:pt x="57" y="882"/>
                  <a:pt x="46" y="887"/>
                  <a:pt x="46" y="887"/>
                </a:cubicBezTo>
                <a:cubicBezTo>
                  <a:pt x="43" y="899"/>
                  <a:pt x="32" y="902"/>
                  <a:pt x="22" y="909"/>
                </a:cubicBezTo>
                <a:cubicBezTo>
                  <a:pt x="19" y="919"/>
                  <a:pt x="16" y="930"/>
                  <a:pt x="13" y="940"/>
                </a:cubicBezTo>
                <a:cubicBezTo>
                  <a:pt x="11" y="962"/>
                  <a:pt x="0" y="1033"/>
                  <a:pt x="27" y="1041"/>
                </a:cubicBezTo>
                <a:cubicBezTo>
                  <a:pt x="37" y="1047"/>
                  <a:pt x="48" y="1073"/>
                  <a:pt x="58" y="1079"/>
                </a:cubicBezTo>
                <a:cubicBezTo>
                  <a:pt x="63" y="1093"/>
                  <a:pt x="85" y="1095"/>
                  <a:pt x="99" y="1099"/>
                </a:cubicBezTo>
                <a:cubicBezTo>
                  <a:pt x="104" y="1100"/>
                  <a:pt x="113" y="1103"/>
                  <a:pt x="113" y="1103"/>
                </a:cubicBezTo>
                <a:cubicBezTo>
                  <a:pt x="130" y="1114"/>
                  <a:pt x="140" y="1131"/>
                  <a:pt x="161" y="1137"/>
                </a:cubicBezTo>
                <a:cubicBezTo>
                  <a:pt x="169" y="1142"/>
                  <a:pt x="174" y="1147"/>
                  <a:pt x="183" y="1149"/>
                </a:cubicBezTo>
                <a:cubicBezTo>
                  <a:pt x="197" y="1163"/>
                  <a:pt x="216" y="1166"/>
                  <a:pt x="233" y="1175"/>
                </a:cubicBezTo>
                <a:cubicBezTo>
                  <a:pt x="245" y="1189"/>
                  <a:pt x="238" y="1183"/>
                  <a:pt x="255" y="1195"/>
                </a:cubicBezTo>
                <a:cubicBezTo>
                  <a:pt x="259" y="1198"/>
                  <a:pt x="269" y="1199"/>
                  <a:pt x="269" y="1199"/>
                </a:cubicBezTo>
                <a:cubicBezTo>
                  <a:pt x="280" y="1206"/>
                  <a:pt x="290" y="1209"/>
                  <a:pt x="303" y="1211"/>
                </a:cubicBezTo>
                <a:cubicBezTo>
                  <a:pt x="326" y="1221"/>
                  <a:pt x="351" y="1228"/>
                  <a:pt x="375" y="1235"/>
                </a:cubicBezTo>
                <a:cubicBezTo>
                  <a:pt x="385" y="1247"/>
                  <a:pt x="395" y="1243"/>
                  <a:pt x="409" y="1247"/>
                </a:cubicBezTo>
                <a:cubicBezTo>
                  <a:pt x="424" y="1258"/>
                  <a:pt x="441" y="1259"/>
                  <a:pt x="459" y="1262"/>
                </a:cubicBezTo>
                <a:cubicBezTo>
                  <a:pt x="475" y="1268"/>
                  <a:pt x="478" y="1267"/>
                  <a:pt x="488" y="1271"/>
                </a:cubicBezTo>
                <a:cubicBezTo>
                  <a:pt x="501" y="1273"/>
                  <a:pt x="523" y="1272"/>
                  <a:pt x="538" y="1276"/>
                </a:cubicBezTo>
                <a:cubicBezTo>
                  <a:pt x="556" y="1284"/>
                  <a:pt x="557" y="1294"/>
                  <a:pt x="577" y="1295"/>
                </a:cubicBezTo>
                <a:cubicBezTo>
                  <a:pt x="593" y="1300"/>
                  <a:pt x="611" y="1304"/>
                  <a:pt x="627" y="1307"/>
                </a:cubicBezTo>
                <a:cubicBezTo>
                  <a:pt x="641" y="1313"/>
                  <a:pt x="657" y="1312"/>
                  <a:pt x="673" y="1315"/>
                </a:cubicBezTo>
                <a:cubicBezTo>
                  <a:pt x="725" y="1314"/>
                  <a:pt x="779" y="1314"/>
                  <a:pt x="831" y="1310"/>
                </a:cubicBezTo>
                <a:cubicBezTo>
                  <a:pt x="837" y="1290"/>
                  <a:pt x="831" y="1296"/>
                  <a:pt x="845" y="1288"/>
                </a:cubicBezTo>
                <a:cubicBezTo>
                  <a:pt x="864" y="1262"/>
                  <a:pt x="849" y="1247"/>
                  <a:pt x="886" y="1243"/>
                </a:cubicBezTo>
                <a:cubicBezTo>
                  <a:pt x="913" y="1231"/>
                  <a:pt x="944" y="1233"/>
                  <a:pt x="973" y="1231"/>
                </a:cubicBezTo>
                <a:cubicBezTo>
                  <a:pt x="981" y="1228"/>
                  <a:pt x="987" y="1223"/>
                  <a:pt x="994" y="1219"/>
                </a:cubicBezTo>
                <a:cubicBezTo>
                  <a:pt x="1002" y="1206"/>
                  <a:pt x="1013" y="1213"/>
                  <a:pt x="1023" y="1199"/>
                </a:cubicBezTo>
                <a:cubicBezTo>
                  <a:pt x="1039" y="1177"/>
                  <a:pt x="1062" y="1166"/>
                  <a:pt x="1088" y="1159"/>
                </a:cubicBezTo>
                <a:cubicBezTo>
                  <a:pt x="1098" y="1148"/>
                  <a:pt x="1108" y="1139"/>
                  <a:pt x="1121" y="1132"/>
                </a:cubicBezTo>
                <a:cubicBezTo>
                  <a:pt x="1128" y="1128"/>
                  <a:pt x="1143" y="1123"/>
                  <a:pt x="1143" y="1123"/>
                </a:cubicBezTo>
                <a:cubicBezTo>
                  <a:pt x="1156" y="1114"/>
                  <a:pt x="1168" y="1094"/>
                  <a:pt x="1184" y="1091"/>
                </a:cubicBezTo>
                <a:cubicBezTo>
                  <a:pt x="1198" y="1085"/>
                  <a:pt x="1250" y="1093"/>
                  <a:pt x="1268" y="1091"/>
                </a:cubicBezTo>
                <a:cubicBezTo>
                  <a:pt x="1293" y="1086"/>
                  <a:pt x="1315" y="1073"/>
                  <a:pt x="1340" y="1067"/>
                </a:cubicBezTo>
                <a:cubicBezTo>
                  <a:pt x="1342" y="1066"/>
                  <a:pt x="1345" y="1065"/>
                  <a:pt x="1347" y="1063"/>
                </a:cubicBezTo>
                <a:cubicBezTo>
                  <a:pt x="1349" y="1061"/>
                  <a:pt x="1349" y="1057"/>
                  <a:pt x="1352" y="1055"/>
                </a:cubicBezTo>
                <a:cubicBezTo>
                  <a:pt x="1357" y="1052"/>
                  <a:pt x="1375" y="1048"/>
                  <a:pt x="1381" y="1046"/>
                </a:cubicBezTo>
                <a:cubicBezTo>
                  <a:pt x="1396" y="1035"/>
                  <a:pt x="1414" y="1031"/>
                  <a:pt x="1431" y="1024"/>
                </a:cubicBezTo>
                <a:cubicBezTo>
                  <a:pt x="1443" y="1008"/>
                  <a:pt x="1447" y="982"/>
                  <a:pt x="1450" y="962"/>
                </a:cubicBezTo>
                <a:cubicBezTo>
                  <a:pt x="1452" y="910"/>
                  <a:pt x="1427" y="838"/>
                  <a:pt x="1469" y="796"/>
                </a:cubicBezTo>
                <a:cubicBezTo>
                  <a:pt x="1473" y="786"/>
                  <a:pt x="1474" y="783"/>
                  <a:pt x="1472" y="772"/>
                </a:cubicBezTo>
                <a:cubicBezTo>
                  <a:pt x="1473" y="744"/>
                  <a:pt x="1474" y="717"/>
                  <a:pt x="1493" y="695"/>
                </a:cubicBezTo>
                <a:cubicBezTo>
                  <a:pt x="1505" y="667"/>
                  <a:pt x="1496" y="636"/>
                  <a:pt x="1503" y="607"/>
                </a:cubicBezTo>
                <a:cubicBezTo>
                  <a:pt x="1502" y="573"/>
                  <a:pt x="1481" y="451"/>
                  <a:pt x="1513" y="419"/>
                </a:cubicBezTo>
                <a:cubicBezTo>
                  <a:pt x="1519" y="398"/>
                  <a:pt x="1517" y="410"/>
                  <a:pt x="1515" y="383"/>
                </a:cubicBezTo>
                <a:cubicBezTo>
                  <a:pt x="1514" y="344"/>
                  <a:pt x="1515" y="310"/>
                  <a:pt x="1508" y="273"/>
                </a:cubicBezTo>
                <a:cubicBezTo>
                  <a:pt x="1509" y="258"/>
                  <a:pt x="1505" y="217"/>
                  <a:pt x="1527" y="211"/>
                </a:cubicBezTo>
                <a:cubicBezTo>
                  <a:pt x="1538" y="169"/>
                  <a:pt x="1531" y="167"/>
                  <a:pt x="1493" y="163"/>
                </a:cubicBezTo>
                <a:cubicBezTo>
                  <a:pt x="1476" y="157"/>
                  <a:pt x="1471" y="151"/>
                  <a:pt x="1457" y="141"/>
                </a:cubicBezTo>
                <a:cubicBezTo>
                  <a:pt x="1454" y="133"/>
                  <a:pt x="1443" y="134"/>
                  <a:pt x="1438" y="127"/>
                </a:cubicBezTo>
                <a:cubicBezTo>
                  <a:pt x="1435" y="113"/>
                  <a:pt x="1428" y="111"/>
                  <a:pt x="1421" y="100"/>
                </a:cubicBezTo>
                <a:cubicBezTo>
                  <a:pt x="1388" y="48"/>
                  <a:pt x="1332" y="68"/>
                  <a:pt x="1270" y="67"/>
                </a:cubicBezTo>
                <a:cubicBezTo>
                  <a:pt x="1213" y="62"/>
                  <a:pt x="1239" y="53"/>
                  <a:pt x="1177" y="50"/>
                </a:cubicBezTo>
                <a:cubicBezTo>
                  <a:pt x="1164" y="45"/>
                  <a:pt x="1155" y="37"/>
                  <a:pt x="1141" y="33"/>
                </a:cubicBezTo>
                <a:cubicBezTo>
                  <a:pt x="1097" y="6"/>
                  <a:pt x="1040" y="15"/>
                  <a:pt x="989" y="11"/>
                </a:cubicBezTo>
                <a:cubicBezTo>
                  <a:pt x="956" y="12"/>
                  <a:pt x="918" y="0"/>
                  <a:pt x="889" y="16"/>
                </a:cubicBezTo>
                <a:cubicBezTo>
                  <a:pt x="880" y="21"/>
                  <a:pt x="879" y="36"/>
                  <a:pt x="869" y="43"/>
                </a:cubicBezTo>
                <a:cubicBezTo>
                  <a:pt x="859" y="60"/>
                  <a:pt x="877" y="60"/>
                  <a:pt x="845" y="64"/>
                </a:cubicBezTo>
                <a:cubicBezTo>
                  <a:pt x="823" y="71"/>
                  <a:pt x="819" y="88"/>
                  <a:pt x="797" y="98"/>
                </a:cubicBezTo>
                <a:cubicBezTo>
                  <a:pt x="787" y="102"/>
                  <a:pt x="776" y="102"/>
                  <a:pt x="766" y="105"/>
                </a:cubicBezTo>
                <a:cubicBezTo>
                  <a:pt x="764" y="142"/>
                  <a:pt x="772" y="138"/>
                  <a:pt x="747" y="143"/>
                </a:cubicBezTo>
                <a:cubicBezTo>
                  <a:pt x="745" y="146"/>
                  <a:pt x="744" y="149"/>
                  <a:pt x="742" y="151"/>
                </a:cubicBezTo>
                <a:cubicBezTo>
                  <a:pt x="740" y="153"/>
                  <a:pt x="737" y="151"/>
                  <a:pt x="735" y="153"/>
                </a:cubicBezTo>
                <a:cubicBezTo>
                  <a:pt x="731" y="157"/>
                  <a:pt x="732" y="163"/>
                  <a:pt x="728" y="167"/>
                </a:cubicBezTo>
                <a:cubicBezTo>
                  <a:pt x="721" y="174"/>
                  <a:pt x="708" y="178"/>
                  <a:pt x="699" y="182"/>
                </a:cubicBezTo>
                <a:cubicBezTo>
                  <a:pt x="690" y="194"/>
                  <a:pt x="689" y="199"/>
                  <a:pt x="675" y="203"/>
                </a:cubicBezTo>
                <a:cubicBezTo>
                  <a:pt x="668" y="202"/>
                  <a:pt x="637" y="199"/>
                  <a:pt x="627" y="203"/>
                </a:cubicBezTo>
                <a:cubicBezTo>
                  <a:pt x="624" y="204"/>
                  <a:pt x="624" y="209"/>
                  <a:pt x="622" y="211"/>
                </a:cubicBezTo>
                <a:cubicBezTo>
                  <a:pt x="605" y="230"/>
                  <a:pt x="611" y="225"/>
                  <a:pt x="584" y="227"/>
                </a:cubicBezTo>
                <a:cubicBezTo>
                  <a:pt x="564" y="235"/>
                  <a:pt x="561" y="237"/>
                  <a:pt x="536" y="239"/>
                </a:cubicBezTo>
                <a:cubicBezTo>
                  <a:pt x="531" y="248"/>
                  <a:pt x="533" y="245"/>
                  <a:pt x="529" y="249"/>
                </a:cubicBezTo>
                <a:close/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6" name="Oval 69"/>
          <p:cNvSpPr/>
          <p:nvPr/>
        </p:nvSpPr>
        <p:spPr>
          <a:xfrm>
            <a:off x="3716280" y="4419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7" name="Oval 70"/>
          <p:cNvSpPr/>
          <p:nvPr/>
        </p:nvSpPr>
        <p:spPr>
          <a:xfrm>
            <a:off x="386856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8" name="Oval 71"/>
          <p:cNvSpPr/>
          <p:nvPr/>
        </p:nvSpPr>
        <p:spPr>
          <a:xfrm>
            <a:off x="402120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9" name="Oval 72"/>
          <p:cNvSpPr/>
          <p:nvPr/>
        </p:nvSpPr>
        <p:spPr>
          <a:xfrm>
            <a:off x="4092480" y="40384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0" name="Oval 73"/>
          <p:cNvSpPr/>
          <p:nvPr/>
        </p:nvSpPr>
        <p:spPr>
          <a:xfrm>
            <a:off x="41734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1" name="Oval 74"/>
          <p:cNvSpPr/>
          <p:nvPr/>
        </p:nvSpPr>
        <p:spPr>
          <a:xfrm>
            <a:off x="432756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2" name="Oval 75"/>
          <p:cNvSpPr/>
          <p:nvPr/>
        </p:nvSpPr>
        <p:spPr>
          <a:xfrm>
            <a:off x="539280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3" name="Oval 76"/>
          <p:cNvSpPr/>
          <p:nvPr/>
        </p:nvSpPr>
        <p:spPr>
          <a:xfrm>
            <a:off x="501156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4" name="Oval 77"/>
          <p:cNvSpPr/>
          <p:nvPr/>
        </p:nvSpPr>
        <p:spPr>
          <a:xfrm>
            <a:off x="440208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5" name="Oval 78"/>
          <p:cNvSpPr/>
          <p:nvPr/>
        </p:nvSpPr>
        <p:spPr>
          <a:xfrm>
            <a:off x="455292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6" name="Oval 79"/>
          <p:cNvSpPr/>
          <p:nvPr/>
        </p:nvSpPr>
        <p:spPr>
          <a:xfrm>
            <a:off x="470520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7" name="Oval 80"/>
          <p:cNvSpPr/>
          <p:nvPr/>
        </p:nvSpPr>
        <p:spPr>
          <a:xfrm>
            <a:off x="4705200" y="47242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8" name="Oval 81"/>
          <p:cNvSpPr/>
          <p:nvPr/>
        </p:nvSpPr>
        <p:spPr>
          <a:xfrm>
            <a:off x="4248000" y="48006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9" name="Oval 82"/>
          <p:cNvSpPr/>
          <p:nvPr/>
        </p:nvSpPr>
        <p:spPr>
          <a:xfrm>
            <a:off x="4021200" y="48769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0" name="Oval 83"/>
          <p:cNvSpPr/>
          <p:nvPr/>
        </p:nvSpPr>
        <p:spPr>
          <a:xfrm>
            <a:off x="394668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1" name="Oval 84"/>
          <p:cNvSpPr/>
          <p:nvPr/>
        </p:nvSpPr>
        <p:spPr>
          <a:xfrm>
            <a:off x="4098960" y="41911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2" name="Oval 85"/>
          <p:cNvSpPr/>
          <p:nvPr/>
        </p:nvSpPr>
        <p:spPr>
          <a:xfrm>
            <a:off x="4173480" y="43434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3" name="Oval 86"/>
          <p:cNvSpPr/>
          <p:nvPr/>
        </p:nvSpPr>
        <p:spPr>
          <a:xfrm>
            <a:off x="4017960" y="42670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4" name="Oval 87"/>
          <p:cNvSpPr/>
          <p:nvPr/>
        </p:nvSpPr>
        <p:spPr>
          <a:xfrm>
            <a:off x="3868560" y="42670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5" name="Oval 88"/>
          <p:cNvSpPr/>
          <p:nvPr/>
        </p:nvSpPr>
        <p:spPr>
          <a:xfrm>
            <a:off x="394344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6" name="Oval 89"/>
          <p:cNvSpPr/>
          <p:nvPr/>
        </p:nvSpPr>
        <p:spPr>
          <a:xfrm>
            <a:off x="4017960" y="38908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7" name="Oval 90"/>
          <p:cNvSpPr/>
          <p:nvPr/>
        </p:nvSpPr>
        <p:spPr>
          <a:xfrm>
            <a:off x="4253040" y="41148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8" name="Oval 91"/>
          <p:cNvSpPr/>
          <p:nvPr/>
        </p:nvSpPr>
        <p:spPr>
          <a:xfrm>
            <a:off x="4178160" y="35863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9" name="Oval 92"/>
          <p:cNvSpPr/>
          <p:nvPr/>
        </p:nvSpPr>
        <p:spPr>
          <a:xfrm>
            <a:off x="4476600" y="36622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0" name="Oval 93"/>
          <p:cNvSpPr/>
          <p:nvPr/>
        </p:nvSpPr>
        <p:spPr>
          <a:xfrm>
            <a:off x="447840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1" name="Oval 94"/>
          <p:cNvSpPr/>
          <p:nvPr/>
        </p:nvSpPr>
        <p:spPr>
          <a:xfrm>
            <a:off x="4627440" y="3352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2" name="Oval 95"/>
          <p:cNvSpPr/>
          <p:nvPr/>
        </p:nvSpPr>
        <p:spPr>
          <a:xfrm>
            <a:off x="470232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3" name="Oval 96"/>
          <p:cNvSpPr/>
          <p:nvPr/>
        </p:nvSpPr>
        <p:spPr>
          <a:xfrm>
            <a:off x="4937040" y="3657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4" name="Oval 97"/>
          <p:cNvSpPr/>
          <p:nvPr/>
        </p:nvSpPr>
        <p:spPr>
          <a:xfrm>
            <a:off x="493704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5" name="Oval 98"/>
          <p:cNvSpPr/>
          <p:nvPr/>
        </p:nvSpPr>
        <p:spPr>
          <a:xfrm>
            <a:off x="4862520" y="3352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6" name="Oval 99"/>
          <p:cNvSpPr/>
          <p:nvPr/>
        </p:nvSpPr>
        <p:spPr>
          <a:xfrm>
            <a:off x="5011560" y="3276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7" name="Oval 100"/>
          <p:cNvSpPr/>
          <p:nvPr/>
        </p:nvSpPr>
        <p:spPr>
          <a:xfrm>
            <a:off x="5086440" y="3429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8" name="Oval 101"/>
          <p:cNvSpPr/>
          <p:nvPr/>
        </p:nvSpPr>
        <p:spPr>
          <a:xfrm>
            <a:off x="5160960" y="3276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9" name="Oval 102"/>
          <p:cNvSpPr/>
          <p:nvPr/>
        </p:nvSpPr>
        <p:spPr>
          <a:xfrm>
            <a:off x="539280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0" name="Oval 103"/>
          <p:cNvSpPr/>
          <p:nvPr/>
        </p:nvSpPr>
        <p:spPr>
          <a:xfrm>
            <a:off x="4862520" y="32004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1" name="Line 104"/>
          <p:cNvSpPr/>
          <p:nvPr/>
        </p:nvSpPr>
        <p:spPr>
          <a:xfrm>
            <a:off x="34257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2" name="Line 105"/>
          <p:cNvSpPr/>
          <p:nvPr/>
        </p:nvSpPr>
        <p:spPr>
          <a:xfrm>
            <a:off x="35784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3" name="Line 106"/>
          <p:cNvSpPr/>
          <p:nvPr/>
        </p:nvSpPr>
        <p:spPr>
          <a:xfrm>
            <a:off x="37306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4" name="Line 107"/>
          <p:cNvSpPr/>
          <p:nvPr/>
        </p:nvSpPr>
        <p:spPr>
          <a:xfrm>
            <a:off x="38829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5" name="Line 108"/>
          <p:cNvSpPr/>
          <p:nvPr/>
        </p:nvSpPr>
        <p:spPr>
          <a:xfrm>
            <a:off x="40356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6" name="Line 109"/>
          <p:cNvSpPr/>
          <p:nvPr/>
        </p:nvSpPr>
        <p:spPr>
          <a:xfrm>
            <a:off x="41878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7" name="Line 110"/>
          <p:cNvSpPr/>
          <p:nvPr/>
        </p:nvSpPr>
        <p:spPr>
          <a:xfrm>
            <a:off x="43401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8" name="Line 111"/>
          <p:cNvSpPr/>
          <p:nvPr/>
        </p:nvSpPr>
        <p:spPr>
          <a:xfrm>
            <a:off x="44928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9" name="Line 112"/>
          <p:cNvSpPr/>
          <p:nvPr/>
        </p:nvSpPr>
        <p:spPr>
          <a:xfrm>
            <a:off x="46450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0" name="Line 113"/>
          <p:cNvSpPr/>
          <p:nvPr/>
        </p:nvSpPr>
        <p:spPr>
          <a:xfrm>
            <a:off x="47973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1" name="Line 114"/>
          <p:cNvSpPr/>
          <p:nvPr/>
        </p:nvSpPr>
        <p:spPr>
          <a:xfrm>
            <a:off x="49500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2" name="Line 115"/>
          <p:cNvSpPr/>
          <p:nvPr/>
        </p:nvSpPr>
        <p:spPr>
          <a:xfrm>
            <a:off x="51022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3" name="Line 116"/>
          <p:cNvSpPr/>
          <p:nvPr/>
        </p:nvSpPr>
        <p:spPr>
          <a:xfrm>
            <a:off x="52545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4" name="Line 117"/>
          <p:cNvSpPr/>
          <p:nvPr/>
        </p:nvSpPr>
        <p:spPr>
          <a:xfrm>
            <a:off x="54072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5" name="Line 118"/>
          <p:cNvSpPr/>
          <p:nvPr/>
        </p:nvSpPr>
        <p:spPr>
          <a:xfrm>
            <a:off x="55594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6" name="Line 119"/>
          <p:cNvSpPr/>
          <p:nvPr/>
        </p:nvSpPr>
        <p:spPr>
          <a:xfrm>
            <a:off x="57117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7" name="Line 120"/>
          <p:cNvSpPr/>
          <p:nvPr/>
        </p:nvSpPr>
        <p:spPr>
          <a:xfrm>
            <a:off x="58644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8" name="Line 121"/>
          <p:cNvSpPr/>
          <p:nvPr/>
        </p:nvSpPr>
        <p:spPr>
          <a:xfrm>
            <a:off x="3352680" y="29718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9" name="Line 122"/>
          <p:cNvSpPr/>
          <p:nvPr/>
        </p:nvSpPr>
        <p:spPr>
          <a:xfrm>
            <a:off x="3352680" y="31240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0" name="Line 123"/>
          <p:cNvSpPr/>
          <p:nvPr/>
        </p:nvSpPr>
        <p:spPr>
          <a:xfrm>
            <a:off x="3352680" y="32767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1" name="Line 124"/>
          <p:cNvSpPr/>
          <p:nvPr/>
        </p:nvSpPr>
        <p:spPr>
          <a:xfrm>
            <a:off x="3352680" y="34290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2" name="Line 125"/>
          <p:cNvSpPr/>
          <p:nvPr/>
        </p:nvSpPr>
        <p:spPr>
          <a:xfrm>
            <a:off x="3352680" y="35812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3" name="Line 126"/>
          <p:cNvSpPr/>
          <p:nvPr/>
        </p:nvSpPr>
        <p:spPr>
          <a:xfrm>
            <a:off x="3352680" y="37339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4" name="Line 127"/>
          <p:cNvSpPr/>
          <p:nvPr/>
        </p:nvSpPr>
        <p:spPr>
          <a:xfrm>
            <a:off x="3352680" y="38862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5" name="Line 128"/>
          <p:cNvSpPr/>
          <p:nvPr/>
        </p:nvSpPr>
        <p:spPr>
          <a:xfrm>
            <a:off x="3352680" y="40384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6" name="Line 129"/>
          <p:cNvSpPr/>
          <p:nvPr/>
        </p:nvSpPr>
        <p:spPr>
          <a:xfrm>
            <a:off x="3352680" y="41911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7" name="Line 130"/>
          <p:cNvSpPr/>
          <p:nvPr/>
        </p:nvSpPr>
        <p:spPr>
          <a:xfrm>
            <a:off x="3352680" y="43434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8" name="Line 131"/>
          <p:cNvSpPr/>
          <p:nvPr/>
        </p:nvSpPr>
        <p:spPr>
          <a:xfrm>
            <a:off x="3352680" y="44956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9" name="Line 132"/>
          <p:cNvSpPr/>
          <p:nvPr/>
        </p:nvSpPr>
        <p:spPr>
          <a:xfrm>
            <a:off x="3352680" y="46483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0" name="Line 133"/>
          <p:cNvSpPr/>
          <p:nvPr/>
        </p:nvSpPr>
        <p:spPr>
          <a:xfrm>
            <a:off x="3352680" y="48006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1" name="Line 134"/>
          <p:cNvSpPr/>
          <p:nvPr/>
        </p:nvSpPr>
        <p:spPr>
          <a:xfrm>
            <a:off x="3352680" y="49528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2" name="Line 135"/>
          <p:cNvSpPr/>
          <p:nvPr/>
        </p:nvSpPr>
        <p:spPr>
          <a:xfrm>
            <a:off x="3352680" y="51055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03" name="Group 141"/>
          <p:cNvGrpSpPr/>
          <p:nvPr/>
        </p:nvGrpSpPr>
        <p:grpSpPr>
          <a:xfrm>
            <a:off x="4092480" y="3967200"/>
            <a:ext cx="762120" cy="762120"/>
            <a:chOff x="4092480" y="3967200"/>
            <a:chExt cx="762120" cy="762120"/>
          </a:xfrm>
        </p:grpSpPr>
        <p:sp>
          <p:nvSpPr>
            <p:cNvPr id="1204" name="Oval 136"/>
            <p:cNvSpPr/>
            <p:nvPr/>
          </p:nvSpPr>
          <p:spPr>
            <a:xfrm>
              <a:off x="4416480" y="4267080"/>
              <a:ext cx="136440" cy="1526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05" name="Oval 137"/>
            <p:cNvSpPr/>
            <p:nvPr/>
          </p:nvSpPr>
          <p:spPr>
            <a:xfrm>
              <a:off x="4092480" y="3967200"/>
              <a:ext cx="762120" cy="762120"/>
            </a:xfrm>
            <a:prstGeom prst="ellipse">
              <a:avLst/>
            </a:prstGeom>
            <a:noFill/>
            <a:ln w="28440">
              <a:solidFill>
                <a:srgbClr val="00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06" name="Line 138"/>
            <p:cNvSpPr/>
            <p:nvPr/>
          </p:nvSpPr>
          <p:spPr>
            <a:xfrm flipV="1">
              <a:off x="4492800" y="4038120"/>
              <a:ext cx="209520" cy="304920"/>
            </a:xfrm>
            <a:prstGeom prst="line">
              <a:avLst/>
            </a:prstGeom>
            <a:ln cap="sq"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207" name="Text Box 139"/>
          <p:cNvSpPr/>
          <p:nvPr/>
        </p:nvSpPr>
        <p:spPr>
          <a:xfrm>
            <a:off x="246960" y="24076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lano de Informação (PI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8" name="Text Box 140"/>
          <p:cNvSpPr/>
          <p:nvPr/>
        </p:nvSpPr>
        <p:spPr>
          <a:xfrm>
            <a:off x="3357000" y="240768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Grade de Intensidade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09" name="Group 142"/>
          <p:cNvGrpSpPr/>
          <p:nvPr/>
        </p:nvGrpSpPr>
        <p:grpSpPr>
          <a:xfrm>
            <a:off x="1141560" y="3967200"/>
            <a:ext cx="761760" cy="762120"/>
            <a:chOff x="1141560" y="3967200"/>
            <a:chExt cx="761760" cy="762120"/>
          </a:xfrm>
        </p:grpSpPr>
        <p:sp>
          <p:nvSpPr>
            <p:cNvPr id="1210" name="Oval 143"/>
            <p:cNvSpPr/>
            <p:nvPr/>
          </p:nvSpPr>
          <p:spPr>
            <a:xfrm>
              <a:off x="1465200" y="4267080"/>
              <a:ext cx="136080" cy="1526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11" name="Oval 144"/>
            <p:cNvSpPr/>
            <p:nvPr/>
          </p:nvSpPr>
          <p:spPr>
            <a:xfrm>
              <a:off x="1141560" y="3967200"/>
              <a:ext cx="761760" cy="762120"/>
            </a:xfrm>
            <a:prstGeom prst="ellipse">
              <a:avLst/>
            </a:prstGeom>
            <a:noFill/>
            <a:ln w="28440">
              <a:solidFill>
                <a:srgbClr val="00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12" name="Line 145"/>
            <p:cNvSpPr/>
            <p:nvPr/>
          </p:nvSpPr>
          <p:spPr>
            <a:xfrm flipV="1">
              <a:off x="1541520" y="4038120"/>
              <a:ext cx="209160" cy="304920"/>
            </a:xfrm>
            <a:prstGeom prst="line">
              <a:avLst/>
            </a:prstGeom>
            <a:ln cap="sq"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213" name="Text Box 146"/>
          <p:cNvSpPr/>
          <p:nvPr/>
        </p:nvSpPr>
        <p:spPr>
          <a:xfrm>
            <a:off x="6456600" y="240912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Cenário de saíd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4" name="Text Box 147"/>
          <p:cNvSpPr/>
          <p:nvPr/>
        </p:nvSpPr>
        <p:spPr>
          <a:xfrm>
            <a:off x="1650240" y="54237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 a ser estima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5" name="Line 148"/>
          <p:cNvSpPr/>
          <p:nvPr/>
        </p:nvSpPr>
        <p:spPr>
          <a:xfrm>
            <a:off x="1541520" y="4419720"/>
            <a:ext cx="212760" cy="1143000"/>
          </a:xfrm>
          <a:prstGeom prst="line">
            <a:avLst/>
          </a:prstGeom>
          <a:ln cap="sq"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6" name="Text Box 149"/>
          <p:cNvSpPr/>
          <p:nvPr/>
        </p:nvSpPr>
        <p:spPr>
          <a:xfrm>
            <a:off x="1761480" y="38854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7" name="AutoShape 150"/>
          <p:cNvSpPr/>
          <p:nvPr/>
        </p:nvSpPr>
        <p:spPr>
          <a:xfrm>
            <a:off x="2135160" y="1752480"/>
            <a:ext cx="2032200" cy="457200"/>
          </a:xfrm>
          <a:custGeom>
            <a:avLst/>
            <a:gdLst>
              <a:gd name="textAreaLeft" fmla="*/ 355680 w 2032200"/>
              <a:gd name="textAreaRight" fmla="*/ 1473480 w 2032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8" name="AutoShape 151"/>
          <p:cNvSpPr/>
          <p:nvPr/>
        </p:nvSpPr>
        <p:spPr>
          <a:xfrm>
            <a:off x="5160960" y="1828800"/>
            <a:ext cx="2031840" cy="457200"/>
          </a:xfrm>
          <a:custGeom>
            <a:avLst/>
            <a:gdLst>
              <a:gd name="textAreaLeft" fmla="*/ 353520 w 2031840"/>
              <a:gd name="textAreaRight" fmla="*/ 1483200 w 20318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18" hR="21600" stAng="10800000" swAng="5400000"/>
                <a:lnTo>
                  <a:pt x="12006" y="0"/>
                </a:lnTo>
                <a:arcTo wR="7518" hR="21600" stAng="-5400000" swAng="2673062"/>
                <a:lnTo>
                  <a:pt x="21170" y="14400"/>
                </a:lnTo>
                <a:lnTo>
                  <a:pt x="17280" y="21600"/>
                </a:lnTo>
                <a:lnTo>
                  <a:pt x="12530" y="14400"/>
                </a:lnTo>
                <a:lnTo>
                  <a:pt x="14606" y="14400"/>
                </a:lnTo>
                <a:arcTo wR="7518" hR="21600" stAng="-2726938" swAng="-2300328"/>
                <a:lnTo>
                  <a:pt x="9762" y="985"/>
                </a:lnTo>
                <a:arcTo wR="7518" hR="21600" stAng="-5772734" swAng="-5027266"/>
                <a:close/>
              </a:path>
              <a:path fill="darkenLess" w="21600" h="21600">
                <a:moveTo>
                  <a:pt x="0" y="21600"/>
                </a:moveTo>
                <a:arcTo wR="7518" hR="21600" stAng="10800000" swAng="5400000"/>
                <a:lnTo>
                  <a:pt x="7518" y="0"/>
                </a:lnTo>
                <a:arcTo wR="7518" hR="21600" stAng="-5400000" swAng="372734"/>
                <a:lnTo>
                  <a:pt x="9762" y="985"/>
                </a:lnTo>
                <a:arcTo wR="7518" hR="21600" stAng="-5772734" swAng="-5027266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9" name="Text Box 152"/>
          <p:cNvSpPr/>
          <p:nvPr/>
        </p:nvSpPr>
        <p:spPr>
          <a:xfrm>
            <a:off x="435600" y="297072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servaçõe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0" name="Line 153"/>
          <p:cNvSpPr/>
          <p:nvPr/>
        </p:nvSpPr>
        <p:spPr>
          <a:xfrm>
            <a:off x="765000" y="3276720"/>
            <a:ext cx="30168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E0B6-7F98-4FA9-95E9-BD9E629DCAA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emplo: Mapeando a violência na cidade de Porto Alegre - R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25" name="Object 2"/>
          <p:cNvGraphicFramePr/>
          <p:nvPr/>
        </p:nvGraphicFramePr>
        <p:xfrm>
          <a:off x="407880" y="1371600"/>
          <a:ext cx="347184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1371600"/>
                    <a:ext cx="3471840" cy="4616280"/>
                  </a:xfrm>
                  <a:prstGeom prst="rect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27" name="Picture 5" descr="E:\user\marilia\cursos\tempesp\poaker.bmp"/>
          <p:cNvPicPr/>
          <p:nvPr/>
        </p:nvPicPr>
        <p:blipFill>
          <a:blip r:embed="rId3"/>
          <a:stretch/>
        </p:blipFill>
        <p:spPr>
          <a:xfrm>
            <a:off x="4952880" y="1371600"/>
            <a:ext cx="3471840" cy="4616280"/>
          </a:xfrm>
          <a:prstGeom prst="rect">
            <a:avLst/>
          </a:prstGeom>
          <a:ln w="9360">
            <a:solidFill>
              <a:srgbClr val="0066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graphicFrame>
        <p:nvGraphicFramePr>
          <p:cNvPr id="1228" name="Object 3"/>
          <p:cNvGraphicFramePr/>
          <p:nvPr/>
        </p:nvGraphicFramePr>
        <p:xfrm>
          <a:off x="407880" y="6148440"/>
          <a:ext cx="5721480" cy="252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880" y="6148440"/>
                    <a:ext cx="5721480" cy="252360"/>
                  </a:xfrm>
                  <a:prstGeom prst="rect">
                    <a:avLst/>
                  </a:prstGeom>
                  <a:ln cap="sq" w="1260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0" name="Rectangle 7"/>
          <p:cNvSpPr/>
          <p:nvPr/>
        </p:nvSpPr>
        <p:spPr>
          <a:xfrm>
            <a:off x="7209360" y="6095880"/>
            <a:ext cx="137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200" spc="-1" strike="noStrike">
                <a:solidFill>
                  <a:srgbClr val="eaeaea"/>
                </a:solidFill>
                <a:latin typeface="Tahoma"/>
              </a:rPr>
              <a:t>Santos,S.M., 1999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31" name="Text Box 8"/>
          <p:cNvSpPr/>
          <p:nvPr/>
        </p:nvSpPr>
        <p:spPr>
          <a:xfrm>
            <a:off x="7476840" y="1448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233" name="Group 17"/>
          <p:cNvGrpSpPr/>
          <p:nvPr/>
        </p:nvGrpSpPr>
        <p:grpSpPr>
          <a:xfrm>
            <a:off x="7618320" y="2624040"/>
            <a:ext cx="609480" cy="1461960"/>
            <a:chOff x="7618320" y="2624040"/>
            <a:chExt cx="609480" cy="1461960"/>
          </a:xfrm>
        </p:grpSpPr>
        <p:graphicFrame>
          <p:nvGraphicFramePr>
            <p:cNvPr id="1234" name="Object 4"/>
            <p:cNvGraphicFramePr/>
            <p:nvPr/>
          </p:nvGraphicFramePr>
          <p:xfrm>
            <a:off x="7618320" y="2624040"/>
            <a:ext cx="289080" cy="1461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35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18320" y="2624040"/>
                      <a:ext cx="289080" cy="14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6" name="Freeform 14"/>
            <p:cNvSpPr/>
            <p:nvPr/>
          </p:nvSpPr>
          <p:spPr>
            <a:xfrm>
              <a:off x="8072280" y="2733480"/>
              <a:ext cx="1800" cy="12207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1" h="769">
                  <a:moveTo>
                    <a:pt x="0" y="769"/>
                  </a:moveTo>
                  <a:lnTo>
                    <a:pt x="0" y="0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37" name="Line 15"/>
            <p:cNvSpPr/>
            <p:nvPr/>
          </p:nvSpPr>
          <p:spPr>
            <a:xfrm>
              <a:off x="7907400" y="3995640"/>
              <a:ext cx="320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38" name="Line 16"/>
            <p:cNvSpPr/>
            <p:nvPr/>
          </p:nvSpPr>
          <p:spPr>
            <a:xfrm>
              <a:off x="7907400" y="2700360"/>
              <a:ext cx="320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0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724B-08A3-4E60-92C8-E4674E07615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1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43" name="Picture 2" descr="Confetes pequenos"/>
          <p:cNvPicPr/>
          <p:nvPr/>
        </p:nvPicPr>
        <p:blipFill>
          <a:blip r:embed="rId1"/>
          <a:stretch/>
        </p:blipFill>
        <p:spPr>
          <a:xfrm>
            <a:off x="357120" y="3914640"/>
            <a:ext cx="3902040" cy="1871640"/>
          </a:xfrm>
          <a:prstGeom prst="rect">
            <a:avLst/>
          </a:prstGeom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3d5c"/>
            </a:outerShdw>
          </a:effectLst>
        </p:spPr>
      </p:pic>
      <p:pic>
        <p:nvPicPr>
          <p:cNvPr id="1244" name="Picture 3" descr="Confetes pequenos"/>
          <p:cNvPicPr/>
          <p:nvPr/>
        </p:nvPicPr>
        <p:blipFill>
          <a:blip r:embed="rId2"/>
          <a:stretch/>
        </p:blipFill>
        <p:spPr>
          <a:xfrm>
            <a:off x="4572000" y="3914640"/>
            <a:ext cx="3936960" cy="1871640"/>
          </a:xfrm>
          <a:prstGeom prst="rect">
            <a:avLst/>
          </a:prstGeom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3d5c"/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1245" name="Object 1"/>
              <p:cNvSpPr txBox="1"/>
              <p:nvPr/>
            </p:nvSpPr>
            <p:spPr>
              <a:xfrm>
                <a:off x="2428920" y="1928880"/>
                <a:ext cx="32176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6" name="CaixaDeTexto 9"/>
          <p:cNvSpPr/>
          <p:nvPr/>
        </p:nvSpPr>
        <p:spPr>
          <a:xfrm>
            <a:off x="5664960" y="2071800"/>
            <a:ext cx="590400" cy="611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7" name="CaixaDeTexto 10"/>
          <p:cNvSpPr/>
          <p:nvPr/>
        </p:nvSpPr>
        <p:spPr>
          <a:xfrm>
            <a:off x="171720" y="1055520"/>
            <a:ext cx="59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com valor de atributo agregad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cxnSp>
        <p:nvCxnSpPr>
          <p:cNvPr id="1248" name="Conector de seta reta 12"/>
          <p:cNvCxnSpPr/>
          <p:nvPr/>
        </p:nvCxnSpPr>
        <p:spPr>
          <a:xfrm flipH="1">
            <a:off x="856440" y="3499920"/>
            <a:ext cx="72360" cy="71532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9" name="CaixaDeTexto 13"/>
          <p:cNvSpPr/>
          <p:nvPr/>
        </p:nvSpPr>
        <p:spPr>
          <a:xfrm>
            <a:off x="702360" y="2857680"/>
            <a:ext cx="433440" cy="611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0" name="CaixaDeTexto 14"/>
          <p:cNvSpPr/>
          <p:nvPr/>
        </p:nvSpPr>
        <p:spPr>
          <a:xfrm>
            <a:off x="525960" y="6000840"/>
            <a:ext cx="77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Disparidade social: distribuição de percentual de idosos no centro de São Paulo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213A-66DF-4EA5-B8E9-5E974967918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4" name="CaixaDeTexto 18"/>
          <p:cNvSpPr/>
          <p:nvPr/>
        </p:nvSpPr>
        <p:spPr>
          <a:xfrm>
            <a:off x="712080" y="207180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Resistente (caso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5" name="CaixaDeTexto 19"/>
          <p:cNvSpPr/>
          <p:nvPr/>
        </p:nvSpPr>
        <p:spPr>
          <a:xfrm>
            <a:off x="3530520" y="207180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  <a:ea typeface="Arial"/>
              </a:rPr>
              <a:t>Sensível (controle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6" name="CaixaDeTexto 20"/>
          <p:cNvSpPr/>
          <p:nvPr/>
        </p:nvSpPr>
        <p:spPr>
          <a:xfrm>
            <a:off x="6403320" y="207180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  <a:ea typeface="Arial"/>
              </a:rPr>
              <a:t>Razão: caso/controle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7" name="CaixaDeTexto 22"/>
          <p:cNvSpPr/>
          <p:nvPr/>
        </p:nvSpPr>
        <p:spPr>
          <a:xfrm>
            <a:off x="214200" y="5857920"/>
            <a:ext cx="881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Exploração da correlação espacial sobre o uso de antimicrobianos (ciprofloxacin) e a resistência de infeções de trato urinário na comunidade causado por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Escherichia coli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58" name="Grupo 38"/>
          <p:cNvGrpSpPr/>
          <p:nvPr/>
        </p:nvGrpSpPr>
        <p:grpSpPr>
          <a:xfrm>
            <a:off x="612720" y="2392200"/>
            <a:ext cx="1971720" cy="3313440"/>
            <a:chOff x="612720" y="2392200"/>
            <a:chExt cx="1971720" cy="3313440"/>
          </a:xfrm>
        </p:grpSpPr>
        <p:pic>
          <p:nvPicPr>
            <p:cNvPr id="1259" name="Imagem 15" descr="FAT_R_K_Caso_2007_Ecoli_CIP.jpg"/>
            <p:cNvPicPr/>
            <p:nvPr/>
          </p:nvPicPr>
          <p:blipFill>
            <a:blip r:embed="rId1"/>
            <a:stretch/>
          </p:blipFill>
          <p:spPr>
            <a:xfrm>
              <a:off x="612720" y="2392200"/>
              <a:ext cx="1971720" cy="331344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60" name="Grupo 21"/>
            <p:cNvGrpSpPr/>
            <p:nvPr/>
          </p:nvGrpSpPr>
          <p:grpSpPr>
            <a:xfrm>
              <a:off x="1800000" y="4050720"/>
              <a:ext cx="686520" cy="1555920"/>
              <a:chOff x="1800000" y="4050720"/>
              <a:chExt cx="686520" cy="1555920"/>
            </a:xfrm>
          </p:grpSpPr>
          <p:pic>
            <p:nvPicPr>
              <p:cNvPr id="1261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0000" y="4119840"/>
                <a:ext cx="1526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2" name="CaixaDeTexto 31"/>
              <p:cNvSpPr/>
              <p:nvPr/>
            </p:nvSpPr>
            <p:spPr>
              <a:xfrm>
                <a:off x="1868400" y="533016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63" name="CaixaDeTexto 32"/>
              <p:cNvSpPr/>
              <p:nvPr/>
            </p:nvSpPr>
            <p:spPr>
              <a:xfrm>
                <a:off x="1857600" y="465084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64" name="CaixaDeTexto 33"/>
              <p:cNvSpPr/>
              <p:nvPr/>
            </p:nvSpPr>
            <p:spPr>
              <a:xfrm>
                <a:off x="1887840" y="405072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grpSp>
        <p:nvGrpSpPr>
          <p:cNvPr id="1265" name="Grupo 37"/>
          <p:cNvGrpSpPr/>
          <p:nvPr/>
        </p:nvGrpSpPr>
        <p:grpSpPr>
          <a:xfrm>
            <a:off x="3398760" y="2438280"/>
            <a:ext cx="2179800" cy="3313080"/>
            <a:chOff x="3398760" y="2438280"/>
            <a:chExt cx="2179800" cy="3313080"/>
          </a:xfrm>
        </p:grpSpPr>
        <p:pic>
          <p:nvPicPr>
            <p:cNvPr id="1266" name="Imagem 16" descr="FAT_R_K_Controle_2007_Ecoli_CIP.jpg"/>
            <p:cNvPicPr/>
            <p:nvPr/>
          </p:nvPicPr>
          <p:blipFill>
            <a:blip r:embed="rId3"/>
            <a:stretch/>
          </p:blipFill>
          <p:spPr>
            <a:xfrm>
              <a:off x="3398760" y="2438280"/>
              <a:ext cx="2179800" cy="331308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67" name="Grupo 23"/>
            <p:cNvGrpSpPr/>
            <p:nvPr/>
          </p:nvGrpSpPr>
          <p:grpSpPr>
            <a:xfrm>
              <a:off x="4716360" y="4096800"/>
              <a:ext cx="725760" cy="1555920"/>
              <a:chOff x="4716360" y="4096800"/>
              <a:chExt cx="725760" cy="1555920"/>
            </a:xfrm>
          </p:grpSpPr>
          <p:pic>
            <p:nvPicPr>
              <p:cNvPr id="1268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4716360" y="4165920"/>
                <a:ext cx="1688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9" name="CaixaDeTexto 26"/>
              <p:cNvSpPr/>
              <p:nvPr/>
            </p:nvSpPr>
            <p:spPr>
              <a:xfrm>
                <a:off x="4822200" y="537624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0" name="CaixaDeTexto 27"/>
              <p:cNvSpPr/>
              <p:nvPr/>
            </p:nvSpPr>
            <p:spPr>
              <a:xfrm>
                <a:off x="4813200" y="469692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1" name="CaixaDeTexto 28"/>
              <p:cNvSpPr/>
              <p:nvPr/>
            </p:nvSpPr>
            <p:spPr>
              <a:xfrm>
                <a:off x="4836960" y="409680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grpSp>
        <p:nvGrpSpPr>
          <p:cNvPr id="1272" name="Grupo 30"/>
          <p:cNvGrpSpPr/>
          <p:nvPr/>
        </p:nvGrpSpPr>
        <p:grpSpPr>
          <a:xfrm>
            <a:off x="6391440" y="2438280"/>
            <a:ext cx="2181240" cy="3313080"/>
            <a:chOff x="6391440" y="2438280"/>
            <a:chExt cx="2181240" cy="3313080"/>
          </a:xfrm>
        </p:grpSpPr>
        <p:pic>
          <p:nvPicPr>
            <p:cNvPr id="1273" name="Imagem 17" descr="FAT_R_K_Razao_2007_Ecoli_CIP.jpg"/>
            <p:cNvPicPr/>
            <p:nvPr/>
          </p:nvPicPr>
          <p:blipFill>
            <a:blip r:embed="rId5"/>
            <a:stretch/>
          </p:blipFill>
          <p:spPr>
            <a:xfrm>
              <a:off x="6391440" y="2438280"/>
              <a:ext cx="2181240" cy="331308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74" name="Grupo 29"/>
            <p:cNvGrpSpPr/>
            <p:nvPr/>
          </p:nvGrpSpPr>
          <p:grpSpPr>
            <a:xfrm>
              <a:off x="7673040" y="4100040"/>
              <a:ext cx="725040" cy="1553040"/>
              <a:chOff x="7673040" y="4100040"/>
              <a:chExt cx="725040" cy="1553040"/>
            </a:xfrm>
          </p:grpSpPr>
          <p:pic>
            <p:nvPicPr>
              <p:cNvPr id="1275" name="Picture 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73040" y="4169160"/>
                <a:ext cx="168840" cy="139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6" name="CaixaDeTexto 34"/>
              <p:cNvSpPr/>
              <p:nvPr/>
            </p:nvSpPr>
            <p:spPr>
              <a:xfrm>
                <a:off x="7778160" y="537660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7" name="CaixaDeTexto 35"/>
              <p:cNvSpPr/>
              <p:nvPr/>
            </p:nvSpPr>
            <p:spPr>
              <a:xfrm>
                <a:off x="7769160" y="469872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8" name="CaixaDeTexto 36"/>
              <p:cNvSpPr/>
              <p:nvPr/>
            </p:nvSpPr>
            <p:spPr>
              <a:xfrm>
                <a:off x="7793280" y="410004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0" name="CaixaDeTexto 42"/>
          <p:cNvSpPr/>
          <p:nvPr/>
        </p:nvSpPr>
        <p:spPr>
          <a:xfrm>
            <a:off x="276480" y="105552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de razã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1" name="Object 1"/>
              <p:cNvSpPr txBox="1"/>
              <p:nvPr/>
            </p:nvSpPr>
            <p:spPr>
              <a:xfrm>
                <a:off x="2895480" y="938160"/>
                <a:ext cx="2341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Object 3"/>
              <p:cNvSpPr txBox="1"/>
              <p:nvPr/>
            </p:nvSpPr>
            <p:spPr>
              <a:xfrm>
                <a:off x="5643720" y="938160"/>
                <a:ext cx="234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3" name="Conector reto 44"/>
          <p:cNvSpPr/>
          <p:nvPr/>
        </p:nvSpPr>
        <p:spPr>
          <a:xfrm flipH="1">
            <a:off x="5237280" y="938160"/>
            <a:ext cx="341280" cy="79236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A91F-5E74-4295-959E-CFE5D821AE1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8" name="CaixaDeTexto 42"/>
          <p:cNvSpPr/>
          <p:nvPr/>
        </p:nvSpPr>
        <p:spPr>
          <a:xfrm>
            <a:off x="260280" y="10555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adaptativ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9" name="Text Box 147"/>
          <p:cNvSpPr/>
          <p:nvPr/>
        </p:nvSpPr>
        <p:spPr>
          <a:xfrm>
            <a:off x="6327000" y="449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 a ser estima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90" name="Grupo 87"/>
          <p:cNvGrpSpPr/>
          <p:nvPr/>
        </p:nvGrpSpPr>
        <p:grpSpPr>
          <a:xfrm>
            <a:off x="320760" y="2711520"/>
            <a:ext cx="5241960" cy="3511440"/>
            <a:chOff x="320760" y="2711520"/>
            <a:chExt cx="5241960" cy="3511440"/>
          </a:xfrm>
        </p:grpSpPr>
        <p:sp>
          <p:nvSpPr>
            <p:cNvPr id="1291" name="Rectangle 66"/>
            <p:cNvSpPr/>
            <p:nvPr/>
          </p:nvSpPr>
          <p:spPr>
            <a:xfrm>
              <a:off x="320760" y="2711520"/>
              <a:ext cx="5241960" cy="351144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2" name="Freeform 28"/>
            <p:cNvSpPr/>
            <p:nvPr/>
          </p:nvSpPr>
          <p:spPr>
            <a:xfrm>
              <a:off x="469440" y="2988000"/>
              <a:ext cx="4973760" cy="3107520"/>
            </a:xfrm>
            <a:custGeom>
              <a:avLst/>
              <a:gdLst>
                <a:gd name="textAreaLeft" fmla="*/ 0 w 4973760"/>
                <a:gd name="textAreaRight" fmla="*/ 4973760 w 4973760"/>
                <a:gd name="textAreaTop" fmla="*/ 0 h 3107520"/>
                <a:gd name="textAreaBottom" fmla="*/ 3107880 h 3107520"/>
              </a:gdLst>
              <a:ahLst/>
              <a:rect l="textAreaLeft" t="textAreaTop" r="textAreaRight" b="textAreaBottom"/>
              <a:pathLst>
                <a:path w="1538" h="1315">
                  <a:moveTo>
                    <a:pt x="529" y="249"/>
                  </a:moveTo>
                  <a:cubicBezTo>
                    <a:pt x="516" y="252"/>
                    <a:pt x="504" y="257"/>
                    <a:pt x="493" y="263"/>
                  </a:cubicBezTo>
                  <a:cubicBezTo>
                    <a:pt x="489" y="272"/>
                    <a:pt x="488" y="277"/>
                    <a:pt x="478" y="280"/>
                  </a:cubicBezTo>
                  <a:cubicBezTo>
                    <a:pt x="476" y="283"/>
                    <a:pt x="458" y="306"/>
                    <a:pt x="457" y="307"/>
                  </a:cubicBezTo>
                  <a:cubicBezTo>
                    <a:pt x="452" y="310"/>
                    <a:pt x="441" y="311"/>
                    <a:pt x="435" y="314"/>
                  </a:cubicBezTo>
                  <a:cubicBezTo>
                    <a:pt x="430" y="321"/>
                    <a:pt x="428" y="329"/>
                    <a:pt x="423" y="335"/>
                  </a:cubicBezTo>
                  <a:cubicBezTo>
                    <a:pt x="414" y="347"/>
                    <a:pt x="383" y="350"/>
                    <a:pt x="370" y="352"/>
                  </a:cubicBezTo>
                  <a:cubicBezTo>
                    <a:pt x="353" y="359"/>
                    <a:pt x="367" y="383"/>
                    <a:pt x="349" y="388"/>
                  </a:cubicBezTo>
                  <a:cubicBezTo>
                    <a:pt x="338" y="402"/>
                    <a:pt x="319" y="416"/>
                    <a:pt x="305" y="427"/>
                  </a:cubicBezTo>
                  <a:cubicBezTo>
                    <a:pt x="300" y="444"/>
                    <a:pt x="308" y="426"/>
                    <a:pt x="296" y="436"/>
                  </a:cubicBezTo>
                  <a:cubicBezTo>
                    <a:pt x="284" y="447"/>
                    <a:pt x="288" y="462"/>
                    <a:pt x="269" y="467"/>
                  </a:cubicBezTo>
                  <a:cubicBezTo>
                    <a:pt x="261" y="482"/>
                    <a:pt x="248" y="488"/>
                    <a:pt x="238" y="501"/>
                  </a:cubicBezTo>
                  <a:cubicBezTo>
                    <a:pt x="235" y="512"/>
                    <a:pt x="224" y="519"/>
                    <a:pt x="214" y="523"/>
                  </a:cubicBezTo>
                  <a:cubicBezTo>
                    <a:pt x="211" y="535"/>
                    <a:pt x="204" y="542"/>
                    <a:pt x="195" y="549"/>
                  </a:cubicBezTo>
                  <a:cubicBezTo>
                    <a:pt x="192" y="559"/>
                    <a:pt x="188" y="570"/>
                    <a:pt x="178" y="573"/>
                  </a:cubicBezTo>
                  <a:cubicBezTo>
                    <a:pt x="170" y="579"/>
                    <a:pt x="159" y="584"/>
                    <a:pt x="149" y="587"/>
                  </a:cubicBezTo>
                  <a:cubicBezTo>
                    <a:pt x="136" y="596"/>
                    <a:pt x="130" y="607"/>
                    <a:pt x="118" y="616"/>
                  </a:cubicBezTo>
                  <a:cubicBezTo>
                    <a:pt x="113" y="631"/>
                    <a:pt x="114" y="637"/>
                    <a:pt x="104" y="647"/>
                  </a:cubicBezTo>
                  <a:cubicBezTo>
                    <a:pt x="88" y="689"/>
                    <a:pt x="116" y="732"/>
                    <a:pt x="104" y="775"/>
                  </a:cubicBezTo>
                  <a:cubicBezTo>
                    <a:pt x="106" y="788"/>
                    <a:pt x="93" y="796"/>
                    <a:pt x="89" y="808"/>
                  </a:cubicBezTo>
                  <a:cubicBezTo>
                    <a:pt x="87" y="839"/>
                    <a:pt x="85" y="835"/>
                    <a:pt x="70" y="856"/>
                  </a:cubicBezTo>
                  <a:cubicBezTo>
                    <a:pt x="68" y="862"/>
                    <a:pt x="66" y="874"/>
                    <a:pt x="61" y="878"/>
                  </a:cubicBezTo>
                  <a:cubicBezTo>
                    <a:pt x="57" y="882"/>
                    <a:pt x="46" y="887"/>
                    <a:pt x="46" y="887"/>
                  </a:cubicBezTo>
                  <a:cubicBezTo>
                    <a:pt x="43" y="899"/>
                    <a:pt x="32" y="902"/>
                    <a:pt x="22" y="909"/>
                  </a:cubicBezTo>
                  <a:cubicBezTo>
                    <a:pt x="19" y="919"/>
                    <a:pt x="16" y="930"/>
                    <a:pt x="13" y="940"/>
                  </a:cubicBezTo>
                  <a:cubicBezTo>
                    <a:pt x="11" y="962"/>
                    <a:pt x="0" y="1033"/>
                    <a:pt x="27" y="1041"/>
                  </a:cubicBezTo>
                  <a:cubicBezTo>
                    <a:pt x="37" y="1047"/>
                    <a:pt x="48" y="1073"/>
                    <a:pt x="58" y="1079"/>
                  </a:cubicBezTo>
                  <a:cubicBezTo>
                    <a:pt x="63" y="1093"/>
                    <a:pt x="85" y="1095"/>
                    <a:pt x="99" y="1099"/>
                  </a:cubicBezTo>
                  <a:cubicBezTo>
                    <a:pt x="104" y="1100"/>
                    <a:pt x="113" y="1103"/>
                    <a:pt x="113" y="1103"/>
                  </a:cubicBezTo>
                  <a:cubicBezTo>
                    <a:pt x="130" y="1114"/>
                    <a:pt x="140" y="1131"/>
                    <a:pt x="161" y="1137"/>
                  </a:cubicBezTo>
                  <a:cubicBezTo>
                    <a:pt x="169" y="1142"/>
                    <a:pt x="174" y="1147"/>
                    <a:pt x="183" y="1149"/>
                  </a:cubicBezTo>
                  <a:cubicBezTo>
                    <a:pt x="197" y="1163"/>
                    <a:pt x="216" y="1166"/>
                    <a:pt x="233" y="1175"/>
                  </a:cubicBezTo>
                  <a:cubicBezTo>
                    <a:pt x="245" y="1189"/>
                    <a:pt x="238" y="1183"/>
                    <a:pt x="255" y="1195"/>
                  </a:cubicBezTo>
                  <a:cubicBezTo>
                    <a:pt x="259" y="1198"/>
                    <a:pt x="269" y="1199"/>
                    <a:pt x="269" y="1199"/>
                  </a:cubicBezTo>
                  <a:cubicBezTo>
                    <a:pt x="280" y="1206"/>
                    <a:pt x="290" y="1209"/>
                    <a:pt x="303" y="1211"/>
                  </a:cubicBezTo>
                  <a:cubicBezTo>
                    <a:pt x="326" y="1221"/>
                    <a:pt x="351" y="1228"/>
                    <a:pt x="375" y="1235"/>
                  </a:cubicBezTo>
                  <a:cubicBezTo>
                    <a:pt x="385" y="1247"/>
                    <a:pt x="395" y="1243"/>
                    <a:pt x="409" y="1247"/>
                  </a:cubicBezTo>
                  <a:cubicBezTo>
                    <a:pt x="424" y="1258"/>
                    <a:pt x="441" y="1259"/>
                    <a:pt x="459" y="1262"/>
                  </a:cubicBezTo>
                  <a:cubicBezTo>
                    <a:pt x="475" y="1268"/>
                    <a:pt x="478" y="1267"/>
                    <a:pt x="488" y="1271"/>
                  </a:cubicBezTo>
                  <a:cubicBezTo>
                    <a:pt x="501" y="1273"/>
                    <a:pt x="523" y="1272"/>
                    <a:pt x="538" y="1276"/>
                  </a:cubicBezTo>
                  <a:cubicBezTo>
                    <a:pt x="556" y="1284"/>
                    <a:pt x="557" y="1294"/>
                    <a:pt x="577" y="1295"/>
                  </a:cubicBezTo>
                  <a:cubicBezTo>
                    <a:pt x="593" y="1300"/>
                    <a:pt x="611" y="1304"/>
                    <a:pt x="627" y="1307"/>
                  </a:cubicBezTo>
                  <a:cubicBezTo>
                    <a:pt x="641" y="1313"/>
                    <a:pt x="657" y="1312"/>
                    <a:pt x="673" y="1315"/>
                  </a:cubicBezTo>
                  <a:cubicBezTo>
                    <a:pt x="725" y="1314"/>
                    <a:pt x="779" y="1314"/>
                    <a:pt x="831" y="1310"/>
                  </a:cubicBezTo>
                  <a:cubicBezTo>
                    <a:pt x="837" y="1290"/>
                    <a:pt x="831" y="1296"/>
                    <a:pt x="845" y="1288"/>
                  </a:cubicBezTo>
                  <a:cubicBezTo>
                    <a:pt x="864" y="1262"/>
                    <a:pt x="849" y="1247"/>
                    <a:pt x="886" y="1243"/>
                  </a:cubicBezTo>
                  <a:cubicBezTo>
                    <a:pt x="913" y="1231"/>
                    <a:pt x="944" y="1233"/>
                    <a:pt x="973" y="1231"/>
                  </a:cubicBezTo>
                  <a:cubicBezTo>
                    <a:pt x="981" y="1228"/>
                    <a:pt x="987" y="1223"/>
                    <a:pt x="994" y="1219"/>
                  </a:cubicBezTo>
                  <a:cubicBezTo>
                    <a:pt x="1002" y="1206"/>
                    <a:pt x="1013" y="1213"/>
                    <a:pt x="1023" y="1199"/>
                  </a:cubicBezTo>
                  <a:cubicBezTo>
                    <a:pt x="1039" y="1177"/>
                    <a:pt x="1062" y="1166"/>
                    <a:pt x="1088" y="1159"/>
                  </a:cubicBezTo>
                  <a:cubicBezTo>
                    <a:pt x="1098" y="1148"/>
                    <a:pt x="1108" y="1139"/>
                    <a:pt x="1121" y="1132"/>
                  </a:cubicBezTo>
                  <a:cubicBezTo>
                    <a:pt x="1128" y="1128"/>
                    <a:pt x="1143" y="1123"/>
                    <a:pt x="1143" y="1123"/>
                  </a:cubicBezTo>
                  <a:cubicBezTo>
                    <a:pt x="1156" y="1114"/>
                    <a:pt x="1168" y="1094"/>
                    <a:pt x="1184" y="1091"/>
                  </a:cubicBezTo>
                  <a:cubicBezTo>
                    <a:pt x="1198" y="1085"/>
                    <a:pt x="1250" y="1093"/>
                    <a:pt x="1268" y="1091"/>
                  </a:cubicBezTo>
                  <a:cubicBezTo>
                    <a:pt x="1293" y="1086"/>
                    <a:pt x="1315" y="1073"/>
                    <a:pt x="1340" y="1067"/>
                  </a:cubicBezTo>
                  <a:cubicBezTo>
                    <a:pt x="1342" y="1066"/>
                    <a:pt x="1345" y="1065"/>
                    <a:pt x="1347" y="1063"/>
                  </a:cubicBezTo>
                  <a:cubicBezTo>
                    <a:pt x="1349" y="1061"/>
                    <a:pt x="1349" y="1057"/>
                    <a:pt x="1352" y="1055"/>
                  </a:cubicBezTo>
                  <a:cubicBezTo>
                    <a:pt x="1357" y="1052"/>
                    <a:pt x="1375" y="1048"/>
                    <a:pt x="1381" y="1046"/>
                  </a:cubicBezTo>
                  <a:cubicBezTo>
                    <a:pt x="1396" y="1035"/>
                    <a:pt x="1414" y="1031"/>
                    <a:pt x="1431" y="1024"/>
                  </a:cubicBezTo>
                  <a:cubicBezTo>
                    <a:pt x="1443" y="1008"/>
                    <a:pt x="1447" y="982"/>
                    <a:pt x="1450" y="962"/>
                  </a:cubicBezTo>
                  <a:cubicBezTo>
                    <a:pt x="1452" y="910"/>
                    <a:pt x="1427" y="838"/>
                    <a:pt x="1469" y="796"/>
                  </a:cubicBezTo>
                  <a:cubicBezTo>
                    <a:pt x="1473" y="786"/>
                    <a:pt x="1474" y="783"/>
                    <a:pt x="1472" y="772"/>
                  </a:cubicBezTo>
                  <a:cubicBezTo>
                    <a:pt x="1473" y="744"/>
                    <a:pt x="1474" y="717"/>
                    <a:pt x="1493" y="695"/>
                  </a:cubicBezTo>
                  <a:cubicBezTo>
                    <a:pt x="1505" y="667"/>
                    <a:pt x="1496" y="636"/>
                    <a:pt x="1503" y="607"/>
                  </a:cubicBezTo>
                  <a:cubicBezTo>
                    <a:pt x="1502" y="573"/>
                    <a:pt x="1481" y="451"/>
                    <a:pt x="1513" y="419"/>
                  </a:cubicBezTo>
                  <a:cubicBezTo>
                    <a:pt x="1519" y="398"/>
                    <a:pt x="1517" y="410"/>
                    <a:pt x="1515" y="383"/>
                  </a:cubicBezTo>
                  <a:cubicBezTo>
                    <a:pt x="1514" y="344"/>
                    <a:pt x="1515" y="310"/>
                    <a:pt x="1508" y="273"/>
                  </a:cubicBezTo>
                  <a:cubicBezTo>
                    <a:pt x="1509" y="258"/>
                    <a:pt x="1505" y="217"/>
                    <a:pt x="1527" y="211"/>
                  </a:cubicBezTo>
                  <a:cubicBezTo>
                    <a:pt x="1538" y="169"/>
                    <a:pt x="1531" y="167"/>
                    <a:pt x="1493" y="163"/>
                  </a:cubicBezTo>
                  <a:cubicBezTo>
                    <a:pt x="1476" y="157"/>
                    <a:pt x="1471" y="151"/>
                    <a:pt x="1457" y="141"/>
                  </a:cubicBezTo>
                  <a:cubicBezTo>
                    <a:pt x="1454" y="133"/>
                    <a:pt x="1443" y="134"/>
                    <a:pt x="1438" y="127"/>
                  </a:cubicBezTo>
                  <a:cubicBezTo>
                    <a:pt x="1435" y="113"/>
                    <a:pt x="1428" y="111"/>
                    <a:pt x="1421" y="100"/>
                  </a:cubicBezTo>
                  <a:cubicBezTo>
                    <a:pt x="1388" y="48"/>
                    <a:pt x="1332" y="68"/>
                    <a:pt x="1270" y="67"/>
                  </a:cubicBezTo>
                  <a:cubicBezTo>
                    <a:pt x="1213" y="62"/>
                    <a:pt x="1239" y="53"/>
                    <a:pt x="1177" y="50"/>
                  </a:cubicBezTo>
                  <a:cubicBezTo>
                    <a:pt x="1164" y="45"/>
                    <a:pt x="1155" y="37"/>
                    <a:pt x="1141" y="33"/>
                  </a:cubicBezTo>
                  <a:cubicBezTo>
                    <a:pt x="1097" y="6"/>
                    <a:pt x="1040" y="15"/>
                    <a:pt x="989" y="11"/>
                  </a:cubicBezTo>
                  <a:cubicBezTo>
                    <a:pt x="956" y="12"/>
                    <a:pt x="918" y="0"/>
                    <a:pt x="889" y="16"/>
                  </a:cubicBezTo>
                  <a:cubicBezTo>
                    <a:pt x="880" y="21"/>
                    <a:pt x="879" y="36"/>
                    <a:pt x="869" y="43"/>
                  </a:cubicBezTo>
                  <a:cubicBezTo>
                    <a:pt x="859" y="60"/>
                    <a:pt x="877" y="60"/>
                    <a:pt x="845" y="64"/>
                  </a:cubicBezTo>
                  <a:cubicBezTo>
                    <a:pt x="823" y="71"/>
                    <a:pt x="819" y="88"/>
                    <a:pt x="797" y="98"/>
                  </a:cubicBezTo>
                  <a:cubicBezTo>
                    <a:pt x="787" y="102"/>
                    <a:pt x="776" y="102"/>
                    <a:pt x="766" y="105"/>
                  </a:cubicBezTo>
                  <a:cubicBezTo>
                    <a:pt x="764" y="142"/>
                    <a:pt x="772" y="138"/>
                    <a:pt x="747" y="143"/>
                  </a:cubicBezTo>
                  <a:cubicBezTo>
                    <a:pt x="745" y="146"/>
                    <a:pt x="744" y="149"/>
                    <a:pt x="742" y="151"/>
                  </a:cubicBezTo>
                  <a:cubicBezTo>
                    <a:pt x="740" y="153"/>
                    <a:pt x="737" y="151"/>
                    <a:pt x="735" y="153"/>
                  </a:cubicBezTo>
                  <a:cubicBezTo>
                    <a:pt x="731" y="157"/>
                    <a:pt x="732" y="163"/>
                    <a:pt x="728" y="167"/>
                  </a:cubicBezTo>
                  <a:cubicBezTo>
                    <a:pt x="721" y="174"/>
                    <a:pt x="708" y="178"/>
                    <a:pt x="699" y="182"/>
                  </a:cubicBezTo>
                  <a:cubicBezTo>
                    <a:pt x="690" y="194"/>
                    <a:pt x="689" y="199"/>
                    <a:pt x="675" y="203"/>
                  </a:cubicBezTo>
                  <a:cubicBezTo>
                    <a:pt x="668" y="202"/>
                    <a:pt x="637" y="199"/>
                    <a:pt x="627" y="203"/>
                  </a:cubicBezTo>
                  <a:cubicBezTo>
                    <a:pt x="624" y="204"/>
                    <a:pt x="624" y="209"/>
                    <a:pt x="622" y="211"/>
                  </a:cubicBezTo>
                  <a:cubicBezTo>
                    <a:pt x="605" y="230"/>
                    <a:pt x="611" y="225"/>
                    <a:pt x="584" y="227"/>
                  </a:cubicBezTo>
                  <a:cubicBezTo>
                    <a:pt x="564" y="235"/>
                    <a:pt x="561" y="237"/>
                    <a:pt x="536" y="239"/>
                  </a:cubicBezTo>
                  <a:cubicBezTo>
                    <a:pt x="531" y="248"/>
                    <a:pt x="533" y="245"/>
                    <a:pt x="529" y="249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3" name="Oval 29"/>
            <p:cNvSpPr/>
            <p:nvPr/>
          </p:nvSpPr>
          <p:spPr>
            <a:xfrm>
              <a:off x="1061280" y="5022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4" name="Oval 30"/>
            <p:cNvSpPr/>
            <p:nvPr/>
          </p:nvSpPr>
          <p:spPr>
            <a:xfrm>
              <a:off x="137160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5" name="Oval 31"/>
            <p:cNvSpPr/>
            <p:nvPr/>
          </p:nvSpPr>
          <p:spPr>
            <a:xfrm>
              <a:off x="16819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6" name="Oval 32"/>
            <p:cNvSpPr/>
            <p:nvPr/>
          </p:nvSpPr>
          <p:spPr>
            <a:xfrm>
              <a:off x="1827720" y="4455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7" name="Oval 33"/>
            <p:cNvSpPr/>
            <p:nvPr/>
          </p:nvSpPr>
          <p:spPr>
            <a:xfrm>
              <a:off x="199260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8" name="Oval 35"/>
            <p:cNvSpPr/>
            <p:nvPr/>
          </p:nvSpPr>
          <p:spPr>
            <a:xfrm>
              <a:off x="4476240" y="53629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9" name="Oval 36"/>
            <p:cNvSpPr/>
            <p:nvPr/>
          </p:nvSpPr>
          <p:spPr>
            <a:xfrm>
              <a:off x="370008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0" name="Oval 37"/>
            <p:cNvSpPr/>
            <p:nvPr/>
          </p:nvSpPr>
          <p:spPr>
            <a:xfrm>
              <a:off x="23821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1" name="Oval 38"/>
            <p:cNvSpPr/>
            <p:nvPr/>
          </p:nvSpPr>
          <p:spPr>
            <a:xfrm>
              <a:off x="27655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2" name="Oval 39"/>
            <p:cNvSpPr/>
            <p:nvPr/>
          </p:nvSpPr>
          <p:spPr>
            <a:xfrm>
              <a:off x="307584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3" name="Oval 40"/>
            <p:cNvSpPr/>
            <p:nvPr/>
          </p:nvSpPr>
          <p:spPr>
            <a:xfrm>
              <a:off x="3075840" y="54763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4" name="Oval 41"/>
            <p:cNvSpPr/>
            <p:nvPr/>
          </p:nvSpPr>
          <p:spPr>
            <a:xfrm>
              <a:off x="2144520" y="5589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5" name="Oval 42"/>
            <p:cNvSpPr/>
            <p:nvPr/>
          </p:nvSpPr>
          <p:spPr>
            <a:xfrm>
              <a:off x="1681920" y="5703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6" name="Oval 43"/>
            <p:cNvSpPr/>
            <p:nvPr/>
          </p:nvSpPr>
          <p:spPr>
            <a:xfrm>
              <a:off x="1530000" y="5589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7" name="Oval 45"/>
            <p:cNvSpPr/>
            <p:nvPr/>
          </p:nvSpPr>
          <p:spPr>
            <a:xfrm>
              <a:off x="1840680" y="46821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8" name="Oval 46"/>
            <p:cNvSpPr/>
            <p:nvPr/>
          </p:nvSpPr>
          <p:spPr>
            <a:xfrm>
              <a:off x="1675800" y="47955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9" name="Oval 47"/>
            <p:cNvSpPr/>
            <p:nvPr/>
          </p:nvSpPr>
          <p:spPr>
            <a:xfrm>
              <a:off x="1371600" y="47955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0" name="Oval 48"/>
            <p:cNvSpPr/>
            <p:nvPr/>
          </p:nvSpPr>
          <p:spPr>
            <a:xfrm>
              <a:off x="1523520" y="4455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1" name="Oval 49"/>
            <p:cNvSpPr/>
            <p:nvPr/>
          </p:nvSpPr>
          <p:spPr>
            <a:xfrm>
              <a:off x="1675800" y="42357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2" name="Oval 51"/>
            <p:cNvSpPr/>
            <p:nvPr/>
          </p:nvSpPr>
          <p:spPr>
            <a:xfrm>
              <a:off x="2154240" y="45687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3" name="Oval 52"/>
            <p:cNvSpPr/>
            <p:nvPr/>
          </p:nvSpPr>
          <p:spPr>
            <a:xfrm>
              <a:off x="2002320" y="37818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4" name="Oval 53"/>
            <p:cNvSpPr/>
            <p:nvPr/>
          </p:nvSpPr>
          <p:spPr>
            <a:xfrm>
              <a:off x="2610360" y="38952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5" name="Oval 54"/>
            <p:cNvSpPr/>
            <p:nvPr/>
          </p:nvSpPr>
          <p:spPr>
            <a:xfrm>
              <a:off x="2613600" y="3668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6" name="Oval 55"/>
            <p:cNvSpPr/>
            <p:nvPr/>
          </p:nvSpPr>
          <p:spPr>
            <a:xfrm>
              <a:off x="2917440" y="3434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7" name="Oval 56"/>
            <p:cNvSpPr/>
            <p:nvPr/>
          </p:nvSpPr>
          <p:spPr>
            <a:xfrm>
              <a:off x="3069360" y="3555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8" name="Oval 57"/>
            <p:cNvSpPr/>
            <p:nvPr/>
          </p:nvSpPr>
          <p:spPr>
            <a:xfrm>
              <a:off x="3548160" y="3888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9" name="Oval 58"/>
            <p:cNvSpPr/>
            <p:nvPr/>
          </p:nvSpPr>
          <p:spPr>
            <a:xfrm>
              <a:off x="3548160" y="3668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0" name="Oval 59"/>
            <p:cNvSpPr/>
            <p:nvPr/>
          </p:nvSpPr>
          <p:spPr>
            <a:xfrm>
              <a:off x="3396240" y="3434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1" name="Oval 60"/>
            <p:cNvSpPr/>
            <p:nvPr/>
          </p:nvSpPr>
          <p:spPr>
            <a:xfrm>
              <a:off x="3700080" y="3321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2" name="Oval 61"/>
            <p:cNvSpPr/>
            <p:nvPr/>
          </p:nvSpPr>
          <p:spPr>
            <a:xfrm>
              <a:off x="3852000" y="35478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3" name="Oval 62"/>
            <p:cNvSpPr/>
            <p:nvPr/>
          </p:nvSpPr>
          <p:spPr>
            <a:xfrm>
              <a:off x="4004280" y="3321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4" name="Oval 63"/>
            <p:cNvSpPr/>
            <p:nvPr/>
          </p:nvSpPr>
          <p:spPr>
            <a:xfrm>
              <a:off x="4476240" y="3555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5" name="Oval 65"/>
            <p:cNvSpPr/>
            <p:nvPr/>
          </p:nvSpPr>
          <p:spPr>
            <a:xfrm>
              <a:off x="3396240" y="32076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326" name="Group 142"/>
            <p:cNvGrpSpPr/>
            <p:nvPr/>
          </p:nvGrpSpPr>
          <p:grpSpPr>
            <a:xfrm>
              <a:off x="1827720" y="4349160"/>
              <a:ext cx="1551600" cy="1134000"/>
              <a:chOff x="1827720" y="4349160"/>
              <a:chExt cx="1551600" cy="1134000"/>
            </a:xfrm>
          </p:grpSpPr>
          <p:sp>
            <p:nvSpPr>
              <p:cNvPr id="1327" name="Oval 144"/>
              <p:cNvSpPr/>
              <p:nvPr/>
            </p:nvSpPr>
            <p:spPr>
              <a:xfrm>
                <a:off x="1827720" y="4349160"/>
                <a:ext cx="1551600" cy="1134000"/>
              </a:xfrm>
              <a:prstGeom prst="ellipse">
                <a:avLst/>
              </a:prstGeom>
              <a:noFill/>
              <a:ln w="28440">
                <a:solidFill>
                  <a:srgbClr val="0066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328" name="Line 145"/>
              <p:cNvSpPr/>
              <p:nvPr/>
            </p:nvSpPr>
            <p:spPr>
              <a:xfrm flipV="1">
                <a:off x="2642760" y="4455000"/>
                <a:ext cx="426600" cy="453600"/>
              </a:xfrm>
              <a:prstGeom prst="line">
                <a:avLst/>
              </a:prstGeom>
              <a:ln cap="sq"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329" name="Oval 143"/>
              <p:cNvSpPr/>
              <p:nvPr/>
            </p:nvSpPr>
            <p:spPr>
              <a:xfrm>
                <a:off x="2519640" y="4823640"/>
                <a:ext cx="219600" cy="179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330" name="Text Box 147"/>
          <p:cNvSpPr/>
          <p:nvPr/>
        </p:nvSpPr>
        <p:spPr>
          <a:xfrm>
            <a:off x="6338520" y="391716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ventos observad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1" name="Elipse 89"/>
          <p:cNvSpPr/>
          <p:nvPr/>
        </p:nvSpPr>
        <p:spPr>
          <a:xfrm>
            <a:off x="6221520" y="4030560"/>
            <a:ext cx="179280" cy="1796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3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2" name="Elipse 90"/>
          <p:cNvSpPr/>
          <p:nvPr/>
        </p:nvSpPr>
        <p:spPr>
          <a:xfrm>
            <a:off x="6221520" y="4568760"/>
            <a:ext cx="179280" cy="1810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3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3" name="Oval 144"/>
          <p:cNvSpPr/>
          <p:nvPr/>
        </p:nvSpPr>
        <p:spPr>
          <a:xfrm>
            <a:off x="3311640" y="3311640"/>
            <a:ext cx="757080" cy="504720"/>
          </a:xfrm>
          <a:prstGeom prst="ellipse">
            <a:avLst/>
          </a:prstGeom>
          <a:noFill/>
          <a:ln w="2844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4" name="Line 145"/>
          <p:cNvSpPr/>
          <p:nvPr/>
        </p:nvSpPr>
        <p:spPr>
          <a:xfrm flipV="1">
            <a:off x="3311640" y="3564000"/>
            <a:ext cx="396720" cy="71280"/>
          </a:xfrm>
          <a:prstGeom prst="line">
            <a:avLst/>
          </a:prstGeom>
          <a:ln cap="sq"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5" name="Object 1"/>
              <p:cNvSpPr txBox="1"/>
              <p:nvPr/>
            </p:nvSpPr>
            <p:spPr>
              <a:xfrm>
                <a:off x="3068640" y="785880"/>
                <a:ext cx="3218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336" name="Conector de seta reta 95"/>
          <p:cNvCxnSpPr/>
          <p:nvPr/>
        </p:nvCxnSpPr>
        <p:spPr>
          <a:xfrm flipV="1">
            <a:off x="5715000" y="1785240"/>
            <a:ext cx="2160" cy="5533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7" name="Conector de seta reta 96"/>
          <p:cNvCxnSpPr/>
          <p:nvPr/>
        </p:nvCxnSpPr>
        <p:spPr>
          <a:xfrm flipV="1">
            <a:off x="4714920" y="1785240"/>
            <a:ext cx="2160" cy="5533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38" name="CaixaDeTexto 97"/>
          <p:cNvSpPr/>
          <p:nvPr/>
        </p:nvSpPr>
        <p:spPr>
          <a:xfrm>
            <a:off x="3003480" y="342900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cb3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9" name="CaixaDeTexto 98"/>
          <p:cNvSpPr/>
          <p:nvPr/>
        </p:nvSpPr>
        <p:spPr>
          <a:xfrm>
            <a:off x="2798640" y="434988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cb3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0" name="Oval 143"/>
          <p:cNvSpPr/>
          <p:nvPr/>
        </p:nvSpPr>
        <p:spPr>
          <a:xfrm>
            <a:off x="3610080" y="3500280"/>
            <a:ext cx="180720" cy="108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1" name="Oval 36"/>
          <p:cNvSpPr/>
          <p:nvPr/>
        </p:nvSpPr>
        <p:spPr>
          <a:xfrm>
            <a:off x="3916440" y="4378320"/>
            <a:ext cx="152280" cy="112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2" name="Oval 36"/>
          <p:cNvSpPr/>
          <p:nvPr/>
        </p:nvSpPr>
        <p:spPr>
          <a:xfrm>
            <a:off x="3776760" y="4738680"/>
            <a:ext cx="152280" cy="1144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3" name="Oval 36"/>
          <p:cNvSpPr/>
          <p:nvPr/>
        </p:nvSpPr>
        <p:spPr>
          <a:xfrm>
            <a:off x="4221000" y="4683240"/>
            <a:ext cx="152640" cy="112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4" name="Oval 36"/>
          <p:cNvSpPr/>
          <p:nvPr/>
        </p:nvSpPr>
        <p:spPr>
          <a:xfrm>
            <a:off x="4716360" y="3916440"/>
            <a:ext cx="152640" cy="1141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5" name="Oval 36"/>
          <p:cNvSpPr/>
          <p:nvPr/>
        </p:nvSpPr>
        <p:spPr>
          <a:xfrm>
            <a:off x="3146400" y="4264200"/>
            <a:ext cx="150840" cy="1141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7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B260-9935-4785-A5A8-85F2D64EC5C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8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0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1" name="Text Box 4"/>
          <p:cNvSpPr/>
          <p:nvPr/>
        </p:nvSpPr>
        <p:spPr>
          <a:xfrm>
            <a:off x="609480" y="593280"/>
            <a:ext cx="7848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método do vizinho mais próximo estima a função de distribuição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mulativa (       ) baseado nas distâncias entre eventos em um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gião de anális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Object 1024"/>
              <p:cNvSpPr txBox="1"/>
              <p:nvPr/>
            </p:nvSpPr>
            <p:spPr>
              <a:xfrm>
                <a:off x="3352680" y="2819520"/>
                <a:ext cx="22100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w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3" name="Text Box 9"/>
          <p:cNvSpPr/>
          <p:nvPr/>
        </p:nvSpPr>
        <p:spPr>
          <a:xfrm>
            <a:off x="469800" y="2208960"/>
            <a:ext cx="49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ode ser estimado empiricamente por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4" name="Text Box 10"/>
          <p:cNvSpPr/>
          <p:nvPr/>
        </p:nvSpPr>
        <p:spPr>
          <a:xfrm>
            <a:off x="745560" y="3580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5" name="Text Box 11"/>
          <p:cNvSpPr/>
          <p:nvPr/>
        </p:nvSpPr>
        <p:spPr>
          <a:xfrm>
            <a:off x="1030680" y="3885120"/>
            <a:ext cx="31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istância de entrad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6" name="Text Box 12"/>
          <p:cNvSpPr/>
          <p:nvPr/>
        </p:nvSpPr>
        <p:spPr>
          <a:xfrm>
            <a:off x="1027440" y="4336920"/>
            <a:ext cx="35344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pt-BR" sz="2400" spc="-1" strike="noStrike" baseline="-12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istância entre event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7" name="Text Box 13"/>
          <p:cNvSpPr/>
          <p:nvPr/>
        </p:nvSpPr>
        <p:spPr>
          <a:xfrm>
            <a:off x="1031760" y="479952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número de event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Object 1025"/>
              <p:cNvSpPr txBox="1"/>
              <p:nvPr/>
            </p:nvSpPr>
            <p:spPr>
              <a:xfrm>
                <a:off x="2209680" y="121932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9" name="Text Box 15"/>
          <p:cNvSpPr/>
          <p:nvPr/>
        </p:nvSpPr>
        <p:spPr>
          <a:xfrm>
            <a:off x="262440" y="5369400"/>
            <a:ext cx="899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plotagem dos resultados de          em relação as distâncias, pode ser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tilizado como um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método exploratório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para verificar se existe evidênci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e interação entre os event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0" name="Object 1026"/>
              <p:cNvSpPr txBox="1"/>
              <p:nvPr/>
            </p:nvSpPr>
            <p:spPr>
              <a:xfrm>
                <a:off x="4191120" y="533412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2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B3C4-7C36-4B8D-9FBE-09663C61627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3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5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Object 0"/>
              <p:cNvSpPr txBox="1"/>
              <p:nvPr/>
            </p:nvSpPr>
            <p:spPr>
              <a:xfrm>
                <a:off x="5457960" y="2006640"/>
                <a:ext cx="22096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w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7" name="Text Box 5"/>
          <p:cNvSpPr/>
          <p:nvPr/>
        </p:nvSpPr>
        <p:spPr>
          <a:xfrm>
            <a:off x="54000" y="613800"/>
            <a:ext cx="8937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prática a distância de entrada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está compreendida entre um valor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ínimo e máximo estabelecido pelo analista.</a:t>
            </a:r>
            <a:r>
              <a:rPr b="0" lang="pt-BR" sz="1800" spc="-1" strike="noStrike">
                <a:solidFill>
                  <a:srgbClr val="ffffff"/>
                </a:solidFill>
                <a:latin typeface="AHD Symbo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lém disso, deve-se definir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ambém o número de intervalos desejad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8" name="AutoShape 6"/>
          <p:cNvSpPr/>
          <p:nvPr/>
        </p:nvSpPr>
        <p:spPr>
          <a:xfrm>
            <a:off x="4336920" y="4721400"/>
            <a:ext cx="838440" cy="385560"/>
          </a:xfrm>
          <a:custGeom>
            <a:avLst/>
            <a:gdLst>
              <a:gd name="textAreaLeft" fmla="*/ 131040 w 838440"/>
              <a:gd name="textAreaRight" fmla="*/ 733680 w 838440"/>
              <a:gd name="textAreaTop" fmla="*/ 96480 h 385560"/>
              <a:gd name="textAreaBottom" fmla="*/ 289440 h 385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9" name="Rectangle 7"/>
          <p:cNvSpPr/>
          <p:nvPr/>
        </p:nvSpPr>
        <p:spPr>
          <a:xfrm>
            <a:off x="457200" y="3629160"/>
            <a:ext cx="3124080" cy="28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0" name="Rectangle 8"/>
          <p:cNvSpPr/>
          <p:nvPr/>
        </p:nvSpPr>
        <p:spPr>
          <a:xfrm>
            <a:off x="592200" y="3629160"/>
            <a:ext cx="3441600" cy="27190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1" name="Text Box 9"/>
          <p:cNvSpPr/>
          <p:nvPr/>
        </p:nvSpPr>
        <p:spPr>
          <a:xfrm>
            <a:off x="478440" y="365688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istância mínima entre event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5559480" y="3236760"/>
            <a:ext cx="0" cy="281952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Object 1"/>
              <p:cNvSpPr txBox="1"/>
              <p:nvPr/>
            </p:nvSpPr>
            <p:spPr>
              <a:xfrm>
                <a:off x="5635800" y="308448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4" name="Rectangle 12"/>
          <p:cNvSpPr/>
          <p:nvPr/>
        </p:nvSpPr>
        <p:spPr>
          <a:xfrm>
            <a:off x="8152200" y="597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5" name="Rectangle 13"/>
          <p:cNvSpPr/>
          <p:nvPr/>
        </p:nvSpPr>
        <p:spPr>
          <a:xfrm>
            <a:off x="5176800" y="58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6" name="Rectangle 14"/>
          <p:cNvSpPr/>
          <p:nvPr/>
        </p:nvSpPr>
        <p:spPr>
          <a:xfrm>
            <a:off x="5176800" y="354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7" name="Rectangle 15"/>
          <p:cNvSpPr/>
          <p:nvPr/>
        </p:nvSpPr>
        <p:spPr>
          <a:xfrm>
            <a:off x="5408640" y="6055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8" name="Line 16"/>
          <p:cNvSpPr/>
          <p:nvPr/>
        </p:nvSpPr>
        <p:spPr>
          <a:xfrm flipH="1">
            <a:off x="5473800" y="380988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9" name="Line 17"/>
          <p:cNvSpPr/>
          <p:nvPr/>
        </p:nvSpPr>
        <p:spPr>
          <a:xfrm>
            <a:off x="5559480" y="6056280"/>
            <a:ext cx="297180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0" name="Rectangle 18"/>
          <p:cNvSpPr/>
          <p:nvPr/>
        </p:nvSpPr>
        <p:spPr>
          <a:xfrm>
            <a:off x="483840" y="1861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ín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1" name="Rectangle 19"/>
          <p:cNvSpPr/>
          <p:nvPr/>
        </p:nvSpPr>
        <p:spPr>
          <a:xfrm>
            <a:off x="2958120" y="18680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áx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1367640" y="3121560"/>
            <a:ext cx="12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1" lang="pt-BR" sz="1400" spc="-1" strike="noStrike" u="sng" baseline="30000">
                <a:solidFill>
                  <a:srgbClr val="eaeaea"/>
                </a:solidFill>
                <a:uFillTx/>
                <a:latin typeface="Arial"/>
              </a:rPr>
              <a:t>o</a:t>
            </a: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 intervalo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3" name="Line 21"/>
          <p:cNvSpPr/>
          <p:nvPr/>
        </p:nvSpPr>
        <p:spPr>
          <a:xfrm>
            <a:off x="1360440" y="2317680"/>
            <a:ext cx="0" cy="29700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4" name="Line 22"/>
          <p:cNvSpPr/>
          <p:nvPr/>
        </p:nvSpPr>
        <p:spPr>
          <a:xfrm>
            <a:off x="1963800" y="2317680"/>
            <a:ext cx="0" cy="4618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5" name="Line 23"/>
          <p:cNvSpPr/>
          <p:nvPr/>
        </p:nvSpPr>
        <p:spPr>
          <a:xfrm>
            <a:off x="2567160" y="2317680"/>
            <a:ext cx="0" cy="6256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6" name="Freeform 24"/>
          <p:cNvSpPr/>
          <p:nvPr/>
        </p:nvSpPr>
        <p:spPr>
          <a:xfrm>
            <a:off x="738360" y="2287440"/>
            <a:ext cx="2473200" cy="11772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0" h="1">
                <a:moveTo>
                  <a:pt x="0" y="0"/>
                </a:moveTo>
                <a:lnTo>
                  <a:pt x="960" y="0"/>
                </a:lnTo>
              </a:path>
            </a:pathLst>
          </a:custGeom>
          <a:noFill/>
          <a:ln cap="sq" w="2844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7" name="Rectangle 25"/>
          <p:cNvSpPr/>
          <p:nvPr/>
        </p:nvSpPr>
        <p:spPr>
          <a:xfrm>
            <a:off x="1773360" y="188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8" name="Line 26"/>
          <p:cNvSpPr/>
          <p:nvPr/>
        </p:nvSpPr>
        <p:spPr>
          <a:xfrm>
            <a:off x="743040" y="2165400"/>
            <a:ext cx="0" cy="111132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9" name="Freeform 27"/>
          <p:cNvSpPr/>
          <p:nvPr/>
        </p:nvSpPr>
        <p:spPr>
          <a:xfrm flipH="1">
            <a:off x="3028320" y="2165400"/>
            <a:ext cx="182520" cy="1111320"/>
          </a:xfrm>
          <a:custGeom>
            <a:avLst/>
            <a:gdLst>
              <a:gd name="textAreaLeft" fmla="*/ -360 w 182520"/>
              <a:gd name="textAreaRight" fmla="*/ 182520 w 18252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" h="329">
                <a:moveTo>
                  <a:pt x="0" y="0"/>
                </a:moveTo>
                <a:lnTo>
                  <a:pt x="0" y="329"/>
                </a:lnTo>
              </a:path>
            </a:pathLst>
          </a:custGeom>
          <a:noFill/>
          <a:ln cap="sq" w="2844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0" name="Line 28"/>
          <p:cNvSpPr/>
          <p:nvPr/>
        </p:nvSpPr>
        <p:spPr>
          <a:xfrm>
            <a:off x="738360" y="2614680"/>
            <a:ext cx="62208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1" name="Line 29"/>
          <p:cNvSpPr/>
          <p:nvPr/>
        </p:nvSpPr>
        <p:spPr>
          <a:xfrm>
            <a:off x="738360" y="2779560"/>
            <a:ext cx="122544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2" name="Line 30"/>
          <p:cNvSpPr/>
          <p:nvPr/>
        </p:nvSpPr>
        <p:spPr>
          <a:xfrm>
            <a:off x="743040" y="2943360"/>
            <a:ext cx="182412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3" name="Freeform 31"/>
          <p:cNvSpPr/>
          <p:nvPr/>
        </p:nvSpPr>
        <p:spPr>
          <a:xfrm>
            <a:off x="750960" y="3125880"/>
            <a:ext cx="2423880" cy="1440"/>
          </a:xfrm>
          <a:custGeom>
            <a:avLst/>
            <a:gdLst>
              <a:gd name="textAreaLeft" fmla="*/ 0 w 2423880"/>
              <a:gd name="textAreaRight" fmla="*/ 2424240 w 2423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27" h="1">
                <a:moveTo>
                  <a:pt x="0" y="0"/>
                </a:moveTo>
                <a:lnTo>
                  <a:pt x="1527" y="0"/>
                </a:lnTo>
              </a:path>
            </a:pathLst>
          </a:custGeom>
          <a:noFill/>
          <a:ln cap="sq" w="64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1044360" y="2370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1652400" y="2537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6" name="Text Box 34"/>
          <p:cNvSpPr/>
          <p:nvPr/>
        </p:nvSpPr>
        <p:spPr>
          <a:xfrm>
            <a:off x="2261880" y="2689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7" name="Text Box 35"/>
          <p:cNvSpPr/>
          <p:nvPr/>
        </p:nvSpPr>
        <p:spPr>
          <a:xfrm>
            <a:off x="2871720" y="286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8" name="Text Box 36"/>
          <p:cNvSpPr/>
          <p:nvPr/>
        </p:nvSpPr>
        <p:spPr>
          <a:xfrm>
            <a:off x="5384160" y="34059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Função de Distribuição Cumulativ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9" name="Line 37"/>
          <p:cNvSpPr/>
          <p:nvPr/>
        </p:nvSpPr>
        <p:spPr>
          <a:xfrm>
            <a:off x="1494000" y="4309920"/>
            <a:ext cx="0" cy="1112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0" name="Line 38"/>
          <p:cNvSpPr/>
          <p:nvPr/>
        </p:nvSpPr>
        <p:spPr>
          <a:xfrm>
            <a:off x="1376280" y="5653080"/>
            <a:ext cx="0" cy="1112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1" name="Freeform 39"/>
          <p:cNvSpPr/>
          <p:nvPr/>
        </p:nvSpPr>
        <p:spPr>
          <a:xfrm>
            <a:off x="914400" y="5873760"/>
            <a:ext cx="326880" cy="4680"/>
          </a:xfrm>
          <a:custGeom>
            <a:avLst/>
            <a:gdLst>
              <a:gd name="textAreaLeft" fmla="*/ 0 w 326880"/>
              <a:gd name="textAreaRight" fmla="*/ 326880 w 326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06" h="3">
                <a:moveTo>
                  <a:pt x="0" y="3"/>
                </a:moveTo>
                <a:lnTo>
                  <a:pt x="206" y="0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2" name="Freeform 40"/>
          <p:cNvSpPr/>
          <p:nvPr/>
        </p:nvSpPr>
        <p:spPr>
          <a:xfrm>
            <a:off x="1619280" y="4454640"/>
            <a:ext cx="369720" cy="77760"/>
          </a:xfrm>
          <a:custGeom>
            <a:avLst/>
            <a:gdLst>
              <a:gd name="textAreaLeft" fmla="*/ 0 w 369720"/>
              <a:gd name="textAreaRight" fmla="*/ 370080 w 369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33" h="49">
                <a:moveTo>
                  <a:pt x="0" y="49"/>
                </a:moveTo>
                <a:lnTo>
                  <a:pt x="233" y="0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3" name="Freeform 41"/>
          <p:cNvSpPr/>
          <p:nvPr/>
        </p:nvSpPr>
        <p:spPr>
          <a:xfrm>
            <a:off x="2647800" y="5016600"/>
            <a:ext cx="86040" cy="528480"/>
          </a:xfrm>
          <a:custGeom>
            <a:avLst/>
            <a:gdLst>
              <a:gd name="textAreaLeft" fmla="*/ 0 w 86040"/>
              <a:gd name="textAreaRight" fmla="*/ 86400 w 860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54" h="333">
                <a:moveTo>
                  <a:pt x="54" y="0"/>
                </a:moveTo>
                <a:lnTo>
                  <a:pt x="0" y="333"/>
                </a:lnTo>
              </a:path>
            </a:pathLst>
          </a:custGeom>
          <a:noFill/>
          <a:ln cap="sq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4" name="Line 42"/>
          <p:cNvSpPr/>
          <p:nvPr/>
        </p:nvSpPr>
        <p:spPr>
          <a:xfrm flipH="1">
            <a:off x="2249640" y="6543720"/>
            <a:ext cx="126720" cy="22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5" name="Line 43"/>
          <p:cNvSpPr/>
          <p:nvPr/>
        </p:nvSpPr>
        <p:spPr>
          <a:xfrm flipH="1">
            <a:off x="2249640" y="6543720"/>
            <a:ext cx="126720" cy="22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6" name="Freeform 44"/>
          <p:cNvSpPr/>
          <p:nvPr/>
        </p:nvSpPr>
        <p:spPr>
          <a:xfrm>
            <a:off x="3514680" y="5757840"/>
            <a:ext cx="147600" cy="250920"/>
          </a:xfrm>
          <a:custGeom>
            <a:avLst/>
            <a:gdLst/>
            <a:ahLst/>
            <a:rect l="l" t="t" r="r" b="b"/>
            <a:pathLst>
              <a:path w="93" h="158">
                <a:moveTo>
                  <a:pt x="93" y="0"/>
                </a:moveTo>
                <a:lnTo>
                  <a:pt x="0" y="158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7" name="Oval 45"/>
          <p:cNvSpPr/>
          <p:nvPr/>
        </p:nvSpPr>
        <p:spPr>
          <a:xfrm>
            <a:off x="1368360" y="4086360"/>
            <a:ext cx="250920" cy="2235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8" name="Oval 46"/>
          <p:cNvSpPr/>
          <p:nvPr/>
        </p:nvSpPr>
        <p:spPr>
          <a:xfrm>
            <a:off x="1368360" y="4421160"/>
            <a:ext cx="2509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9" name="Oval 47"/>
          <p:cNvSpPr/>
          <p:nvPr/>
        </p:nvSpPr>
        <p:spPr>
          <a:xfrm>
            <a:off x="1963800" y="4309920"/>
            <a:ext cx="250920" cy="22248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0" name="Oval 48"/>
          <p:cNvSpPr/>
          <p:nvPr/>
        </p:nvSpPr>
        <p:spPr>
          <a:xfrm>
            <a:off x="2629080" y="4756320"/>
            <a:ext cx="250560" cy="25056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1" name="Oval 49"/>
          <p:cNvSpPr/>
          <p:nvPr/>
        </p:nvSpPr>
        <p:spPr>
          <a:xfrm>
            <a:off x="2502000" y="5538960"/>
            <a:ext cx="252360" cy="22212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2" name="Oval 50"/>
          <p:cNvSpPr/>
          <p:nvPr/>
        </p:nvSpPr>
        <p:spPr>
          <a:xfrm>
            <a:off x="3581280" y="5537160"/>
            <a:ext cx="25236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3" name="Oval 51"/>
          <p:cNvSpPr/>
          <p:nvPr/>
        </p:nvSpPr>
        <p:spPr>
          <a:xfrm>
            <a:off x="3328920" y="5983200"/>
            <a:ext cx="25236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4" name="Oval 52"/>
          <p:cNvSpPr/>
          <p:nvPr/>
        </p:nvSpPr>
        <p:spPr>
          <a:xfrm>
            <a:off x="663480" y="5751360"/>
            <a:ext cx="25092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5" name="Oval 53"/>
          <p:cNvSpPr/>
          <p:nvPr/>
        </p:nvSpPr>
        <p:spPr>
          <a:xfrm>
            <a:off x="1241280" y="5425920"/>
            <a:ext cx="2527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6" name="Oval 54"/>
          <p:cNvSpPr/>
          <p:nvPr/>
        </p:nvSpPr>
        <p:spPr>
          <a:xfrm>
            <a:off x="1241280" y="5761080"/>
            <a:ext cx="2527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7" name="Freeform 55"/>
          <p:cNvSpPr/>
          <p:nvPr/>
        </p:nvSpPr>
        <p:spPr>
          <a:xfrm>
            <a:off x="5562720" y="3797280"/>
            <a:ext cx="2666880" cy="226080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260800"/>
              <a:gd name="textAreaBottom" fmla="*/ 2261160 h 2260800"/>
            </a:gdLst>
            <a:ahLst/>
            <a:rect l="textAreaLeft" t="textAreaTop" r="textAreaRight" b="textAreaBottom"/>
            <a:pathLst>
              <a:path w="1680" h="1424">
                <a:moveTo>
                  <a:pt x="0" y="1400"/>
                </a:moveTo>
                <a:cubicBezTo>
                  <a:pt x="32" y="1408"/>
                  <a:pt x="64" y="1416"/>
                  <a:pt x="96" y="1400"/>
                </a:cubicBezTo>
                <a:cubicBezTo>
                  <a:pt x="128" y="1384"/>
                  <a:pt x="136" y="1424"/>
                  <a:pt x="192" y="1304"/>
                </a:cubicBezTo>
                <a:cubicBezTo>
                  <a:pt x="248" y="1184"/>
                  <a:pt x="360" y="864"/>
                  <a:pt x="432" y="680"/>
                </a:cubicBezTo>
                <a:cubicBezTo>
                  <a:pt x="504" y="496"/>
                  <a:pt x="544" y="304"/>
                  <a:pt x="624" y="200"/>
                </a:cubicBezTo>
                <a:cubicBezTo>
                  <a:pt x="704" y="96"/>
                  <a:pt x="800" y="88"/>
                  <a:pt x="912" y="56"/>
                </a:cubicBezTo>
                <a:cubicBezTo>
                  <a:pt x="1024" y="24"/>
                  <a:pt x="1184" y="16"/>
                  <a:pt x="1296" y="8"/>
                </a:cubicBezTo>
                <a:cubicBezTo>
                  <a:pt x="1408" y="0"/>
                  <a:pt x="1520" y="8"/>
                  <a:pt x="1584" y="8"/>
                </a:cubicBezTo>
                <a:cubicBezTo>
                  <a:pt x="1648" y="8"/>
                  <a:pt x="1664" y="8"/>
                  <a:pt x="1680" y="8"/>
                </a:cubicBez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9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3293-3381-4C4B-A87F-106796D73D9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0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2" name="Line 1027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423" name="Picture 1028" descr="Confetes pequenos"/>
          <p:cNvPicPr/>
          <p:nvPr/>
        </p:nvPicPr>
        <p:blipFill>
          <a:blip r:embed="rId1"/>
          <a:stretch/>
        </p:blipFill>
        <p:spPr>
          <a:xfrm>
            <a:off x="1066680" y="1600200"/>
            <a:ext cx="2743200" cy="20480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424" name="Picture 1029" descr="Confetes pequenos"/>
          <p:cNvPicPr/>
          <p:nvPr/>
        </p:nvPicPr>
        <p:blipFill>
          <a:blip r:embed="rId2"/>
          <a:stretch/>
        </p:blipFill>
        <p:spPr>
          <a:xfrm>
            <a:off x="1066680" y="4114800"/>
            <a:ext cx="2743200" cy="20574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25" name="Line 1030"/>
          <p:cNvSpPr/>
          <p:nvPr/>
        </p:nvSpPr>
        <p:spPr>
          <a:xfrm>
            <a:off x="5410080" y="1600200"/>
            <a:ext cx="0" cy="20480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6" name="Line 1031"/>
          <p:cNvSpPr/>
          <p:nvPr/>
        </p:nvSpPr>
        <p:spPr>
          <a:xfrm>
            <a:off x="5410080" y="3648240"/>
            <a:ext cx="24386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7" name="Line 1032"/>
          <p:cNvSpPr/>
          <p:nvPr/>
        </p:nvSpPr>
        <p:spPr>
          <a:xfrm>
            <a:off x="5410080" y="4114800"/>
            <a:ext cx="0" cy="20480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8" name="Line 1033"/>
          <p:cNvSpPr/>
          <p:nvPr/>
        </p:nvSpPr>
        <p:spPr>
          <a:xfrm>
            <a:off x="5410080" y="6162840"/>
            <a:ext cx="24386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9" name="AutoShape 1034"/>
          <p:cNvSpPr/>
          <p:nvPr/>
        </p:nvSpPr>
        <p:spPr>
          <a:xfrm>
            <a:off x="4114800" y="495288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99ff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0" name="AutoShape 1035"/>
          <p:cNvSpPr/>
          <p:nvPr/>
        </p:nvSpPr>
        <p:spPr>
          <a:xfrm>
            <a:off x="4114800" y="25146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99ff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Object 2048"/>
              <p:cNvSpPr txBox="1"/>
              <p:nvPr/>
            </p:nvSpPr>
            <p:spPr>
              <a:xfrm>
                <a:off x="4854600" y="1447920"/>
                <a:ext cx="5554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2" name="Rectangle 1040"/>
          <p:cNvSpPr/>
          <p:nvPr/>
        </p:nvSpPr>
        <p:spPr>
          <a:xfrm>
            <a:off x="7393320" y="6079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3" name="Rectangle 1041"/>
          <p:cNvSpPr/>
          <p:nvPr/>
        </p:nvSpPr>
        <p:spPr>
          <a:xfrm>
            <a:off x="5106600" y="5943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4" name="Rectangle 1042"/>
          <p:cNvSpPr/>
          <p:nvPr/>
        </p:nvSpPr>
        <p:spPr>
          <a:xfrm>
            <a:off x="5106600" y="198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5" name="Rectangle 1043"/>
          <p:cNvSpPr/>
          <p:nvPr/>
        </p:nvSpPr>
        <p:spPr>
          <a:xfrm>
            <a:off x="5281200" y="614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6" name="Line 1055"/>
          <p:cNvSpPr/>
          <p:nvPr/>
        </p:nvSpPr>
        <p:spPr>
          <a:xfrm flipH="1">
            <a:off x="5409720" y="2209680"/>
            <a:ext cx="1305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Object 2049"/>
              <p:cNvSpPr txBox="1"/>
              <p:nvPr/>
            </p:nvSpPr>
            <p:spPr>
              <a:xfrm>
                <a:off x="4854600" y="4038480"/>
                <a:ext cx="555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8" name="Line 1062"/>
          <p:cNvSpPr/>
          <p:nvPr/>
        </p:nvSpPr>
        <p:spPr>
          <a:xfrm flipH="1">
            <a:off x="5391000" y="472140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9" name="Rectangle 1063"/>
          <p:cNvSpPr/>
          <p:nvPr/>
        </p:nvSpPr>
        <p:spPr>
          <a:xfrm>
            <a:off x="5281200" y="3625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0" name="Rectangle 1064"/>
          <p:cNvSpPr/>
          <p:nvPr/>
        </p:nvSpPr>
        <p:spPr>
          <a:xfrm>
            <a:off x="5125680" y="4539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1" name="Freeform 1054"/>
          <p:cNvSpPr/>
          <p:nvPr/>
        </p:nvSpPr>
        <p:spPr>
          <a:xfrm>
            <a:off x="5410080" y="2209680"/>
            <a:ext cx="1543320" cy="1451160"/>
          </a:xfrm>
          <a:custGeom>
            <a:avLst/>
            <a:gdLst>
              <a:gd name="textAreaLeft" fmla="*/ 0 w 1543320"/>
              <a:gd name="textAreaRight" fmla="*/ 1543680 w 154332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972" h="914">
                <a:moveTo>
                  <a:pt x="0" y="908"/>
                </a:moveTo>
                <a:cubicBezTo>
                  <a:pt x="10" y="908"/>
                  <a:pt x="42" y="914"/>
                  <a:pt x="61" y="907"/>
                </a:cubicBezTo>
                <a:cubicBezTo>
                  <a:pt x="80" y="900"/>
                  <a:pt x="98" y="891"/>
                  <a:pt x="115" y="864"/>
                </a:cubicBezTo>
                <a:cubicBezTo>
                  <a:pt x="132" y="837"/>
                  <a:pt x="149" y="788"/>
                  <a:pt x="165" y="744"/>
                </a:cubicBezTo>
                <a:cubicBezTo>
                  <a:pt x="181" y="700"/>
                  <a:pt x="195" y="656"/>
                  <a:pt x="213" y="601"/>
                </a:cubicBezTo>
                <a:cubicBezTo>
                  <a:pt x="231" y="546"/>
                  <a:pt x="253" y="473"/>
                  <a:pt x="273" y="416"/>
                </a:cubicBezTo>
                <a:cubicBezTo>
                  <a:pt x="294" y="360"/>
                  <a:pt x="314" y="309"/>
                  <a:pt x="334" y="263"/>
                </a:cubicBezTo>
                <a:cubicBezTo>
                  <a:pt x="354" y="217"/>
                  <a:pt x="375" y="176"/>
                  <a:pt x="395" y="140"/>
                </a:cubicBezTo>
                <a:cubicBezTo>
                  <a:pt x="415" y="104"/>
                  <a:pt x="435" y="70"/>
                  <a:pt x="456" y="48"/>
                </a:cubicBezTo>
                <a:cubicBezTo>
                  <a:pt x="476" y="26"/>
                  <a:pt x="494" y="13"/>
                  <a:pt x="516" y="6"/>
                </a:cubicBezTo>
                <a:cubicBezTo>
                  <a:pt x="539" y="0"/>
                  <a:pt x="544" y="11"/>
                  <a:pt x="589" y="10"/>
                </a:cubicBezTo>
                <a:cubicBezTo>
                  <a:pt x="633" y="10"/>
                  <a:pt x="721" y="4"/>
                  <a:pt x="785" y="3"/>
                </a:cubicBezTo>
                <a:cubicBezTo>
                  <a:pt x="849" y="2"/>
                  <a:pt x="933" y="3"/>
                  <a:pt x="972" y="3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2" name="Rectangle 1065"/>
          <p:cNvSpPr/>
          <p:nvPr/>
        </p:nvSpPr>
        <p:spPr>
          <a:xfrm>
            <a:off x="5125680" y="3441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3" name="Freeform 1066"/>
          <p:cNvSpPr/>
          <p:nvPr/>
        </p:nvSpPr>
        <p:spPr>
          <a:xfrm>
            <a:off x="5410080" y="4721400"/>
            <a:ext cx="2044800" cy="145080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1288" h="914">
                <a:moveTo>
                  <a:pt x="0" y="910"/>
                </a:moveTo>
                <a:cubicBezTo>
                  <a:pt x="20" y="910"/>
                  <a:pt x="84" y="914"/>
                  <a:pt x="123" y="909"/>
                </a:cubicBezTo>
                <a:cubicBezTo>
                  <a:pt x="162" y="904"/>
                  <a:pt x="196" y="902"/>
                  <a:pt x="235" y="878"/>
                </a:cubicBezTo>
                <a:cubicBezTo>
                  <a:pt x="274" y="854"/>
                  <a:pt x="314" y="815"/>
                  <a:pt x="355" y="763"/>
                </a:cubicBezTo>
                <a:cubicBezTo>
                  <a:pt x="396" y="711"/>
                  <a:pt x="442" y="627"/>
                  <a:pt x="481" y="567"/>
                </a:cubicBezTo>
                <a:cubicBezTo>
                  <a:pt x="520" y="507"/>
                  <a:pt x="552" y="456"/>
                  <a:pt x="590" y="403"/>
                </a:cubicBezTo>
                <a:cubicBezTo>
                  <a:pt x="628" y="350"/>
                  <a:pt x="676" y="293"/>
                  <a:pt x="710" y="250"/>
                </a:cubicBezTo>
                <a:cubicBezTo>
                  <a:pt x="744" y="207"/>
                  <a:pt x="761" y="175"/>
                  <a:pt x="796" y="142"/>
                </a:cubicBezTo>
                <a:cubicBezTo>
                  <a:pt x="831" y="109"/>
                  <a:pt x="878" y="72"/>
                  <a:pt x="919" y="50"/>
                </a:cubicBezTo>
                <a:cubicBezTo>
                  <a:pt x="960" y="28"/>
                  <a:pt x="997" y="15"/>
                  <a:pt x="1041" y="8"/>
                </a:cubicBezTo>
                <a:cubicBezTo>
                  <a:pt x="1086" y="2"/>
                  <a:pt x="1165" y="12"/>
                  <a:pt x="1187" y="12"/>
                </a:cubicBezTo>
                <a:cubicBezTo>
                  <a:pt x="1209" y="12"/>
                  <a:pt x="1157" y="7"/>
                  <a:pt x="1174" y="5"/>
                </a:cubicBezTo>
                <a:cubicBezTo>
                  <a:pt x="1191" y="3"/>
                  <a:pt x="1264" y="1"/>
                  <a:pt x="1288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4" name="Rectangle 1067"/>
          <p:cNvSpPr/>
          <p:nvPr/>
        </p:nvSpPr>
        <p:spPr>
          <a:xfrm>
            <a:off x="7393320" y="361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5" name="Text Box 1093"/>
          <p:cNvSpPr/>
          <p:nvPr/>
        </p:nvSpPr>
        <p:spPr>
          <a:xfrm>
            <a:off x="54000" y="913320"/>
            <a:ext cx="89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nálise exploratória de padrões de distribuição de pontos utilizando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Object 2050"/>
              <p:cNvSpPr txBox="1"/>
              <p:nvPr/>
            </p:nvSpPr>
            <p:spPr>
              <a:xfrm>
                <a:off x="8001000" y="861840"/>
                <a:ext cx="762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430-AEB1-4FAC-AD91-1ABEEE81F14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9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1" name="Line 3"/>
          <p:cNvSpPr/>
          <p:nvPr/>
        </p:nvSpPr>
        <p:spPr>
          <a:xfrm>
            <a:off x="3054240" y="393696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54000" y="990000"/>
            <a:ext cx="893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significância do resultado de            pode ser avaliada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ravés de um modelo teórico denominado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Aleatoriedade   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Espacial Completa – AEC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(Bailey e Gatrell, 1995)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3" name="Text Box 6"/>
          <p:cNvSpPr/>
          <p:nvPr/>
        </p:nvSpPr>
        <p:spPr>
          <a:xfrm>
            <a:off x="54000" y="2589480"/>
            <a:ext cx="8937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a prática isto é realizado da seguinte forma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imeiro, realiza-se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imulações independentes dos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ventos, assumindo-se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AEC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gundo, calcula-se a média das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imulações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4" name="Object 2050"/>
              <p:cNvSpPr txBox="1"/>
              <p:nvPr/>
            </p:nvSpPr>
            <p:spPr>
              <a:xfrm>
                <a:off x="4521240" y="857160"/>
                <a:ext cx="1050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Object 13"/>
              <p:cNvSpPr txBox="1"/>
              <p:nvPr/>
            </p:nvSpPr>
            <p:spPr>
              <a:xfrm>
                <a:off x="4643280" y="3503520"/>
                <a:ext cx="298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Object 0"/>
              <p:cNvSpPr txBox="1"/>
              <p:nvPr/>
            </p:nvSpPr>
            <p:spPr>
              <a:xfrm>
                <a:off x="2786040" y="4929120"/>
                <a:ext cx="27972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F9B-1B9F-4C64-B77F-3FA2C88E8C2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9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1" name="Text Box 6"/>
          <p:cNvSpPr/>
          <p:nvPr/>
        </p:nvSpPr>
        <p:spPr>
          <a:xfrm>
            <a:off x="54000" y="86616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rceiro, calcula-se os envelopes de simulaçã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2" name="Text Box 7"/>
          <p:cNvSpPr/>
          <p:nvPr/>
        </p:nvSpPr>
        <p:spPr>
          <a:xfrm>
            <a:off x="5743440" y="163656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nvelope superio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3" name="Text Box 8"/>
          <p:cNvSpPr/>
          <p:nvPr/>
        </p:nvSpPr>
        <p:spPr>
          <a:xfrm>
            <a:off x="5743440" y="24008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nvelope inferio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0"/>
              <p:cNvSpPr txBox="1"/>
              <p:nvPr/>
            </p:nvSpPr>
            <p:spPr>
              <a:xfrm>
                <a:off x="279360" y="1450800"/>
                <a:ext cx="52340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Object 1"/>
              <p:cNvSpPr txBox="1"/>
              <p:nvPr/>
            </p:nvSpPr>
            <p:spPr>
              <a:xfrm>
                <a:off x="341280" y="2357280"/>
                <a:ext cx="52452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6" name="Grupo 39"/>
          <p:cNvGrpSpPr/>
          <p:nvPr/>
        </p:nvGrpSpPr>
        <p:grpSpPr>
          <a:xfrm>
            <a:off x="1785960" y="3371040"/>
            <a:ext cx="4557600" cy="2987280"/>
            <a:chOff x="1785960" y="3371040"/>
            <a:chExt cx="4557600" cy="2987280"/>
          </a:xfrm>
        </p:grpSpPr>
        <p:sp>
          <p:nvSpPr>
            <p:cNvPr id="1467" name="Line 3"/>
            <p:cNvSpPr/>
            <p:nvPr/>
          </p:nvSpPr>
          <p:spPr>
            <a:xfrm>
              <a:off x="3395160" y="3371760"/>
              <a:ext cx="12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68" name="Line 3"/>
            <p:cNvSpPr/>
            <p:nvPr/>
          </p:nvSpPr>
          <p:spPr>
            <a:xfrm>
              <a:off x="3395160" y="3371760"/>
              <a:ext cx="12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69" name="Forma livre 23"/>
            <p:cNvSpPr/>
            <p:nvPr/>
          </p:nvSpPr>
          <p:spPr>
            <a:xfrm>
              <a:off x="2843640" y="4123440"/>
              <a:ext cx="2452680" cy="2225880"/>
            </a:xfrm>
            <a:custGeom>
              <a:avLst/>
              <a:gdLst>
                <a:gd name="textAreaLeft" fmla="*/ 0 w 2452680"/>
                <a:gd name="textAreaRight" fmla="*/ 2452680 w 2452680"/>
                <a:gd name="textAreaTop" fmla="*/ 0 h 2225880"/>
                <a:gd name="textAreaBottom" fmla="*/ 2226240 h 222588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0" name="Forma livre 24"/>
            <p:cNvSpPr/>
            <p:nvPr/>
          </p:nvSpPr>
          <p:spPr>
            <a:xfrm>
              <a:off x="2752920" y="3741120"/>
              <a:ext cx="2519640" cy="2592360"/>
            </a:xfrm>
            <a:custGeom>
              <a:avLst/>
              <a:gdLst>
                <a:gd name="textAreaLeft" fmla="*/ 0 w 2519640"/>
                <a:gd name="textAreaRight" fmla="*/ 2520000 w 2519640"/>
                <a:gd name="textAreaTop" fmla="*/ 0 h 2592360"/>
                <a:gd name="textAreaBottom" fmla="*/ 2592720 h 259236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1" name="Forma livre 25"/>
            <p:cNvSpPr/>
            <p:nvPr/>
          </p:nvSpPr>
          <p:spPr>
            <a:xfrm>
              <a:off x="2995920" y="4605120"/>
              <a:ext cx="2339640" cy="1728000"/>
            </a:xfrm>
            <a:custGeom>
              <a:avLst/>
              <a:gdLst>
                <a:gd name="textAreaLeft" fmla="*/ 0 w 2339640"/>
                <a:gd name="textAreaRight" fmla="*/ 2340000 w 2339640"/>
                <a:gd name="textAreaTop" fmla="*/ 0 h 1728000"/>
                <a:gd name="textAreaBottom" fmla="*/ 1728360 h 172800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472" name="Grupo 26"/>
            <p:cNvGrpSpPr/>
            <p:nvPr/>
          </p:nvGrpSpPr>
          <p:grpSpPr>
            <a:xfrm>
              <a:off x="2698560" y="3371040"/>
              <a:ext cx="3645000" cy="2987280"/>
              <a:chOff x="2698560" y="3371040"/>
              <a:chExt cx="3645000" cy="2987280"/>
            </a:xfrm>
          </p:grpSpPr>
          <p:cxnSp>
            <p:nvCxnSpPr>
              <p:cNvPr id="1473" name="Conector de seta reta 19"/>
              <p:cNvCxnSpPr/>
              <p:nvPr/>
            </p:nvCxnSpPr>
            <p:spPr>
              <a:xfrm flipV="1">
                <a:off x="2698560" y="3371040"/>
                <a:ext cx="2160" cy="2985480"/>
              </a:xfrm>
              <a:prstGeom prst="straightConnector1">
                <a:avLst/>
              </a:prstGeom>
              <a:ln cap="sq" w="38160">
                <a:solidFill>
                  <a:srgbClr val="ffffff"/>
                </a:solidFill>
                <a:miter/>
                <a:tailEnd len="med" type="arrow" w="med"/>
              </a:ln>
            </p:spPr>
          </p:cxnSp>
          <p:cxnSp>
            <p:nvCxnSpPr>
              <p:cNvPr id="1474" name="Conector de seta reta 22"/>
              <p:cNvCxnSpPr/>
              <p:nvPr/>
            </p:nvCxnSpPr>
            <p:spPr>
              <a:xfrm>
                <a:off x="2699640" y="6356520"/>
                <a:ext cx="3644280" cy="2160"/>
              </a:xfrm>
              <a:prstGeom prst="straightConnector1">
                <a:avLst/>
              </a:prstGeom>
              <a:ln cap="sq" w="38160">
                <a:solidFill>
                  <a:srgbClr val="ffffff"/>
                </a:solidFill>
                <a:miter/>
                <a:tailEnd len="med" type="arrow" w="med"/>
              </a:ln>
            </p:spPr>
          </p:cxnSp>
        </p:grpSp>
        <p:sp>
          <p:nvSpPr>
            <p:cNvPr id="1475" name="CaixaDeTexto 27"/>
            <p:cNvSpPr/>
            <p:nvPr/>
          </p:nvSpPr>
          <p:spPr>
            <a:xfrm>
              <a:off x="5275440" y="3427200"/>
              <a:ext cx="807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6" name="CaixaDeTexto 28"/>
            <p:cNvSpPr/>
            <p:nvPr/>
          </p:nvSpPr>
          <p:spPr>
            <a:xfrm>
              <a:off x="5348160" y="4465440"/>
              <a:ext cx="757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477" name="Grupo 32"/>
            <p:cNvGrpSpPr/>
            <p:nvPr/>
          </p:nvGrpSpPr>
          <p:grpSpPr>
            <a:xfrm>
              <a:off x="5287680" y="3927240"/>
              <a:ext cx="896040" cy="510120"/>
              <a:chOff x="5287680" y="3927240"/>
              <a:chExt cx="896040" cy="510120"/>
            </a:xfrm>
          </p:grpSpPr>
          <p:sp>
            <p:nvSpPr>
              <p:cNvPr id="1478" name="CaixaDeTexto 29"/>
              <p:cNvSpPr/>
              <p:nvPr/>
            </p:nvSpPr>
            <p:spPr>
              <a:xfrm>
                <a:off x="5287680" y="3927240"/>
                <a:ext cx="896040" cy="510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G</a:t>
                </a:r>
                <a:r>
                  <a:rPr b="0" i="1" lang="en-US" sz="2400" spc="-1" strike="noStrike" baseline="-25000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w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479" name="Conector reto 31"/>
              <p:cNvSpPr/>
              <p:nvPr/>
            </p:nvSpPr>
            <p:spPr>
              <a:xfrm>
                <a:off x="5400360" y="3992760"/>
                <a:ext cx="216000" cy="144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1480" name="Conector reto 34"/>
            <p:cNvSpPr/>
            <p:nvPr/>
          </p:nvSpPr>
          <p:spPr>
            <a:xfrm flipH="1">
              <a:off x="4911840" y="3831840"/>
              <a:ext cx="1440" cy="756000"/>
            </a:xfrm>
            <a:prstGeom prst="line">
              <a:avLst/>
            </a:prstGeom>
            <a:ln cap="sq" w="19080">
              <a:solidFill>
                <a:srgbClr val="ffff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81" name="CaixaDeTexto 35"/>
            <p:cNvSpPr/>
            <p:nvPr/>
          </p:nvSpPr>
          <p:spPr>
            <a:xfrm>
              <a:off x="4658040" y="5141880"/>
              <a:ext cx="16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eaeaea"/>
                  </a:solidFill>
                  <a:latin typeface="Tahoma"/>
                </a:rPr>
                <a:t>m</a:t>
              </a: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 simulações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2" name="Object 9"/>
                <p:cNvSpPr txBox="1"/>
                <p:nvPr/>
              </p:nvSpPr>
              <p:spPr>
                <a:xfrm>
                  <a:off x="1785960" y="3407400"/>
                  <a:ext cx="768240" cy="42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3" name="CaixaDeTexto 38"/>
            <p:cNvSpPr/>
            <p:nvPr/>
          </p:nvSpPr>
          <p:spPr>
            <a:xfrm>
              <a:off x="5857200" y="589608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E261-9F11-4264-A38B-C80D1E9FC39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 - prelimina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sideramos aqui fenômenos expressos através de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corrências pontuai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ão observações disponíveis no espaç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presentações pontuais podem corresponder a dados como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índices de mortalidades,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corrências de doenças,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ocalização de espécie vegetais, etc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umentar o entendimento do processo inferindo valores em locais sem observaçõe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5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A5DE-06E0-4665-B68C-6E49BECCC40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6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8" name="Text Box 4"/>
          <p:cNvSpPr/>
          <p:nvPr/>
        </p:nvSpPr>
        <p:spPr>
          <a:xfrm>
            <a:off x="380880" y="787320"/>
            <a:ext cx="8534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arto, plota-se          x          com adição dos envelopes. Isto permite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valiar a significância do resultado de         relativo a hipótese de </a:t>
            </a: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AEC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Object 0"/>
              <p:cNvSpPr txBox="1"/>
              <p:nvPr/>
            </p:nvSpPr>
            <p:spPr>
              <a:xfrm>
                <a:off x="3389400" y="934920"/>
                <a:ext cx="776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1"/>
              <p:cNvSpPr txBox="1"/>
              <p:nvPr/>
            </p:nvSpPr>
            <p:spPr>
              <a:xfrm>
                <a:off x="2571840" y="928800"/>
                <a:ext cx="622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Object 77"/>
              <p:cNvSpPr txBox="1"/>
              <p:nvPr/>
            </p:nvSpPr>
            <p:spPr>
              <a:xfrm>
                <a:off x="4950000" y="1379520"/>
                <a:ext cx="622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2" name="Grupo 79"/>
          <p:cNvGrpSpPr/>
          <p:nvPr/>
        </p:nvGrpSpPr>
        <p:grpSpPr>
          <a:xfrm>
            <a:off x="380880" y="2143080"/>
            <a:ext cx="8534520" cy="4206240"/>
            <a:chOff x="380880" y="2143080"/>
            <a:chExt cx="8534520" cy="4206240"/>
          </a:xfrm>
        </p:grpSpPr>
        <p:sp>
          <p:nvSpPr>
            <p:cNvPr id="1493" name="Text Box 44"/>
            <p:cNvSpPr/>
            <p:nvPr/>
          </p:nvSpPr>
          <p:spPr>
            <a:xfrm>
              <a:off x="380880" y="5188680"/>
              <a:ext cx="85345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Se a condição de </a:t>
              </a:r>
              <a:r>
                <a:rPr b="0" i="1" lang="pt-BR" sz="2000" spc="-1" strike="noStrike">
                  <a:solidFill>
                    <a:srgbClr val="ffff00"/>
                  </a:solidFill>
                  <a:latin typeface="Tahoma"/>
                </a:rPr>
                <a:t>AEC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 for válida para os dados observados, a plotagem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HD Symbo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  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x          deve ser praticamente linear com um ângulo de 45</a:t>
              </a:r>
              <a:r>
                <a:rPr b="0" lang="pt-BR" sz="2000" spc="-1" strike="noStrike" baseline="30000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94" name="AutoShape 139"/>
            <p:cNvSpPr/>
            <p:nvPr/>
          </p:nvSpPr>
          <p:spPr>
            <a:xfrm flipH="1" rot="5400000">
              <a:off x="780840" y="4157640"/>
              <a:ext cx="1033200" cy="1071360"/>
            </a:xfrm>
            <a:custGeom>
              <a:avLst/>
              <a:gdLst>
                <a:gd name="textAreaLeft" fmla="*/ 0 w 1033200"/>
                <a:gd name="textAreaRight" fmla="*/ 885600 w 1033200"/>
                <a:gd name="textAreaTop" fmla="*/ 71424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9257"/>
                  </a:lnTo>
                  <a:lnTo>
                    <a:pt x="12351" y="9257"/>
                  </a:lnTo>
                  <a:lnTo>
                    <a:pt x="12351" y="14416"/>
                  </a:lnTo>
                  <a:lnTo>
                    <a:pt x="0" y="14416"/>
                  </a:lnTo>
                  <a:lnTo>
                    <a:pt x="0" y="21600"/>
                  </a:lnTo>
                  <a:lnTo>
                    <a:pt x="18506" y="21600"/>
                  </a:lnTo>
                  <a:lnTo>
                    <a:pt x="18506" y="9257"/>
                  </a:lnTo>
                  <a:lnTo>
                    <a:pt x="21600" y="9257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0035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Object 4"/>
                <p:cNvSpPr txBox="1"/>
                <p:nvPr/>
              </p:nvSpPr>
              <p:spPr>
                <a:xfrm>
                  <a:off x="609480" y="5762880"/>
                  <a:ext cx="6444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6" name="Object 5"/>
                <p:cNvSpPr txBox="1"/>
                <p:nvPr/>
              </p:nvSpPr>
              <p:spPr>
                <a:xfrm>
                  <a:off x="1523880" y="5781600"/>
                  <a:ext cx="6872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97" name="Grupo 78"/>
            <p:cNvGrpSpPr/>
            <p:nvPr/>
          </p:nvGrpSpPr>
          <p:grpSpPr>
            <a:xfrm>
              <a:off x="1447560" y="2143080"/>
              <a:ext cx="3735360" cy="3067200"/>
              <a:chOff x="1447560" y="2143080"/>
              <a:chExt cx="3735360" cy="3067200"/>
            </a:xfrm>
          </p:grpSpPr>
          <p:sp>
            <p:nvSpPr>
              <p:cNvPr id="1498" name="Line 58"/>
              <p:cNvSpPr/>
              <p:nvPr/>
            </p:nvSpPr>
            <p:spPr>
              <a:xfrm>
                <a:off x="2188800" y="2219040"/>
                <a:ext cx="0" cy="2590920"/>
              </a:xfrm>
              <a:prstGeom prst="line">
                <a:avLst/>
              </a:prstGeom>
              <a:ln cap="sq" w="381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499" name="Line 59"/>
              <p:cNvSpPr/>
              <p:nvPr/>
            </p:nvSpPr>
            <p:spPr>
              <a:xfrm>
                <a:off x="2188800" y="4810320"/>
                <a:ext cx="2916360" cy="0"/>
              </a:xfrm>
              <a:prstGeom prst="line">
                <a:avLst/>
              </a:prstGeom>
              <a:ln cap="sq"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00" name="Object 6"/>
                  <p:cNvSpPr txBox="1"/>
                  <p:nvPr/>
                </p:nvSpPr>
                <p:spPr>
                  <a:xfrm>
                    <a:off x="1447560" y="2143080"/>
                    <a:ext cx="64440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1" name="Object 7"/>
                  <p:cNvSpPr txBox="1"/>
                  <p:nvPr/>
                </p:nvSpPr>
                <p:spPr>
                  <a:xfrm>
                    <a:off x="4495680" y="4810320"/>
                    <a:ext cx="68724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502" name="Group 137"/>
              <p:cNvGrpSpPr/>
              <p:nvPr/>
            </p:nvGrpSpPr>
            <p:grpSpPr>
              <a:xfrm>
                <a:off x="2188800" y="2600280"/>
                <a:ext cx="2438280" cy="2185920"/>
                <a:chOff x="2188800" y="2600280"/>
                <a:chExt cx="2438280" cy="2185920"/>
              </a:xfrm>
            </p:grpSpPr>
            <p:sp>
              <p:nvSpPr>
                <p:cNvPr id="1503" name="Line 123"/>
                <p:cNvSpPr/>
                <p:nvPr/>
              </p:nvSpPr>
              <p:spPr>
                <a:xfrm flipV="1">
                  <a:off x="2188800" y="4203720"/>
                  <a:ext cx="345960" cy="5824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4" name="Line 124"/>
                <p:cNvSpPr/>
                <p:nvPr/>
              </p:nvSpPr>
              <p:spPr>
                <a:xfrm flipV="1">
                  <a:off x="2534760" y="3438360"/>
                  <a:ext cx="971640" cy="76536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5" name="Line 125"/>
                <p:cNvSpPr/>
                <p:nvPr/>
              </p:nvSpPr>
              <p:spPr>
                <a:xfrm flipV="1">
                  <a:off x="3506400" y="3165480"/>
                  <a:ext cx="206280" cy="272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6" name="Line 126"/>
                <p:cNvSpPr/>
                <p:nvPr/>
              </p:nvSpPr>
              <p:spPr>
                <a:xfrm flipV="1">
                  <a:off x="3712680" y="2600280"/>
                  <a:ext cx="914400" cy="56520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1507" name="Grupo 77"/>
              <p:cNvGrpSpPr/>
              <p:nvPr/>
            </p:nvGrpSpPr>
            <p:grpSpPr>
              <a:xfrm>
                <a:off x="2188440" y="2752560"/>
                <a:ext cx="2535480" cy="2033640"/>
                <a:chOff x="2188440" y="2752560"/>
                <a:chExt cx="2535480" cy="2033640"/>
              </a:xfrm>
            </p:grpSpPr>
            <p:sp>
              <p:nvSpPr>
                <p:cNvPr id="1508" name="Line 127"/>
                <p:cNvSpPr/>
                <p:nvPr/>
              </p:nvSpPr>
              <p:spPr>
                <a:xfrm flipH="1">
                  <a:off x="4357440" y="2752560"/>
                  <a:ext cx="366480" cy="46836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9" name="Line 128"/>
                <p:cNvSpPr/>
                <p:nvPr/>
              </p:nvSpPr>
              <p:spPr>
                <a:xfrm flipH="1">
                  <a:off x="3385440" y="3220920"/>
                  <a:ext cx="971640" cy="76500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0" name="Line 129"/>
                <p:cNvSpPr/>
                <p:nvPr/>
              </p:nvSpPr>
              <p:spPr>
                <a:xfrm flipH="1">
                  <a:off x="3178800" y="3986280"/>
                  <a:ext cx="206280" cy="27288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1" name="Line 130"/>
                <p:cNvSpPr/>
                <p:nvPr/>
              </p:nvSpPr>
              <p:spPr>
                <a:xfrm flipH="1">
                  <a:off x="2188440" y="4259160"/>
                  <a:ext cx="990360" cy="52704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1512" name="Group 136"/>
              <p:cNvGrpSpPr/>
              <p:nvPr/>
            </p:nvGrpSpPr>
            <p:grpSpPr>
              <a:xfrm>
                <a:off x="2188800" y="2638440"/>
                <a:ext cx="2535120" cy="2147760"/>
                <a:chOff x="2188800" y="2638440"/>
                <a:chExt cx="2535120" cy="2147760"/>
              </a:xfrm>
            </p:grpSpPr>
            <p:sp>
              <p:nvSpPr>
                <p:cNvPr id="1513" name="Line 132"/>
                <p:cNvSpPr/>
                <p:nvPr/>
              </p:nvSpPr>
              <p:spPr>
                <a:xfrm flipV="1">
                  <a:off x="2188800" y="4203720"/>
                  <a:ext cx="576000" cy="58248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4" name="Line 133"/>
                <p:cNvSpPr/>
                <p:nvPr/>
              </p:nvSpPr>
              <p:spPr>
                <a:xfrm flipV="1">
                  <a:off x="2764800" y="3681000"/>
                  <a:ext cx="741600" cy="52236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5" name="Line 134"/>
                <p:cNvSpPr/>
                <p:nvPr/>
              </p:nvSpPr>
              <p:spPr>
                <a:xfrm flipV="1">
                  <a:off x="3506400" y="2980800"/>
                  <a:ext cx="685800" cy="70020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6" name="Line 135"/>
                <p:cNvSpPr/>
                <p:nvPr/>
              </p:nvSpPr>
              <p:spPr>
                <a:xfrm flipV="1">
                  <a:off x="4192200" y="2638440"/>
                  <a:ext cx="531720" cy="34272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1517" name="Line 3"/>
              <p:cNvSpPr/>
              <p:nvPr/>
            </p:nvSpPr>
            <p:spPr>
              <a:xfrm>
                <a:off x="3054240" y="4102200"/>
                <a:ext cx="125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18" name="Line 62"/>
              <p:cNvSpPr/>
              <p:nvPr/>
            </p:nvSpPr>
            <p:spPr>
              <a:xfrm flipV="1">
                <a:off x="2188800" y="2322000"/>
                <a:ext cx="2864160" cy="248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0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8576-EA36-4779-8B6A-3E0992736E9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1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23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4" name="Text Box 4"/>
          <p:cNvSpPr/>
          <p:nvPr/>
        </p:nvSpPr>
        <p:spPr>
          <a:xfrm>
            <a:off x="152280" y="86724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e o dado apresenta tendências para agrupamento, os traçados no gráfic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arão acima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525" name="Group 5"/>
          <p:cNvGrpSpPr/>
          <p:nvPr/>
        </p:nvGrpSpPr>
        <p:grpSpPr>
          <a:xfrm>
            <a:off x="665280" y="2276640"/>
            <a:ext cx="2895120" cy="2304360"/>
            <a:chOff x="665280" y="2276640"/>
            <a:chExt cx="2895120" cy="2304360"/>
          </a:xfrm>
        </p:grpSpPr>
        <p:sp>
          <p:nvSpPr>
            <p:cNvPr id="1526" name="Line 6"/>
            <p:cNvSpPr/>
            <p:nvPr/>
          </p:nvSpPr>
          <p:spPr>
            <a:xfrm>
              <a:off x="1239840" y="2333880"/>
              <a:ext cx="0" cy="19468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527" name="Line 7"/>
            <p:cNvSpPr/>
            <p:nvPr/>
          </p:nvSpPr>
          <p:spPr>
            <a:xfrm>
              <a:off x="1239840" y="4280760"/>
              <a:ext cx="226008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8" name="Object 2"/>
                <p:cNvSpPr txBox="1"/>
                <p:nvPr/>
              </p:nvSpPr>
              <p:spPr>
                <a:xfrm>
                  <a:off x="665280" y="2276640"/>
                  <a:ext cx="49968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9" name="Object 3"/>
                <p:cNvSpPr txBox="1"/>
                <p:nvPr/>
              </p:nvSpPr>
              <p:spPr>
                <a:xfrm>
                  <a:off x="3027960" y="4280760"/>
                  <a:ext cx="5324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0" name="Line 10"/>
            <p:cNvSpPr/>
            <p:nvPr/>
          </p:nvSpPr>
          <p:spPr>
            <a:xfrm flipV="1">
              <a:off x="1239840" y="2619720"/>
              <a:ext cx="1964880" cy="1660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531" name="Group 11"/>
            <p:cNvGrpSpPr/>
            <p:nvPr/>
          </p:nvGrpSpPr>
          <p:grpSpPr>
            <a:xfrm>
              <a:off x="1239840" y="2591280"/>
              <a:ext cx="1964880" cy="1688400"/>
              <a:chOff x="1239840" y="2591280"/>
              <a:chExt cx="1964880" cy="1688400"/>
            </a:xfrm>
          </p:grpSpPr>
          <p:sp>
            <p:nvSpPr>
              <p:cNvPr id="1532" name="Line 12"/>
              <p:cNvSpPr/>
              <p:nvPr/>
            </p:nvSpPr>
            <p:spPr>
              <a:xfrm flipV="1">
                <a:off x="1239840" y="4165560"/>
                <a:ext cx="133920" cy="11412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3" name="Line 13"/>
              <p:cNvSpPr/>
              <p:nvPr/>
            </p:nvSpPr>
            <p:spPr>
              <a:xfrm flipV="1">
                <a:off x="1373760" y="3650040"/>
                <a:ext cx="413280" cy="51516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4" name="Line 14"/>
              <p:cNvSpPr/>
              <p:nvPr/>
            </p:nvSpPr>
            <p:spPr>
              <a:xfrm flipV="1">
                <a:off x="1787040" y="3306960"/>
                <a:ext cx="236160" cy="34344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5" name="Line 15"/>
              <p:cNvSpPr/>
              <p:nvPr/>
            </p:nvSpPr>
            <p:spPr>
              <a:xfrm flipV="1">
                <a:off x="2023560" y="2963520"/>
                <a:ext cx="590400" cy="34344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6" name="Line 16"/>
              <p:cNvSpPr/>
              <p:nvPr/>
            </p:nvSpPr>
            <p:spPr>
              <a:xfrm flipV="1">
                <a:off x="2613960" y="2791080"/>
                <a:ext cx="177120" cy="17172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7" name="Line 17"/>
              <p:cNvSpPr/>
              <p:nvPr/>
            </p:nvSpPr>
            <p:spPr>
              <a:xfrm flipV="1">
                <a:off x="2791080" y="2676960"/>
                <a:ext cx="236160" cy="11448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8" name="Line 18"/>
              <p:cNvSpPr/>
              <p:nvPr/>
            </p:nvSpPr>
            <p:spPr>
              <a:xfrm flipV="1">
                <a:off x="3027600" y="2591280"/>
                <a:ext cx="177120" cy="8568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1539" name="Group 19"/>
            <p:cNvGrpSpPr/>
            <p:nvPr/>
          </p:nvGrpSpPr>
          <p:grpSpPr>
            <a:xfrm>
              <a:off x="1239840" y="2505600"/>
              <a:ext cx="1964880" cy="1774080"/>
              <a:chOff x="1239840" y="2505600"/>
              <a:chExt cx="1964880" cy="1774080"/>
            </a:xfrm>
          </p:grpSpPr>
          <p:sp>
            <p:nvSpPr>
              <p:cNvPr id="1540" name="Line 20"/>
              <p:cNvSpPr/>
              <p:nvPr/>
            </p:nvSpPr>
            <p:spPr>
              <a:xfrm flipV="1">
                <a:off x="2613960" y="2620080"/>
                <a:ext cx="177120" cy="56880"/>
              </a:xfrm>
              <a:prstGeom prst="line">
                <a:avLst/>
              </a:prstGeom>
              <a:ln cap="sq"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grpSp>
            <p:nvGrpSpPr>
              <p:cNvPr id="1541" name="Group 21"/>
              <p:cNvGrpSpPr/>
              <p:nvPr/>
            </p:nvGrpSpPr>
            <p:grpSpPr>
              <a:xfrm>
                <a:off x="1239840" y="2505600"/>
                <a:ext cx="1964880" cy="1774080"/>
                <a:chOff x="1239840" y="2505600"/>
                <a:chExt cx="1964880" cy="1774080"/>
              </a:xfrm>
            </p:grpSpPr>
            <p:sp>
              <p:nvSpPr>
                <p:cNvPr id="1542" name="Line 22"/>
                <p:cNvSpPr/>
                <p:nvPr/>
              </p:nvSpPr>
              <p:spPr>
                <a:xfrm flipV="1">
                  <a:off x="1239840" y="3764520"/>
                  <a:ext cx="133920" cy="51516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3" name="Line 23"/>
                <p:cNvSpPr/>
                <p:nvPr/>
              </p:nvSpPr>
              <p:spPr>
                <a:xfrm flipV="1">
                  <a:off x="1373760" y="3134880"/>
                  <a:ext cx="295200" cy="62964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4" name="Line 24"/>
                <p:cNvSpPr/>
                <p:nvPr/>
              </p:nvSpPr>
              <p:spPr>
                <a:xfrm flipV="1">
                  <a:off x="1668960" y="2963160"/>
                  <a:ext cx="235800" cy="17172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5" name="Line 25"/>
                <p:cNvSpPr/>
                <p:nvPr/>
              </p:nvSpPr>
              <p:spPr>
                <a:xfrm flipV="1">
                  <a:off x="1905120" y="2849040"/>
                  <a:ext cx="236160" cy="11448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6" name="Line 26"/>
                <p:cNvSpPr/>
                <p:nvPr/>
              </p:nvSpPr>
              <p:spPr>
                <a:xfrm flipV="1">
                  <a:off x="2141640" y="2676960"/>
                  <a:ext cx="472320" cy="17172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7" name="Line 27"/>
                <p:cNvSpPr/>
                <p:nvPr/>
              </p:nvSpPr>
              <p:spPr>
                <a:xfrm flipV="1">
                  <a:off x="2791080" y="2590920"/>
                  <a:ext cx="236160" cy="2844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8" name="Line 28"/>
                <p:cNvSpPr/>
                <p:nvPr/>
              </p:nvSpPr>
              <p:spPr>
                <a:xfrm flipV="1">
                  <a:off x="3027600" y="2505600"/>
                  <a:ext cx="177120" cy="8568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</p:grpSp>
        <p:grpSp>
          <p:nvGrpSpPr>
            <p:cNvPr id="1549" name="Group 29"/>
            <p:cNvGrpSpPr/>
            <p:nvPr/>
          </p:nvGrpSpPr>
          <p:grpSpPr>
            <a:xfrm>
              <a:off x="1239840" y="2591280"/>
              <a:ext cx="1964520" cy="1688760"/>
              <a:chOff x="1239840" y="2591280"/>
              <a:chExt cx="1964520" cy="1688760"/>
            </a:xfrm>
          </p:grpSpPr>
          <p:sp>
            <p:nvSpPr>
              <p:cNvPr id="1550" name="Line 30"/>
              <p:cNvSpPr/>
              <p:nvPr/>
            </p:nvSpPr>
            <p:spPr>
              <a:xfrm flipV="1">
                <a:off x="1239840" y="4051080"/>
                <a:ext cx="133920" cy="22896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1" name="Line 31"/>
              <p:cNvSpPr/>
              <p:nvPr/>
            </p:nvSpPr>
            <p:spPr>
              <a:xfrm flipV="1">
                <a:off x="1373760" y="3650400"/>
                <a:ext cx="178560" cy="40032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2" name="Line 32"/>
              <p:cNvSpPr/>
              <p:nvPr/>
            </p:nvSpPr>
            <p:spPr>
              <a:xfrm flipV="1">
                <a:off x="1552320" y="3306960"/>
                <a:ext cx="234720" cy="3434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3" name="Line 33"/>
              <p:cNvSpPr/>
              <p:nvPr/>
            </p:nvSpPr>
            <p:spPr>
              <a:xfrm flipV="1">
                <a:off x="1787040" y="3192120"/>
                <a:ext cx="117720" cy="1144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4" name="Line 34"/>
              <p:cNvSpPr/>
              <p:nvPr/>
            </p:nvSpPr>
            <p:spPr>
              <a:xfrm flipV="1">
                <a:off x="1905120" y="2848680"/>
                <a:ext cx="531360" cy="3434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5" name="Line 35"/>
              <p:cNvSpPr/>
              <p:nvPr/>
            </p:nvSpPr>
            <p:spPr>
              <a:xfrm flipV="1">
                <a:off x="2436840" y="2791440"/>
                <a:ext cx="177120" cy="568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6" name="Line 36"/>
              <p:cNvSpPr/>
              <p:nvPr/>
            </p:nvSpPr>
            <p:spPr>
              <a:xfrm flipV="1">
                <a:off x="2613960" y="2676960"/>
                <a:ext cx="177120" cy="1144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7" name="Line 37"/>
              <p:cNvSpPr/>
              <p:nvPr/>
            </p:nvSpPr>
            <p:spPr>
              <a:xfrm flipV="1">
                <a:off x="2791080" y="2591280"/>
                <a:ext cx="413280" cy="856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558" name="Text Box 71"/>
          <p:cNvSpPr/>
          <p:nvPr/>
        </p:nvSpPr>
        <p:spPr>
          <a:xfrm>
            <a:off x="152280" y="525672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or outro lado, se o dado apresenta padrões de regularidade os traçados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icarão abaixo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59" name="Line 82"/>
          <p:cNvSpPr/>
          <p:nvPr/>
        </p:nvSpPr>
        <p:spPr>
          <a:xfrm>
            <a:off x="5451480" y="2486160"/>
            <a:ext cx="0" cy="1947600"/>
          </a:xfrm>
          <a:prstGeom prst="line">
            <a:avLst/>
          </a:prstGeom>
          <a:ln cap="sq"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0" name="Line 83"/>
          <p:cNvSpPr/>
          <p:nvPr/>
        </p:nvSpPr>
        <p:spPr>
          <a:xfrm>
            <a:off x="5451480" y="4433760"/>
            <a:ext cx="226044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1" name="Object 0"/>
              <p:cNvSpPr txBox="1"/>
              <p:nvPr/>
            </p:nvSpPr>
            <p:spPr>
              <a:xfrm>
                <a:off x="4876920" y="2428920"/>
                <a:ext cx="500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Object 1"/>
              <p:cNvSpPr txBox="1"/>
              <p:nvPr/>
            </p:nvSpPr>
            <p:spPr>
              <a:xfrm>
                <a:off x="7238880" y="4433760"/>
                <a:ext cx="53352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3" name="Line 88"/>
          <p:cNvSpPr/>
          <p:nvPr/>
        </p:nvSpPr>
        <p:spPr>
          <a:xfrm flipV="1">
            <a:off x="5492160" y="4284720"/>
            <a:ext cx="134640" cy="1134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4" name="Line 89"/>
          <p:cNvSpPr/>
          <p:nvPr/>
        </p:nvSpPr>
        <p:spPr>
          <a:xfrm flipV="1">
            <a:off x="5627880" y="3956760"/>
            <a:ext cx="575640" cy="3265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5" name="Line 90"/>
          <p:cNvSpPr/>
          <p:nvPr/>
        </p:nvSpPr>
        <p:spPr>
          <a:xfrm flipV="1">
            <a:off x="6203160" y="3780000"/>
            <a:ext cx="378000" cy="1782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6" name="Line 91"/>
          <p:cNvSpPr/>
          <p:nvPr/>
        </p:nvSpPr>
        <p:spPr>
          <a:xfrm flipV="1">
            <a:off x="6581160" y="3254040"/>
            <a:ext cx="433080" cy="52776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7" name="Line 92"/>
          <p:cNvSpPr/>
          <p:nvPr/>
        </p:nvSpPr>
        <p:spPr>
          <a:xfrm flipV="1">
            <a:off x="7014960" y="3106080"/>
            <a:ext cx="199080" cy="1476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8" name="Line 93"/>
          <p:cNvSpPr/>
          <p:nvPr/>
        </p:nvSpPr>
        <p:spPr>
          <a:xfrm flipV="1">
            <a:off x="7212960" y="2892240"/>
            <a:ext cx="150480" cy="2131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9" name="Line 96"/>
          <p:cNvSpPr/>
          <p:nvPr/>
        </p:nvSpPr>
        <p:spPr>
          <a:xfrm flipV="1">
            <a:off x="7298280" y="3134520"/>
            <a:ext cx="84960" cy="1659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0" name="Line 98"/>
          <p:cNvSpPr/>
          <p:nvPr/>
        </p:nvSpPr>
        <p:spPr>
          <a:xfrm flipV="1">
            <a:off x="5493600" y="4350600"/>
            <a:ext cx="530280" cy="489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1" name="Line 99"/>
          <p:cNvSpPr/>
          <p:nvPr/>
        </p:nvSpPr>
        <p:spPr>
          <a:xfrm flipV="1">
            <a:off x="6023880" y="4158000"/>
            <a:ext cx="669600" cy="19152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2" name="Line 100"/>
          <p:cNvSpPr/>
          <p:nvPr/>
        </p:nvSpPr>
        <p:spPr>
          <a:xfrm flipV="1">
            <a:off x="6694200" y="3955320"/>
            <a:ext cx="207000" cy="20448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3" name="Line 101"/>
          <p:cNvSpPr/>
          <p:nvPr/>
        </p:nvSpPr>
        <p:spPr>
          <a:xfrm flipV="1">
            <a:off x="6901560" y="3737880"/>
            <a:ext cx="150840" cy="21492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4" name="Line 102"/>
          <p:cNvSpPr/>
          <p:nvPr/>
        </p:nvSpPr>
        <p:spPr>
          <a:xfrm flipV="1">
            <a:off x="7051320" y="3299760"/>
            <a:ext cx="246600" cy="43920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5" name="Line 106"/>
          <p:cNvSpPr/>
          <p:nvPr/>
        </p:nvSpPr>
        <p:spPr>
          <a:xfrm flipV="1">
            <a:off x="5492880" y="4303800"/>
            <a:ext cx="247320" cy="950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6" name="Line 107"/>
          <p:cNvSpPr/>
          <p:nvPr/>
        </p:nvSpPr>
        <p:spPr>
          <a:xfrm flipV="1">
            <a:off x="5739480" y="4189680"/>
            <a:ext cx="425520" cy="1123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7" name="Line 108"/>
          <p:cNvSpPr/>
          <p:nvPr/>
        </p:nvSpPr>
        <p:spPr>
          <a:xfrm flipV="1">
            <a:off x="6165000" y="4015440"/>
            <a:ext cx="377640" cy="17640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8" name="Line 109"/>
          <p:cNvSpPr/>
          <p:nvPr/>
        </p:nvSpPr>
        <p:spPr>
          <a:xfrm flipV="1">
            <a:off x="6543000" y="3916440"/>
            <a:ext cx="131400" cy="979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9" name="Line 110"/>
          <p:cNvSpPr/>
          <p:nvPr/>
        </p:nvSpPr>
        <p:spPr>
          <a:xfrm flipV="1">
            <a:off x="6674760" y="3445560"/>
            <a:ext cx="425160" cy="4701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0" name="Line 111"/>
          <p:cNvSpPr/>
          <p:nvPr/>
        </p:nvSpPr>
        <p:spPr>
          <a:xfrm flipV="1">
            <a:off x="7099560" y="3280680"/>
            <a:ext cx="85320" cy="1663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1" name="Line 112"/>
          <p:cNvSpPr/>
          <p:nvPr/>
        </p:nvSpPr>
        <p:spPr>
          <a:xfrm flipV="1">
            <a:off x="7184160" y="3123360"/>
            <a:ext cx="141480" cy="1569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2" name="AutoShape 117"/>
          <p:cNvSpPr/>
          <p:nvPr/>
        </p:nvSpPr>
        <p:spPr>
          <a:xfrm flipH="1" flipV="1">
            <a:off x="3580560" y="1721880"/>
            <a:ext cx="685800" cy="1344600"/>
          </a:xfrm>
          <a:custGeom>
            <a:avLst/>
            <a:gdLst>
              <a:gd name="textAreaLeft" fmla="*/ 394560 w 685800"/>
              <a:gd name="textAreaRight" fmla="*/ 586440 w 685800"/>
              <a:gd name="textAreaTop" fmla="*/ 248760 h 1344600"/>
              <a:gd name="textAreaBottom" fmla="*/ 50724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003"/>
                </a:lnTo>
                <a:cubicBezTo>
                  <a:pt x="5564" y="4003"/>
                  <a:pt x="0" y="7654"/>
                  <a:pt x="0" y="12158"/>
                </a:cubicBezTo>
                <a:lnTo>
                  <a:pt x="0" y="21600"/>
                </a:lnTo>
                <a:lnTo>
                  <a:pt x="4244" y="21600"/>
                </a:lnTo>
                <a:lnTo>
                  <a:pt x="4244" y="12158"/>
                </a:lnTo>
                <a:cubicBezTo>
                  <a:pt x="4244" y="9947"/>
                  <a:pt x="7908" y="8155"/>
                  <a:pt x="12427" y="8155"/>
                </a:cubicBezTo>
                <a:lnTo>
                  <a:pt x="12427" y="12158"/>
                </a:lnTo>
                <a:close/>
              </a:path>
            </a:pathLst>
          </a:custGeom>
          <a:gradFill rotWithShape="0">
            <a:gsLst>
              <a:gs pos="0">
                <a:srgbClr val="00354e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3" name="AutoShape 118"/>
          <p:cNvSpPr/>
          <p:nvPr/>
        </p:nvSpPr>
        <p:spPr>
          <a:xfrm>
            <a:off x="4495680" y="3987720"/>
            <a:ext cx="685800" cy="1344600"/>
          </a:xfrm>
          <a:custGeom>
            <a:avLst/>
            <a:gdLst>
              <a:gd name="textAreaLeft" fmla="*/ 394560 w 685800"/>
              <a:gd name="textAreaRight" fmla="*/ 586440 w 685800"/>
              <a:gd name="textAreaTop" fmla="*/ 249120 h 1344600"/>
              <a:gd name="textAreaBottom" fmla="*/ 50760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003"/>
                </a:lnTo>
                <a:cubicBezTo>
                  <a:pt x="5564" y="4003"/>
                  <a:pt x="0" y="7654"/>
                  <a:pt x="0" y="12158"/>
                </a:cubicBezTo>
                <a:lnTo>
                  <a:pt x="0" y="21600"/>
                </a:lnTo>
                <a:lnTo>
                  <a:pt x="4244" y="21600"/>
                </a:lnTo>
                <a:lnTo>
                  <a:pt x="4244" y="12158"/>
                </a:lnTo>
                <a:cubicBezTo>
                  <a:pt x="4244" y="9947"/>
                  <a:pt x="7908" y="8155"/>
                  <a:pt x="12427" y="8155"/>
                </a:cubicBezTo>
                <a:lnTo>
                  <a:pt x="12427" y="1215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0035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4" name="Line 119"/>
          <p:cNvSpPr/>
          <p:nvPr/>
        </p:nvSpPr>
        <p:spPr>
          <a:xfrm>
            <a:off x="7548480" y="2743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5" name="Line 120"/>
          <p:cNvSpPr/>
          <p:nvPr/>
        </p:nvSpPr>
        <p:spPr>
          <a:xfrm>
            <a:off x="7369200" y="3129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6" name="Line 121"/>
          <p:cNvSpPr/>
          <p:nvPr/>
        </p:nvSpPr>
        <p:spPr>
          <a:xfrm flipV="1">
            <a:off x="7391520" y="2952720"/>
            <a:ext cx="131760" cy="1713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7" name="Line 122"/>
          <p:cNvSpPr/>
          <p:nvPr/>
        </p:nvSpPr>
        <p:spPr>
          <a:xfrm flipV="1">
            <a:off x="7523280" y="2881440"/>
            <a:ext cx="188640" cy="7128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8" name="Line 123"/>
          <p:cNvSpPr/>
          <p:nvPr/>
        </p:nvSpPr>
        <p:spPr>
          <a:xfrm>
            <a:off x="7711920" y="2881440"/>
            <a:ext cx="60480" cy="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9" name="Line 124"/>
          <p:cNvSpPr/>
          <p:nvPr/>
        </p:nvSpPr>
        <p:spPr>
          <a:xfrm>
            <a:off x="7345440" y="3116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0" name="Line 125"/>
          <p:cNvSpPr/>
          <p:nvPr/>
        </p:nvSpPr>
        <p:spPr>
          <a:xfrm>
            <a:off x="7311960" y="3116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1" name="Line 126"/>
          <p:cNvSpPr/>
          <p:nvPr/>
        </p:nvSpPr>
        <p:spPr>
          <a:xfrm flipV="1">
            <a:off x="7315200" y="2971800"/>
            <a:ext cx="71280" cy="1713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2" name="Line 127"/>
          <p:cNvSpPr/>
          <p:nvPr/>
        </p:nvSpPr>
        <p:spPr>
          <a:xfrm flipV="1">
            <a:off x="7391520" y="2881080"/>
            <a:ext cx="131760" cy="824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3" name="Line 128"/>
          <p:cNvSpPr/>
          <p:nvPr/>
        </p:nvSpPr>
        <p:spPr>
          <a:xfrm flipV="1">
            <a:off x="7548480" y="2849040"/>
            <a:ext cx="223920" cy="320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4" name="Line 129"/>
          <p:cNvSpPr/>
          <p:nvPr/>
        </p:nvSpPr>
        <p:spPr>
          <a:xfrm flipV="1">
            <a:off x="7369200" y="2790720"/>
            <a:ext cx="342720" cy="907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5" name="Line 130"/>
          <p:cNvSpPr/>
          <p:nvPr/>
        </p:nvSpPr>
        <p:spPr>
          <a:xfrm>
            <a:off x="7711920" y="2790720"/>
            <a:ext cx="60480" cy="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6" name="Line 86"/>
          <p:cNvSpPr/>
          <p:nvPr/>
        </p:nvSpPr>
        <p:spPr>
          <a:xfrm flipV="1">
            <a:off x="5451480" y="2771280"/>
            <a:ext cx="1965240" cy="16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ACE1-A404-4F80-A5FD-A3CD15F48CB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599" name="Picture 1030" descr="Confetes pequenos"/>
          <p:cNvPicPr/>
          <p:nvPr/>
        </p:nvPicPr>
        <p:blipFill>
          <a:blip r:embed="rId1"/>
          <a:stretch/>
        </p:blipFill>
        <p:spPr>
          <a:xfrm>
            <a:off x="533520" y="2590920"/>
            <a:ext cx="2908080" cy="2962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1" name="Text Box 1036"/>
          <p:cNvSpPr/>
          <p:nvPr/>
        </p:nvSpPr>
        <p:spPr>
          <a:xfrm>
            <a:off x="468360" y="516240"/>
            <a:ext cx="821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xemplo abaixo refere-se  a crimes juvenis na região de Cardiff, UK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Herbert, 1980). Neste caso percebe-se a posição dos envelopes 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a distribuição acima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, o que caracteriza agrupament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a as distâncias em anális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2" name="Text Box 1037"/>
          <p:cNvSpPr/>
          <p:nvPr/>
        </p:nvSpPr>
        <p:spPr>
          <a:xfrm>
            <a:off x="1066680" y="58665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tância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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mín.=0.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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máx.=16   #intervalos=10   #simulações=1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03" name="Group 1040"/>
          <p:cNvGrpSpPr/>
          <p:nvPr/>
        </p:nvGrpSpPr>
        <p:grpSpPr>
          <a:xfrm>
            <a:off x="4060800" y="2286000"/>
            <a:ext cx="4321080" cy="3436920"/>
            <a:chOff x="4060800" y="2286000"/>
            <a:chExt cx="4321080" cy="3436920"/>
          </a:xfrm>
        </p:grpSpPr>
        <p:pic>
          <p:nvPicPr>
            <p:cNvPr id="1604" name="Picture 1038" descr="Confetes pequenos"/>
            <p:cNvPicPr/>
            <p:nvPr/>
          </p:nvPicPr>
          <p:blipFill>
            <a:blip r:embed="rId2"/>
            <a:stretch/>
          </p:blipFill>
          <p:spPr>
            <a:xfrm>
              <a:off x="4060800" y="2286000"/>
              <a:ext cx="4321080" cy="34369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6699"/>
              </a:outerShdw>
            </a:effectLst>
          </p:spPr>
        </p:pic>
        <p:pic>
          <p:nvPicPr>
            <p:cNvPr id="1605" name="Picture 1039" descr="Confetes pequenos"/>
            <p:cNvPicPr/>
            <p:nvPr/>
          </p:nvPicPr>
          <p:blipFill>
            <a:blip r:embed="rId3"/>
            <a:stretch/>
          </p:blipFill>
          <p:spPr>
            <a:xfrm>
              <a:off x="4076280" y="5472000"/>
              <a:ext cx="2117520" cy="20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6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8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3059-1940-48F8-B454-3FBE087C558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0" name="Rectangle 31"/>
          <p:cNvSpPr/>
          <p:nvPr/>
        </p:nvSpPr>
        <p:spPr>
          <a:xfrm>
            <a:off x="210960" y="1219320"/>
            <a:ext cx="4635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1" name="Rectangle 32"/>
          <p:cNvSpPr/>
          <p:nvPr/>
        </p:nvSpPr>
        <p:spPr>
          <a:xfrm>
            <a:off x="210960" y="1143000"/>
            <a:ext cx="8552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 contrário do método do vizinho mais próximo, a função K considera escalas maiores para análise de padrões pontuai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função K se aplica a processos isotrópicos, isto é, supõe-se uma região de estudo homogene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ção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Bailey e Gatrel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ventos / área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(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operador esperanç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2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60F3-2E91-4276-A528-5F69F302E63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615" name="Object 2"/>
          <p:cNvGraphicFramePr/>
          <p:nvPr/>
        </p:nvGraphicFramePr>
        <p:xfrm>
          <a:off x="506520" y="1600200"/>
          <a:ext cx="496728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600200"/>
                    <a:ext cx="4967280" cy="4545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cc00"/>
                    </a:outerShdw>
                  </a:effectLst>
                </p:spPr>
              </p:pic>
            </p:oleObj>
          </a:graphicData>
        </a:graphic>
      </p:graphicFrame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15228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619" name="Object 3"/>
          <p:cNvGraphicFramePr/>
          <p:nvPr/>
        </p:nvGraphicFramePr>
        <p:xfrm>
          <a:off x="3181320" y="2038320"/>
          <a:ext cx="278136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1320" y="2038320"/>
                    <a:ext cx="27813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1" name="Text Box 39"/>
          <p:cNvSpPr/>
          <p:nvPr/>
        </p:nvSpPr>
        <p:spPr>
          <a:xfrm>
            <a:off x="5675400" y="3732480"/>
            <a:ext cx="311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pt-BR" sz="2400" spc="-1" strike="noStrike" u="sng" baseline="30000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ventos/R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 = área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2" name="Text Box 44"/>
          <p:cNvSpPr/>
          <p:nvPr/>
        </p:nvSpPr>
        <p:spPr>
          <a:xfrm>
            <a:off x="4917600" y="175176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3" name="Text Box 47"/>
          <p:cNvSpPr/>
          <p:nvPr/>
        </p:nvSpPr>
        <p:spPr>
          <a:xfrm>
            <a:off x="5345640" y="2834280"/>
            <a:ext cx="3772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nominado de intensidad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4" name="Text Box 48"/>
          <p:cNvSpPr/>
          <p:nvPr/>
        </p:nvSpPr>
        <p:spPr>
          <a:xfrm>
            <a:off x="5907240" y="23929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ahoma"/>
              </a:rPr>
              <a:t>Lembrando que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5" name="Text Box 49"/>
          <p:cNvSpPr/>
          <p:nvPr/>
        </p:nvSpPr>
        <p:spPr>
          <a:xfrm>
            <a:off x="2298600" y="19803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# eventos = 7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6" name="Text Box 50"/>
          <p:cNvSpPr/>
          <p:nvPr/>
        </p:nvSpPr>
        <p:spPr>
          <a:xfrm>
            <a:off x="3781080" y="412848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# eventos = 3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7" name="Text Box 51"/>
          <p:cNvSpPr/>
          <p:nvPr/>
        </p:nvSpPr>
        <p:spPr>
          <a:xfrm>
            <a:off x="388080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8" name="Text Box 52"/>
          <p:cNvSpPr/>
          <p:nvPr/>
        </p:nvSpPr>
        <p:spPr>
          <a:xfrm>
            <a:off x="2052000" y="2208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9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A061-FB8E-409F-9986-EEC967717B2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3" name="Rectangle 3"/>
          <p:cNvSpPr/>
          <p:nvPr/>
        </p:nvSpPr>
        <p:spPr>
          <a:xfrm>
            <a:off x="76320" y="914400"/>
            <a:ext cx="8991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agora, definir um estimador para a função k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 =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onde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 a distância entre os eventos i e j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s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&lt;=h,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 s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&gt; h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n = # eventos em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and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 estimador de lambda            ,  então: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4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5" name="Rectangle 9"/>
          <p:cNvSpPr/>
          <p:nvPr/>
        </p:nvSpPr>
        <p:spPr>
          <a:xfrm>
            <a:off x="5791320" y="5181480"/>
            <a:ext cx="3047760" cy="990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6" name="Line 10"/>
          <p:cNvSpPr/>
          <p:nvPr/>
        </p:nvSpPr>
        <p:spPr>
          <a:xfrm>
            <a:off x="7162920" y="1143000"/>
            <a:ext cx="1447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7" name="Line 11"/>
          <p:cNvSpPr/>
          <p:nvPr/>
        </p:nvSpPr>
        <p:spPr>
          <a:xfrm>
            <a:off x="8610480" y="1143000"/>
            <a:ext cx="0" cy="3809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8" name="Object 7"/>
              <p:cNvSpPr txBox="1"/>
              <p:nvPr/>
            </p:nvSpPr>
            <p:spPr>
              <a:xfrm>
                <a:off x="1571760" y="2276640"/>
                <a:ext cx="17697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Object 8"/>
              <p:cNvSpPr txBox="1"/>
              <p:nvPr/>
            </p:nvSpPr>
            <p:spPr>
              <a:xfrm>
                <a:off x="2000160" y="4000680"/>
                <a:ext cx="292104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Object 9"/>
              <p:cNvSpPr txBox="1"/>
              <p:nvPr/>
            </p:nvSpPr>
            <p:spPr>
              <a:xfrm>
                <a:off x="3182760" y="5214960"/>
                <a:ext cx="817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Object 10"/>
              <p:cNvSpPr txBox="1"/>
              <p:nvPr/>
            </p:nvSpPr>
            <p:spPr>
              <a:xfrm>
                <a:off x="5938920" y="5214960"/>
                <a:ext cx="2747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42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F286-03B2-4663-B53C-7E32B42EBF9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6" name="Rectangle 3"/>
          <p:cNvSpPr/>
          <p:nvPr/>
        </p:nvSpPr>
        <p:spPr>
          <a:xfrm>
            <a:off x="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7" name="Text Box 10"/>
          <p:cNvSpPr/>
          <p:nvPr/>
        </p:nvSpPr>
        <p:spPr>
          <a:xfrm>
            <a:off x="-119880" y="900720"/>
            <a:ext cx="55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idéia prática do estimador da função K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8" name="AutoShape 13"/>
          <p:cNvSpPr/>
          <p:nvPr/>
        </p:nvSpPr>
        <p:spPr>
          <a:xfrm flipV="1">
            <a:off x="2209680" y="2819520"/>
            <a:ext cx="1143000" cy="1828800"/>
          </a:xfrm>
          <a:custGeom>
            <a:avLst/>
            <a:gdLst>
              <a:gd name="textAreaLeft" fmla="*/ 657720 w 1143000"/>
              <a:gd name="textAreaRight" fmla="*/ 964800 w 1143000"/>
              <a:gd name="textAreaTop" fmla="*/ 246240 h 1828800"/>
              <a:gd name="textAreaBottom" fmla="*/ 7826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49" name="Group 22"/>
          <p:cNvGrpSpPr/>
          <p:nvPr/>
        </p:nvGrpSpPr>
        <p:grpSpPr>
          <a:xfrm>
            <a:off x="4121280" y="1676520"/>
            <a:ext cx="4020840" cy="4647960"/>
            <a:chOff x="4121280" y="1676520"/>
            <a:chExt cx="4020840" cy="4647960"/>
          </a:xfrm>
        </p:grpSpPr>
        <mc:AlternateContent>
          <mc:Choice xmlns:a14="http://schemas.microsoft.com/office/drawing/2010/main" Requires="a14">
            <p:sp>
              <p:nvSpPr>
                <p:cNvPr id="1650" name="Object 3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1651" name="Object 4"/>
            <p:cNvGraphicFramePr/>
            <p:nvPr/>
          </p:nvGraphicFramePr>
          <p:xfrm>
            <a:off x="4121280" y="1676520"/>
            <a:ext cx="4020840" cy="464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1280" y="1676520"/>
                      <a:ext cx="4020840" cy="46479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ffcc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653" name="Text Box 15"/>
            <p:cNvSpPr/>
            <p:nvPr/>
          </p:nvSpPr>
          <p:spPr>
            <a:xfrm>
              <a:off x="7613640" y="18136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4" name="Text Box 16"/>
            <p:cNvSpPr/>
            <p:nvPr/>
          </p:nvSpPr>
          <p:spPr>
            <a:xfrm>
              <a:off x="7391520" y="409788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5" name="Text Box 17"/>
            <p:cNvSpPr/>
            <p:nvPr/>
          </p:nvSpPr>
          <p:spPr>
            <a:xfrm>
              <a:off x="6097320" y="3504240"/>
              <a:ext cx="62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6" name="Text Box 18"/>
            <p:cNvSpPr/>
            <p:nvPr/>
          </p:nvSpPr>
          <p:spPr>
            <a:xfrm>
              <a:off x="5737320" y="207108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7" name="Text Box 19"/>
            <p:cNvSpPr/>
            <p:nvPr/>
          </p:nvSpPr>
          <p:spPr>
            <a:xfrm>
              <a:off x="5869080" y="243792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7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8" name="Text Box 20"/>
            <p:cNvSpPr/>
            <p:nvPr/>
          </p:nvSpPr>
          <p:spPr>
            <a:xfrm>
              <a:off x="5869080" y="332064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7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9" name="Text Box 21"/>
            <p:cNvSpPr/>
            <p:nvPr/>
          </p:nvSpPr>
          <p:spPr>
            <a:xfrm>
              <a:off x="6958080" y="388584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3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0" name="Object 5"/>
              <p:cNvSpPr txBox="1"/>
              <p:nvPr/>
            </p:nvSpPr>
            <p:spPr>
              <a:xfrm>
                <a:off x="604800" y="1639800"/>
                <a:ext cx="2747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61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63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49E8-E85B-4B3E-B2AF-98BB06346CA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64" name="Rectangle 1033"/>
          <p:cNvSpPr/>
          <p:nvPr/>
        </p:nvSpPr>
        <p:spPr>
          <a:xfrm>
            <a:off x="2514600" y="1752480"/>
            <a:ext cx="4267080" cy="2210040"/>
          </a:xfrm>
          <a:prstGeom prst="rect">
            <a:avLst/>
          </a:prstGeom>
          <a:solidFill>
            <a:srgbClr val="ffcc66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65" name="Group 1046"/>
          <p:cNvGrpSpPr/>
          <p:nvPr/>
        </p:nvGrpSpPr>
        <p:grpSpPr>
          <a:xfrm>
            <a:off x="5786280" y="2971800"/>
            <a:ext cx="914400" cy="900000"/>
            <a:chOff x="5786280" y="2971800"/>
            <a:chExt cx="914400" cy="900000"/>
          </a:xfrm>
        </p:grpSpPr>
        <p:sp>
          <p:nvSpPr>
            <p:cNvPr id="1666" name="Oval 1047"/>
            <p:cNvSpPr/>
            <p:nvPr/>
          </p:nvSpPr>
          <p:spPr>
            <a:xfrm>
              <a:off x="5786280" y="2971800"/>
              <a:ext cx="914400" cy="900000"/>
            </a:xfrm>
            <a:prstGeom prst="ellipse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67" name="Oval 1048"/>
            <p:cNvSpPr/>
            <p:nvPr/>
          </p:nvSpPr>
          <p:spPr>
            <a:xfrm>
              <a:off x="6205320" y="3382920"/>
              <a:ext cx="76320" cy="75960"/>
            </a:xfrm>
            <a:prstGeom prst="ellipse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9" name="Rectangle 1028"/>
          <p:cNvSpPr/>
          <p:nvPr/>
        </p:nvSpPr>
        <p:spPr>
          <a:xfrm>
            <a:off x="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0" name="Text Box 1029"/>
          <p:cNvSpPr/>
          <p:nvPr/>
        </p:nvSpPr>
        <p:spPr>
          <a:xfrm>
            <a:off x="76320" y="761040"/>
            <a:ext cx="855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ara u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 processo aleatório o </a:t>
            </a:r>
            <a:r>
              <a:rPr b="0" i="1" lang="pt-BR" sz="2000" spc="-1" strike="noStrike">
                <a:solidFill>
                  <a:srgbClr val="ffff66"/>
                </a:solidFill>
                <a:latin typeface="Tahoma"/>
              </a:rPr>
              <a:t># esperado de eventos a uma distância h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0" lang="pt-BR" sz="2000" spc="-1" strike="noStrike">
                <a:solidFill>
                  <a:srgbClr val="ccffcc"/>
                </a:solidFill>
                <a:latin typeface="Tahoma"/>
              </a:rPr>
              <a:t>UM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cc"/>
                </a:solidFill>
                <a:latin typeface="Tahoma"/>
              </a:rPr>
              <a:t>evento escolhido aleatoriament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é </a:t>
            </a:r>
            <a:r>
              <a:rPr b="0" i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k(h)=</a:t>
            </a:r>
            <a:r>
              <a:rPr b="0" i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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 baseline="6000">
                <a:solidFill>
                  <a:srgbClr val="ffffff"/>
                </a:solidFill>
                <a:latin typeface="Tahoma"/>
              </a:rPr>
              <a:t>(</a:t>
            </a:r>
            <a:r>
              <a:rPr b="0" lang="pt-BR" sz="2000" spc="-1" strike="noStrike" baseline="6000">
                <a:solidFill>
                  <a:srgbClr val="ffffff"/>
                </a:solidFill>
                <a:latin typeface="Times New Roman"/>
              </a:rPr>
              <a:t>Bailey e Gatrell, 1995)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1" name="Rectangle 1034"/>
          <p:cNvSpPr/>
          <p:nvPr/>
        </p:nvSpPr>
        <p:spPr>
          <a:xfrm>
            <a:off x="154440" y="20710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Processo aleatóri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2" name="AutoShape 1036"/>
          <p:cNvSpPr/>
          <p:nvPr/>
        </p:nvSpPr>
        <p:spPr>
          <a:xfrm flipV="1">
            <a:off x="1066680" y="2514600"/>
            <a:ext cx="685800" cy="990720"/>
          </a:xfrm>
          <a:custGeom>
            <a:avLst/>
            <a:gdLst>
              <a:gd name="textAreaLeft" fmla="*/ 394560 w 685800"/>
              <a:gd name="textAreaRight" fmla="*/ 578880 w 685800"/>
              <a:gd name="textAreaTop" fmla="*/ 133920 h 990720"/>
              <a:gd name="textAreaBottom" fmla="*/ 42444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73" name="Group 1039"/>
          <p:cNvGrpSpPr/>
          <p:nvPr/>
        </p:nvGrpSpPr>
        <p:grpSpPr>
          <a:xfrm>
            <a:off x="2819520" y="2071800"/>
            <a:ext cx="914400" cy="900000"/>
            <a:chOff x="2819520" y="2071800"/>
            <a:chExt cx="914400" cy="900000"/>
          </a:xfrm>
        </p:grpSpPr>
        <p:sp>
          <p:nvSpPr>
            <p:cNvPr id="1674" name="Oval 1037"/>
            <p:cNvSpPr/>
            <p:nvPr/>
          </p:nvSpPr>
          <p:spPr>
            <a:xfrm>
              <a:off x="2819520" y="2071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75" name="Oval 1038"/>
            <p:cNvSpPr/>
            <p:nvPr/>
          </p:nvSpPr>
          <p:spPr>
            <a:xfrm>
              <a:off x="3238560" y="2482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76" name="Group 1040"/>
          <p:cNvGrpSpPr/>
          <p:nvPr/>
        </p:nvGrpSpPr>
        <p:grpSpPr>
          <a:xfrm>
            <a:off x="3581280" y="2711520"/>
            <a:ext cx="914400" cy="900000"/>
            <a:chOff x="3581280" y="2711520"/>
            <a:chExt cx="914400" cy="900000"/>
          </a:xfrm>
        </p:grpSpPr>
        <p:sp>
          <p:nvSpPr>
            <p:cNvPr id="1677" name="Oval 1041"/>
            <p:cNvSpPr/>
            <p:nvPr/>
          </p:nvSpPr>
          <p:spPr>
            <a:xfrm>
              <a:off x="3581280" y="271152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78" name="Oval 1042"/>
            <p:cNvSpPr/>
            <p:nvPr/>
          </p:nvSpPr>
          <p:spPr>
            <a:xfrm>
              <a:off x="4000320" y="312264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79" name="Group 1043"/>
          <p:cNvGrpSpPr/>
          <p:nvPr/>
        </p:nvGrpSpPr>
        <p:grpSpPr>
          <a:xfrm>
            <a:off x="3581280" y="1905120"/>
            <a:ext cx="914400" cy="900000"/>
            <a:chOff x="3581280" y="1905120"/>
            <a:chExt cx="914400" cy="900000"/>
          </a:xfrm>
        </p:grpSpPr>
        <p:sp>
          <p:nvSpPr>
            <p:cNvPr id="1680" name="Oval 1044"/>
            <p:cNvSpPr/>
            <p:nvPr/>
          </p:nvSpPr>
          <p:spPr>
            <a:xfrm>
              <a:off x="3581280" y="190512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1" name="Oval 1045"/>
            <p:cNvSpPr/>
            <p:nvPr/>
          </p:nvSpPr>
          <p:spPr>
            <a:xfrm>
              <a:off x="4000320" y="231624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82" name="Group 1049"/>
          <p:cNvGrpSpPr/>
          <p:nvPr/>
        </p:nvGrpSpPr>
        <p:grpSpPr>
          <a:xfrm>
            <a:off x="5029200" y="1828800"/>
            <a:ext cx="914400" cy="900000"/>
            <a:chOff x="5029200" y="1828800"/>
            <a:chExt cx="914400" cy="900000"/>
          </a:xfrm>
        </p:grpSpPr>
        <p:sp>
          <p:nvSpPr>
            <p:cNvPr id="1683" name="Oval 1050"/>
            <p:cNvSpPr/>
            <p:nvPr/>
          </p:nvSpPr>
          <p:spPr>
            <a:xfrm>
              <a:off x="5029200" y="1828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4" name="Oval 1051"/>
            <p:cNvSpPr/>
            <p:nvPr/>
          </p:nvSpPr>
          <p:spPr>
            <a:xfrm>
              <a:off x="5448240" y="2239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85" name="Group 1052"/>
          <p:cNvGrpSpPr/>
          <p:nvPr/>
        </p:nvGrpSpPr>
        <p:grpSpPr>
          <a:xfrm>
            <a:off x="4610160" y="2863800"/>
            <a:ext cx="914400" cy="900000"/>
            <a:chOff x="4610160" y="2863800"/>
            <a:chExt cx="914400" cy="900000"/>
          </a:xfrm>
        </p:grpSpPr>
        <p:sp>
          <p:nvSpPr>
            <p:cNvPr id="1686" name="Oval 1053"/>
            <p:cNvSpPr/>
            <p:nvPr/>
          </p:nvSpPr>
          <p:spPr>
            <a:xfrm>
              <a:off x="4610160" y="2863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7" name="Oval 1054"/>
            <p:cNvSpPr/>
            <p:nvPr/>
          </p:nvSpPr>
          <p:spPr>
            <a:xfrm>
              <a:off x="5029200" y="3274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688" name="Oval 1055"/>
          <p:cNvSpPr/>
          <p:nvPr/>
        </p:nvSpPr>
        <p:spPr>
          <a:xfrm>
            <a:off x="5257800" y="35352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89" name="Oval 1056"/>
          <p:cNvSpPr/>
          <p:nvPr/>
        </p:nvSpPr>
        <p:spPr>
          <a:xfrm>
            <a:off x="2971800" y="27115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0" name="Oval 1057"/>
          <p:cNvSpPr/>
          <p:nvPr/>
        </p:nvSpPr>
        <p:spPr>
          <a:xfrm>
            <a:off x="3200400" y="19177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1" name="Oval 1058"/>
          <p:cNvSpPr/>
          <p:nvPr/>
        </p:nvSpPr>
        <p:spPr>
          <a:xfrm>
            <a:off x="4686480" y="2558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2" name="Oval 1059"/>
          <p:cNvSpPr/>
          <p:nvPr/>
        </p:nvSpPr>
        <p:spPr>
          <a:xfrm>
            <a:off x="3733920" y="33829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3" name="Oval 1060"/>
          <p:cNvSpPr/>
          <p:nvPr/>
        </p:nvSpPr>
        <p:spPr>
          <a:xfrm>
            <a:off x="4876920" y="22399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4" name="Oval 1061"/>
          <p:cNvSpPr/>
          <p:nvPr/>
        </p:nvSpPr>
        <p:spPr>
          <a:xfrm>
            <a:off x="6129360" y="30463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5" name="Oval 1062"/>
          <p:cNvSpPr/>
          <p:nvPr/>
        </p:nvSpPr>
        <p:spPr>
          <a:xfrm>
            <a:off x="2743200" y="28051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6" name="Oval 1063"/>
          <p:cNvSpPr/>
          <p:nvPr/>
        </p:nvSpPr>
        <p:spPr>
          <a:xfrm>
            <a:off x="6053040" y="37638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7" name="Oval 1064"/>
          <p:cNvSpPr/>
          <p:nvPr/>
        </p:nvSpPr>
        <p:spPr>
          <a:xfrm>
            <a:off x="4076640" y="19954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8" name="Oval 1065"/>
          <p:cNvSpPr/>
          <p:nvPr/>
        </p:nvSpPr>
        <p:spPr>
          <a:xfrm>
            <a:off x="3657600" y="24382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9" name="Oval 1066"/>
          <p:cNvSpPr/>
          <p:nvPr/>
        </p:nvSpPr>
        <p:spPr>
          <a:xfrm>
            <a:off x="3048120" y="21636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0" name="Oval 1067"/>
          <p:cNvSpPr/>
          <p:nvPr/>
        </p:nvSpPr>
        <p:spPr>
          <a:xfrm>
            <a:off x="4000680" y="28638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1" name="Oval 1068"/>
          <p:cNvSpPr/>
          <p:nvPr/>
        </p:nvSpPr>
        <p:spPr>
          <a:xfrm>
            <a:off x="5710320" y="2970360"/>
            <a:ext cx="7596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2" name="Oval 1069"/>
          <p:cNvSpPr/>
          <p:nvPr/>
        </p:nvSpPr>
        <p:spPr>
          <a:xfrm>
            <a:off x="4610160" y="28954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3" name="Oval 1070"/>
          <p:cNvSpPr/>
          <p:nvPr/>
        </p:nvSpPr>
        <p:spPr>
          <a:xfrm>
            <a:off x="6281640" y="23623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4" name="Oval 1071"/>
          <p:cNvSpPr/>
          <p:nvPr/>
        </p:nvSpPr>
        <p:spPr>
          <a:xfrm>
            <a:off x="4343400" y="36878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5" name="Oval 1072"/>
          <p:cNvSpPr/>
          <p:nvPr/>
        </p:nvSpPr>
        <p:spPr>
          <a:xfrm>
            <a:off x="4419720" y="22860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6" name="Oval 1073"/>
          <p:cNvSpPr/>
          <p:nvPr/>
        </p:nvSpPr>
        <p:spPr>
          <a:xfrm>
            <a:off x="5634000" y="19940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7" name="Oval 1074"/>
          <p:cNvSpPr/>
          <p:nvPr/>
        </p:nvSpPr>
        <p:spPr>
          <a:xfrm>
            <a:off x="3124080" y="312264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8" name="Oval 1075"/>
          <p:cNvSpPr/>
          <p:nvPr/>
        </p:nvSpPr>
        <p:spPr>
          <a:xfrm>
            <a:off x="2971800" y="35352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9" name="Oval 1076"/>
          <p:cNvSpPr/>
          <p:nvPr/>
        </p:nvSpPr>
        <p:spPr>
          <a:xfrm>
            <a:off x="4686480" y="34290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0" name="Oval 1077"/>
          <p:cNvSpPr/>
          <p:nvPr/>
        </p:nvSpPr>
        <p:spPr>
          <a:xfrm>
            <a:off x="5029200" y="30463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1" name="Oval 1078"/>
          <p:cNvSpPr/>
          <p:nvPr/>
        </p:nvSpPr>
        <p:spPr>
          <a:xfrm>
            <a:off x="3352680" y="27288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2" name="Oval 1079"/>
          <p:cNvSpPr/>
          <p:nvPr/>
        </p:nvSpPr>
        <p:spPr>
          <a:xfrm>
            <a:off x="6624720" y="19177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3" name="Line 1080"/>
          <p:cNvSpPr/>
          <p:nvPr/>
        </p:nvSpPr>
        <p:spPr>
          <a:xfrm>
            <a:off x="5524560" y="2286000"/>
            <a:ext cx="419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4" name="Text Box 1081"/>
          <p:cNvSpPr/>
          <p:nvPr/>
        </p:nvSpPr>
        <p:spPr>
          <a:xfrm>
            <a:off x="4122720" y="206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5" name="Text Box 1082"/>
          <p:cNvSpPr/>
          <p:nvPr/>
        </p:nvSpPr>
        <p:spPr>
          <a:xfrm>
            <a:off x="2973240" y="2285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6" name="Text Box 1083"/>
          <p:cNvSpPr/>
          <p:nvPr/>
        </p:nvSpPr>
        <p:spPr>
          <a:xfrm>
            <a:off x="468792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7" name="Text Box 1084"/>
          <p:cNvSpPr/>
          <p:nvPr/>
        </p:nvSpPr>
        <p:spPr>
          <a:xfrm>
            <a:off x="6327720" y="3168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8" name="Text Box 1085"/>
          <p:cNvSpPr/>
          <p:nvPr/>
        </p:nvSpPr>
        <p:spPr>
          <a:xfrm>
            <a:off x="5526000" y="220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9" name="Line 1086"/>
          <p:cNvSpPr/>
          <p:nvPr/>
        </p:nvSpPr>
        <p:spPr>
          <a:xfrm flipV="1">
            <a:off x="6248520" y="304596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0" name="Line 1087"/>
          <p:cNvSpPr/>
          <p:nvPr/>
        </p:nvSpPr>
        <p:spPr>
          <a:xfrm>
            <a:off x="4610160" y="3198960"/>
            <a:ext cx="419040" cy="107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1" name="Line 1088"/>
          <p:cNvSpPr/>
          <p:nvPr/>
        </p:nvSpPr>
        <p:spPr>
          <a:xfrm flipV="1">
            <a:off x="3005280" y="251424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2" name="Line 1089"/>
          <p:cNvSpPr/>
          <p:nvPr/>
        </p:nvSpPr>
        <p:spPr>
          <a:xfrm flipV="1">
            <a:off x="4038480" y="197928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3" name="Freeform 1090"/>
          <p:cNvSpPr/>
          <p:nvPr/>
        </p:nvSpPr>
        <p:spPr>
          <a:xfrm>
            <a:off x="3610080" y="3168720"/>
            <a:ext cx="415800" cy="77760"/>
          </a:xfrm>
          <a:custGeom>
            <a:avLst/>
            <a:gdLst>
              <a:gd name="textAreaLeft" fmla="*/ 0 w 415800"/>
              <a:gd name="textAreaRight" fmla="*/ 416160 w 415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62" h="49">
                <a:moveTo>
                  <a:pt x="0" y="49"/>
                </a:moveTo>
                <a:lnTo>
                  <a:pt x="262" y="0"/>
                </a:ln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4" name="Text Box 1091"/>
          <p:cNvSpPr/>
          <p:nvPr/>
        </p:nvSpPr>
        <p:spPr>
          <a:xfrm>
            <a:off x="361152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5" name="Rectangle 1092"/>
          <p:cNvSpPr/>
          <p:nvPr/>
        </p:nvSpPr>
        <p:spPr>
          <a:xfrm>
            <a:off x="6858720" y="28803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Área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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cxnSp>
        <p:nvCxnSpPr>
          <p:cNvPr id="1726" name="AutoShape 1093"/>
          <p:cNvCxnSpPr>
            <a:stCxn id="1664" idx="3"/>
            <a:endCxn id="1664" idx="3"/>
          </p:cNvCxnSpPr>
          <p:nvPr/>
        </p:nvCxnSpPr>
        <p:spPr>
          <a:xfrm>
            <a:off x="6796080" y="2857680"/>
            <a:ext cx="2160" cy="2160"/>
          </a:xfrm>
          <a:prstGeom prst="bentConnector3">
            <a:avLst>
              <a:gd name="adj1" fmla="val 13500000"/>
            </a:avLst>
          </a:prstGeom>
          <a:ln w="0">
            <a:noFill/>
          </a:ln>
        </p:spPr>
      </p:cxnSp>
      <p:cxnSp>
        <p:nvCxnSpPr>
          <p:cNvPr id="1727" name="AutoShape 1094"/>
          <p:cNvCxnSpPr>
            <a:stCxn id="1664" idx="3"/>
            <a:endCxn id="1664" idx="3"/>
          </p:cNvCxnSpPr>
          <p:nvPr/>
        </p:nvCxnSpPr>
        <p:spPr>
          <a:xfrm>
            <a:off x="6796080" y="2857680"/>
            <a:ext cx="2160" cy="2160"/>
          </a:xfrm>
          <a:prstGeom prst="bentConnector3">
            <a:avLst>
              <a:gd name="adj1" fmla="val 13500000"/>
            </a:avLst>
          </a:prstGeom>
          <a:ln w="0">
            <a:noFill/>
          </a:ln>
        </p:spPr>
      </p:cxnSp>
      <p:sp>
        <p:nvSpPr>
          <p:cNvPr id="1728" name="Line 1095"/>
          <p:cNvSpPr/>
          <p:nvPr/>
        </p:nvSpPr>
        <p:spPr>
          <a:xfrm>
            <a:off x="6519960" y="3611520"/>
            <a:ext cx="871560" cy="0"/>
          </a:xfrm>
          <a:prstGeom prst="line">
            <a:avLst/>
          </a:prstGeom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9" name="Line 1096"/>
          <p:cNvSpPr/>
          <p:nvPr/>
        </p:nvSpPr>
        <p:spPr>
          <a:xfrm flipV="1">
            <a:off x="7391520" y="3278160"/>
            <a:ext cx="0" cy="33336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0" name="Oval 1097"/>
          <p:cNvSpPr/>
          <p:nvPr/>
        </p:nvSpPr>
        <p:spPr>
          <a:xfrm>
            <a:off x="3429000" y="37958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1" name="Oval 1098"/>
          <p:cNvSpPr/>
          <p:nvPr/>
        </p:nvSpPr>
        <p:spPr>
          <a:xfrm>
            <a:off x="5943600" y="34290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2" name="Oval 1099"/>
          <p:cNvSpPr/>
          <p:nvPr/>
        </p:nvSpPr>
        <p:spPr>
          <a:xfrm>
            <a:off x="6129360" y="27115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3" name="Oval 1100"/>
          <p:cNvSpPr/>
          <p:nvPr/>
        </p:nvSpPr>
        <p:spPr>
          <a:xfrm>
            <a:off x="6624720" y="2857680"/>
            <a:ext cx="7596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34" name="Group 1118"/>
          <p:cNvGrpSpPr/>
          <p:nvPr/>
        </p:nvGrpSpPr>
        <p:grpSpPr>
          <a:xfrm>
            <a:off x="2895480" y="4343400"/>
            <a:ext cx="3581280" cy="1904760"/>
            <a:chOff x="2895480" y="4343400"/>
            <a:chExt cx="3581280" cy="1904760"/>
          </a:xfrm>
        </p:grpSpPr>
        <p:sp>
          <p:nvSpPr>
            <p:cNvPr id="1735" name="Rectangle 1119"/>
            <p:cNvSpPr/>
            <p:nvPr/>
          </p:nvSpPr>
          <p:spPr>
            <a:xfrm>
              <a:off x="2895480" y="57150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6" name="Rectangle 1120"/>
            <p:cNvSpPr/>
            <p:nvPr/>
          </p:nvSpPr>
          <p:spPr>
            <a:xfrm>
              <a:off x="2895480" y="52578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7" name="Rectangle 1121"/>
            <p:cNvSpPr/>
            <p:nvPr/>
          </p:nvSpPr>
          <p:spPr>
            <a:xfrm>
              <a:off x="2895480" y="48006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8" name="Rectangle 1122"/>
            <p:cNvSpPr/>
            <p:nvPr/>
          </p:nvSpPr>
          <p:spPr>
            <a:xfrm>
              <a:off x="2895480" y="43434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9" name="Rectangle 1123"/>
            <p:cNvSpPr/>
            <p:nvPr/>
          </p:nvSpPr>
          <p:spPr>
            <a:xfrm>
              <a:off x="2971800" y="4343400"/>
              <a:ext cx="35049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ipo de Processo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K(h)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ndômico                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Ordenação regular     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gregação espacial    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0" name="Line 1124"/>
            <p:cNvSpPr/>
            <p:nvPr/>
          </p:nvSpPr>
          <p:spPr>
            <a:xfrm>
              <a:off x="2895480" y="48006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1" name="Line 1125"/>
            <p:cNvSpPr/>
            <p:nvPr/>
          </p:nvSpPr>
          <p:spPr>
            <a:xfrm>
              <a:off x="2895480" y="52578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2" name="Line 1126"/>
            <p:cNvSpPr/>
            <p:nvPr/>
          </p:nvSpPr>
          <p:spPr>
            <a:xfrm>
              <a:off x="2895480" y="57150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3" name="Line 1127"/>
            <p:cNvSpPr/>
            <p:nvPr/>
          </p:nvSpPr>
          <p:spPr>
            <a:xfrm>
              <a:off x="5410080" y="43434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744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6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458E-94C9-45EE-9503-CCFAF05321D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7" name="Rectangle 3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9" name="Rectangle 32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50" name="Text Box 45"/>
          <p:cNvSpPr/>
          <p:nvPr/>
        </p:nvSpPr>
        <p:spPr>
          <a:xfrm>
            <a:off x="326880" y="665640"/>
            <a:ext cx="866484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vez obtido,           este pode ser plotado e examinado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gráfico da função K não é tão intuitivo quanto a do gráfico do vizinh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ais próximo. Portanto utiliza-se uma função auxiliar L, para facilitar 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terpretação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stimador da função L é:        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51" name="Group 70"/>
          <p:cNvGrpSpPr/>
          <p:nvPr/>
        </p:nvGrpSpPr>
        <p:grpSpPr>
          <a:xfrm>
            <a:off x="2514600" y="3886200"/>
            <a:ext cx="4343400" cy="1905120"/>
            <a:chOff x="2514600" y="3886200"/>
            <a:chExt cx="4343400" cy="1905120"/>
          </a:xfrm>
        </p:grpSpPr>
        <p:sp>
          <p:nvSpPr>
            <p:cNvPr id="1752" name="Rectangle 49"/>
            <p:cNvSpPr/>
            <p:nvPr/>
          </p:nvSpPr>
          <p:spPr>
            <a:xfrm>
              <a:off x="2514600" y="52578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3" name="Rectangle 50"/>
            <p:cNvSpPr/>
            <p:nvPr/>
          </p:nvSpPr>
          <p:spPr>
            <a:xfrm>
              <a:off x="2514600" y="48006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4" name="Rectangle 51"/>
            <p:cNvSpPr/>
            <p:nvPr/>
          </p:nvSpPr>
          <p:spPr>
            <a:xfrm>
              <a:off x="2514600" y="43434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5" name="Rectangle 52"/>
            <p:cNvSpPr/>
            <p:nvPr/>
          </p:nvSpPr>
          <p:spPr>
            <a:xfrm>
              <a:off x="2514600" y="38862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6" name="Rectangle 53"/>
            <p:cNvSpPr/>
            <p:nvPr/>
          </p:nvSpPr>
          <p:spPr>
            <a:xfrm>
              <a:off x="2590920" y="3886200"/>
              <a:ext cx="42670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ipo de Processo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(h)      K(h)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ndômico                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Ordenação regular     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gregação espacial    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7" name="Line 54"/>
            <p:cNvSpPr/>
            <p:nvPr/>
          </p:nvSpPr>
          <p:spPr>
            <a:xfrm>
              <a:off x="2514600" y="43434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8" name="Line 55"/>
            <p:cNvSpPr/>
            <p:nvPr/>
          </p:nvSpPr>
          <p:spPr>
            <a:xfrm>
              <a:off x="2514600" y="48006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9" name="Line 56"/>
            <p:cNvSpPr/>
            <p:nvPr/>
          </p:nvSpPr>
          <p:spPr>
            <a:xfrm>
              <a:off x="2514600" y="52578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60" name="Line 57"/>
            <p:cNvSpPr/>
            <p:nvPr/>
          </p:nvSpPr>
          <p:spPr>
            <a:xfrm>
              <a:off x="5029200" y="38862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61" name="Line 69"/>
            <p:cNvSpPr/>
            <p:nvPr/>
          </p:nvSpPr>
          <p:spPr>
            <a:xfrm>
              <a:off x="5867640" y="38862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2" name="Object 5"/>
              <p:cNvSpPr txBox="1"/>
              <p:nvPr/>
            </p:nvSpPr>
            <p:spPr>
              <a:xfrm>
                <a:off x="2457360" y="905040"/>
                <a:ext cx="7430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Object 6"/>
              <p:cNvSpPr txBox="1"/>
              <p:nvPr/>
            </p:nvSpPr>
            <p:spPr>
              <a:xfrm>
                <a:off x="3789360" y="2500200"/>
                <a:ext cx="21542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6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EF5A-5FB4-4ADF-A179-B1336A1C2DB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7" name="Rectangle 48"/>
          <p:cNvSpPr/>
          <p:nvPr/>
        </p:nvSpPr>
        <p:spPr>
          <a:xfrm>
            <a:off x="1219320" y="4008600"/>
            <a:ext cx="2666880" cy="3664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8" name="Rectangle 2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9" name="Rectangle 2"/>
          <p:cNvSpPr/>
          <p:nvPr/>
        </p:nvSpPr>
        <p:spPr>
          <a:xfrm>
            <a:off x="2286000" y="19051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0" name="Rectangle 27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1" name="Text Box 28"/>
          <p:cNvSpPr/>
          <p:nvPr/>
        </p:nvSpPr>
        <p:spPr>
          <a:xfrm>
            <a:off x="326880" y="1218240"/>
            <a:ext cx="86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terpretação da plotagem de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2" name="Text Box 33"/>
          <p:cNvSpPr/>
          <p:nvPr/>
        </p:nvSpPr>
        <p:spPr>
          <a:xfrm>
            <a:off x="3950640" y="5561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AHD Symbol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3" name="Line 35"/>
          <p:cNvSpPr/>
          <p:nvPr/>
        </p:nvSpPr>
        <p:spPr>
          <a:xfrm>
            <a:off x="1219320" y="4191120"/>
            <a:ext cx="2746080" cy="0"/>
          </a:xfrm>
          <a:prstGeom prst="line">
            <a:avLst/>
          </a:prstGeom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4" name="Text Box 36"/>
          <p:cNvSpPr/>
          <p:nvPr/>
        </p:nvSpPr>
        <p:spPr>
          <a:xfrm>
            <a:off x="914400" y="400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5" name="Freeform 39"/>
          <p:cNvSpPr/>
          <p:nvPr/>
        </p:nvSpPr>
        <p:spPr>
          <a:xfrm>
            <a:off x="1219320" y="3124080"/>
            <a:ext cx="2819160" cy="205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776" h="1296">
                <a:moveTo>
                  <a:pt x="0" y="816"/>
                </a:moveTo>
                <a:lnTo>
                  <a:pt x="96" y="912"/>
                </a:lnTo>
                <a:lnTo>
                  <a:pt x="192" y="576"/>
                </a:lnTo>
                <a:lnTo>
                  <a:pt x="240" y="528"/>
                </a:lnTo>
                <a:lnTo>
                  <a:pt x="288" y="432"/>
                </a:lnTo>
                <a:lnTo>
                  <a:pt x="336" y="144"/>
                </a:lnTo>
                <a:lnTo>
                  <a:pt x="384" y="48"/>
                </a:lnTo>
                <a:lnTo>
                  <a:pt x="432" y="0"/>
                </a:lnTo>
                <a:lnTo>
                  <a:pt x="480" y="0"/>
                </a:lnTo>
                <a:lnTo>
                  <a:pt x="528" y="96"/>
                </a:lnTo>
                <a:lnTo>
                  <a:pt x="576" y="240"/>
                </a:lnTo>
                <a:lnTo>
                  <a:pt x="624" y="288"/>
                </a:lnTo>
                <a:lnTo>
                  <a:pt x="672" y="192"/>
                </a:lnTo>
                <a:lnTo>
                  <a:pt x="672" y="144"/>
                </a:lnTo>
                <a:lnTo>
                  <a:pt x="720" y="96"/>
                </a:lnTo>
                <a:lnTo>
                  <a:pt x="768" y="144"/>
                </a:lnTo>
                <a:lnTo>
                  <a:pt x="816" y="384"/>
                </a:lnTo>
                <a:lnTo>
                  <a:pt x="864" y="480"/>
                </a:lnTo>
                <a:lnTo>
                  <a:pt x="912" y="576"/>
                </a:lnTo>
                <a:lnTo>
                  <a:pt x="960" y="624"/>
                </a:lnTo>
                <a:lnTo>
                  <a:pt x="1104" y="960"/>
                </a:lnTo>
                <a:lnTo>
                  <a:pt x="1248" y="1296"/>
                </a:lnTo>
                <a:lnTo>
                  <a:pt x="1306" y="1226"/>
                </a:lnTo>
                <a:lnTo>
                  <a:pt x="1344" y="1152"/>
                </a:lnTo>
                <a:lnTo>
                  <a:pt x="1392" y="1056"/>
                </a:lnTo>
                <a:lnTo>
                  <a:pt x="1440" y="1008"/>
                </a:lnTo>
                <a:lnTo>
                  <a:pt x="1488" y="1008"/>
                </a:lnTo>
                <a:lnTo>
                  <a:pt x="1552" y="1169"/>
                </a:lnTo>
                <a:lnTo>
                  <a:pt x="1598" y="1100"/>
                </a:lnTo>
                <a:lnTo>
                  <a:pt x="1584" y="960"/>
                </a:lnTo>
                <a:lnTo>
                  <a:pt x="1632" y="912"/>
                </a:lnTo>
                <a:lnTo>
                  <a:pt x="1680" y="816"/>
                </a:lnTo>
                <a:lnTo>
                  <a:pt x="1776" y="768"/>
                </a:lnTo>
              </a:path>
            </a:pathLst>
          </a:custGeom>
          <a:noFill/>
          <a:ln cap="sq"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6" name="Rectangle 40"/>
          <p:cNvSpPr/>
          <p:nvPr/>
        </p:nvSpPr>
        <p:spPr>
          <a:xfrm>
            <a:off x="3894120" y="48758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190440">
              <a:lnSpc>
                <a:spcPct val="100000"/>
              </a:lnSpc>
              <a:buClr>
                <a:srgbClr val="00ff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emos negativos: mais regularidad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7" name="Text Box 41"/>
          <p:cNvSpPr/>
          <p:nvPr/>
        </p:nvSpPr>
        <p:spPr>
          <a:xfrm>
            <a:off x="5366160" y="553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8" name="Text Box 42"/>
          <p:cNvSpPr/>
          <p:nvPr/>
        </p:nvSpPr>
        <p:spPr>
          <a:xfrm>
            <a:off x="2673720" y="2726280"/>
            <a:ext cx="50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emos positivos: mais agrupament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9" name="Text Box 43"/>
          <p:cNvSpPr/>
          <p:nvPr/>
        </p:nvSpPr>
        <p:spPr>
          <a:xfrm>
            <a:off x="3878280" y="37328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torno de zero aleatóri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0" name="Oval 44"/>
          <p:cNvSpPr/>
          <p:nvPr/>
        </p:nvSpPr>
        <p:spPr>
          <a:xfrm>
            <a:off x="1523880" y="2971800"/>
            <a:ext cx="1295640" cy="762120"/>
          </a:xfrm>
          <a:prstGeom prst="ellipse">
            <a:avLst/>
          </a:prstGeom>
          <a:noFill/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1" name="Oval 46"/>
          <p:cNvSpPr/>
          <p:nvPr/>
        </p:nvSpPr>
        <p:spPr>
          <a:xfrm>
            <a:off x="2819520" y="4572000"/>
            <a:ext cx="1295280" cy="762120"/>
          </a:xfrm>
          <a:prstGeom prst="ellipse">
            <a:avLst/>
          </a:prstGeom>
          <a:noFill/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82" name="Group 34"/>
          <p:cNvGrpSpPr/>
          <p:nvPr/>
        </p:nvGrpSpPr>
        <p:grpSpPr>
          <a:xfrm>
            <a:off x="1219320" y="2743200"/>
            <a:ext cx="3047760" cy="2743200"/>
            <a:chOff x="1219320" y="2743200"/>
            <a:chExt cx="3047760" cy="2743200"/>
          </a:xfrm>
        </p:grpSpPr>
        <p:sp>
          <p:nvSpPr>
            <p:cNvPr id="1783" name="Line 30"/>
            <p:cNvSpPr/>
            <p:nvPr/>
          </p:nvSpPr>
          <p:spPr>
            <a:xfrm flipV="1">
              <a:off x="1219320" y="2743200"/>
              <a:ext cx="0" cy="27432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84" name="Line 31"/>
            <p:cNvSpPr/>
            <p:nvPr/>
          </p:nvSpPr>
          <p:spPr>
            <a:xfrm>
              <a:off x="1219320" y="5486400"/>
              <a:ext cx="3047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5" name="Object 5"/>
              <p:cNvSpPr txBox="1"/>
              <p:nvPr/>
            </p:nvSpPr>
            <p:spPr>
              <a:xfrm>
                <a:off x="4114800" y="912960"/>
                <a:ext cx="21542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Object 6"/>
              <p:cNvSpPr txBox="1"/>
              <p:nvPr/>
            </p:nvSpPr>
            <p:spPr>
              <a:xfrm>
                <a:off x="428760" y="2657520"/>
                <a:ext cx="6904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B8C1-6EE5-4537-8680-D9286868D0B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 - prelimina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L G U N S    E X E M P L O 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pidemologia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tribuição dos casos de uma doença formam um padrão no espaço?  Existe associação com alguma fonte de poluição?  Evidência de contágio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rime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oubos que ocorrem em determinadas áreas estão correlacionados com características sócio econômicas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/ou de infra estrutura básica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38FA-1D4C-4161-8451-3CA1BE41F3C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790" name="Picture 25" descr="Confetes pequenos"/>
          <p:cNvPicPr/>
          <p:nvPr/>
        </p:nvPicPr>
        <p:blipFill>
          <a:blip r:embed="rId1"/>
          <a:stretch/>
        </p:blipFill>
        <p:spPr>
          <a:xfrm>
            <a:off x="3657600" y="2610000"/>
            <a:ext cx="4495680" cy="3138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791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 :-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xemplo abaixo refere-se  ao município Bood Moor, situado no condado de Cornwall, Inglaterra. Dados geomorfológicos com 36 localizações de rochas de granito. Neste caso percebe-se que para distâncias entre aproximadamente 2.5 a 3 (extremo positivo do gráfico) há evidências de agrupamento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2" name="Rectangle 9"/>
          <p:cNvSpPr/>
          <p:nvPr/>
        </p:nvSpPr>
        <p:spPr>
          <a:xfrm>
            <a:off x="3657600" y="3402000"/>
            <a:ext cx="638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4" name="Oval 21"/>
          <p:cNvSpPr/>
          <p:nvPr/>
        </p:nvSpPr>
        <p:spPr>
          <a:xfrm>
            <a:off x="6553080" y="2743200"/>
            <a:ext cx="838440" cy="92232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5" name="Text Box 23"/>
          <p:cNvSpPr/>
          <p:nvPr/>
        </p:nvSpPr>
        <p:spPr>
          <a:xfrm>
            <a:off x="3405960" y="595728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tância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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mín.=0.5   máx.=4   #intervalos=1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796" name="Picture 24" descr="Confetes pequenos"/>
          <p:cNvPicPr/>
          <p:nvPr/>
        </p:nvPicPr>
        <p:blipFill>
          <a:blip r:embed="rId2"/>
          <a:stretch/>
        </p:blipFill>
        <p:spPr>
          <a:xfrm>
            <a:off x="533520" y="2583000"/>
            <a:ext cx="2462040" cy="3241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79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C244-E9D6-4E0D-BBD4-C168A4FCD43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0" name="Text Box 29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2" name="Text Box 43"/>
          <p:cNvSpPr/>
          <p:nvPr/>
        </p:nvSpPr>
        <p:spPr>
          <a:xfrm>
            <a:off x="92880" y="870480"/>
            <a:ext cx="92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abordagem similar a do vizinho mais próximo pode ser feita para s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imar a significância dos desvios da distribuição        em relação a aleato-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iedade (CSR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3" name="Text Box 44"/>
          <p:cNvSpPr/>
          <p:nvPr/>
        </p:nvSpPr>
        <p:spPr>
          <a:xfrm>
            <a:off x="64440" y="2037240"/>
            <a:ext cx="888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déia realizar simulações CSR sobre a região R e computar os envelope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uperior e inferior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4" name="Text Box 46"/>
          <p:cNvSpPr/>
          <p:nvPr/>
        </p:nvSpPr>
        <p:spPr>
          <a:xfrm>
            <a:off x="133920" y="3123360"/>
            <a:ext cx="74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envelope superior é definido como (Baley e Grate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5" name="Text Box 47"/>
          <p:cNvSpPr/>
          <p:nvPr/>
        </p:nvSpPr>
        <p:spPr>
          <a:xfrm>
            <a:off x="140760" y="4799520"/>
            <a:ext cx="72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envelope inferior é definido como (Baley e Grate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Object 5"/>
              <p:cNvSpPr txBox="1"/>
              <p:nvPr/>
            </p:nvSpPr>
            <p:spPr>
              <a:xfrm>
                <a:off x="6143760" y="1163520"/>
                <a:ext cx="5601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Object 6"/>
              <p:cNvSpPr txBox="1"/>
              <p:nvPr/>
            </p:nvSpPr>
            <p:spPr>
              <a:xfrm>
                <a:off x="1600200" y="3678120"/>
                <a:ext cx="4419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ppe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8" name="Object 7"/>
              <p:cNvSpPr txBox="1"/>
              <p:nvPr/>
            </p:nvSpPr>
            <p:spPr>
              <a:xfrm>
                <a:off x="1600200" y="5429160"/>
                <a:ext cx="4390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we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9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D40-8D65-42EB-9B49-CFF0E41A364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1981080" y="1708200"/>
            <a:ext cx="0" cy="403848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1981080" y="5746680"/>
            <a:ext cx="39182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4" name="Freeform 13"/>
          <p:cNvSpPr/>
          <p:nvPr/>
        </p:nvSpPr>
        <p:spPr>
          <a:xfrm>
            <a:off x="2043000" y="3276720"/>
            <a:ext cx="3403800" cy="315720"/>
          </a:xfrm>
          <a:custGeom>
            <a:avLst/>
            <a:gdLst>
              <a:gd name="textAreaLeft" fmla="*/ 0 w 3403800"/>
              <a:gd name="textAreaRight" fmla="*/ 3404160 w 34038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44" h="199">
                <a:moveTo>
                  <a:pt x="0" y="192"/>
                </a:moveTo>
                <a:lnTo>
                  <a:pt x="240" y="48"/>
                </a:lnTo>
                <a:lnTo>
                  <a:pt x="384" y="48"/>
                </a:lnTo>
                <a:lnTo>
                  <a:pt x="528" y="144"/>
                </a:lnTo>
                <a:lnTo>
                  <a:pt x="672" y="96"/>
                </a:lnTo>
                <a:lnTo>
                  <a:pt x="851" y="156"/>
                </a:lnTo>
                <a:lnTo>
                  <a:pt x="960" y="48"/>
                </a:lnTo>
                <a:lnTo>
                  <a:pt x="1173" y="128"/>
                </a:lnTo>
                <a:lnTo>
                  <a:pt x="1344" y="0"/>
                </a:lnTo>
                <a:lnTo>
                  <a:pt x="1549" y="30"/>
                </a:lnTo>
                <a:lnTo>
                  <a:pt x="1680" y="96"/>
                </a:lnTo>
                <a:lnTo>
                  <a:pt x="1849" y="63"/>
                </a:lnTo>
                <a:lnTo>
                  <a:pt x="2144" y="199"/>
                </a:lnTo>
              </a:path>
            </a:pathLst>
          </a:custGeom>
          <a:noFill/>
          <a:ln cap="sq"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5" name="Freeform 20"/>
          <p:cNvSpPr/>
          <p:nvPr/>
        </p:nvSpPr>
        <p:spPr>
          <a:xfrm>
            <a:off x="2043000" y="4495680"/>
            <a:ext cx="3316320" cy="352440"/>
          </a:xfrm>
          <a:custGeom>
            <a:avLst/>
            <a:gdLst>
              <a:gd name="textAreaLeft" fmla="*/ 0 w 3316320"/>
              <a:gd name="textAreaRight" fmla="*/ 3316680 w 331632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089" h="222">
                <a:moveTo>
                  <a:pt x="0" y="0"/>
                </a:moveTo>
                <a:lnTo>
                  <a:pt x="144" y="144"/>
                </a:lnTo>
                <a:lnTo>
                  <a:pt x="366" y="97"/>
                </a:lnTo>
                <a:lnTo>
                  <a:pt x="595" y="184"/>
                </a:lnTo>
                <a:lnTo>
                  <a:pt x="846" y="124"/>
                </a:lnTo>
                <a:lnTo>
                  <a:pt x="993" y="222"/>
                </a:lnTo>
                <a:lnTo>
                  <a:pt x="1151" y="151"/>
                </a:lnTo>
                <a:lnTo>
                  <a:pt x="1397" y="119"/>
                </a:lnTo>
                <a:lnTo>
                  <a:pt x="1664" y="222"/>
                </a:lnTo>
                <a:lnTo>
                  <a:pt x="1806" y="102"/>
                </a:lnTo>
                <a:lnTo>
                  <a:pt x="2089" y="75"/>
                </a:lnTo>
              </a:path>
            </a:pathLst>
          </a:custGeom>
          <a:noFill/>
          <a:ln cap="sq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6" name="Text Box 21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nálise do gráfico        com os envelopes Upper(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) e Lower(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).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819" name="Group 33"/>
          <p:cNvGrpSpPr/>
          <p:nvPr/>
        </p:nvGrpSpPr>
        <p:grpSpPr>
          <a:xfrm>
            <a:off x="1376640" y="2329920"/>
            <a:ext cx="656280" cy="3417120"/>
            <a:chOff x="1376640" y="2329920"/>
            <a:chExt cx="656280" cy="3417120"/>
          </a:xfrm>
        </p:grpSpPr>
        <p:sp>
          <p:nvSpPr>
            <p:cNvPr id="1820" name="Text Box 7"/>
            <p:cNvSpPr/>
            <p:nvPr/>
          </p:nvSpPr>
          <p:spPr>
            <a:xfrm>
              <a:off x="1446840" y="2863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1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1" name="Text Box 11"/>
            <p:cNvSpPr/>
            <p:nvPr/>
          </p:nvSpPr>
          <p:spPr>
            <a:xfrm>
              <a:off x="1446840" y="33969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0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2" name="Text Box 12"/>
            <p:cNvSpPr/>
            <p:nvPr/>
          </p:nvSpPr>
          <p:spPr>
            <a:xfrm>
              <a:off x="1446840" y="23299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1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3" name="Text Box 17"/>
            <p:cNvSpPr/>
            <p:nvPr/>
          </p:nvSpPr>
          <p:spPr>
            <a:xfrm>
              <a:off x="1446840" y="38541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0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4" name="Text Box 18"/>
            <p:cNvSpPr/>
            <p:nvPr/>
          </p:nvSpPr>
          <p:spPr>
            <a:xfrm>
              <a:off x="1376640" y="434304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0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5" name="Text Box 19"/>
            <p:cNvSpPr/>
            <p:nvPr/>
          </p:nvSpPr>
          <p:spPr>
            <a:xfrm>
              <a:off x="1376640" y="487656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1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6" name="Text Box 32"/>
            <p:cNvSpPr/>
            <p:nvPr/>
          </p:nvSpPr>
          <p:spPr>
            <a:xfrm>
              <a:off x="1376640" y="540972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1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827" name="Text Box 34"/>
          <p:cNvSpPr/>
          <p:nvPr/>
        </p:nvSpPr>
        <p:spPr>
          <a:xfrm>
            <a:off x="5563800" y="5774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28" name="Line 35"/>
          <p:cNvSpPr/>
          <p:nvPr/>
        </p:nvSpPr>
        <p:spPr>
          <a:xfrm>
            <a:off x="1981080" y="4038480"/>
            <a:ext cx="3465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29" name="Text Box 36"/>
          <p:cNvSpPr/>
          <p:nvPr/>
        </p:nvSpPr>
        <p:spPr>
          <a:xfrm>
            <a:off x="5467680" y="3276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Tahoma"/>
              </a:rPr>
              <a:t>Upper(</a:t>
            </a:r>
            <a:r>
              <a:rPr b="0" i="1" lang="pt-BR" sz="1800" spc="-1" strike="noStrike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pt-BR" sz="1800" spc="-1" strike="noStrike">
                <a:solidFill>
                  <a:srgbClr val="ff66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0" name="Text Box 37"/>
          <p:cNvSpPr/>
          <p:nvPr/>
        </p:nvSpPr>
        <p:spPr>
          <a:xfrm>
            <a:off x="5463360" y="450936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ff00"/>
                </a:solidFill>
                <a:latin typeface="Tahoma"/>
              </a:rPr>
              <a:t>Lower(</a:t>
            </a:r>
            <a:r>
              <a:rPr b="0" i="1" lang="pt-BR" sz="1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pt-BR" sz="1800" spc="-1" strike="noStrike">
                <a:solidFill>
                  <a:srgbClr val="00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1" name="Line 40"/>
          <p:cNvSpPr/>
          <p:nvPr/>
        </p:nvSpPr>
        <p:spPr>
          <a:xfrm>
            <a:off x="5873760" y="3643200"/>
            <a:ext cx="0" cy="917640"/>
          </a:xfrm>
          <a:prstGeom prst="line">
            <a:avLst/>
          </a:prstGeom>
          <a:ln cap="sq"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2" name="Text Box 41"/>
          <p:cNvSpPr/>
          <p:nvPr/>
        </p:nvSpPr>
        <p:spPr>
          <a:xfrm>
            <a:off x="5786280" y="38998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ahoma"/>
              </a:rPr>
              <a:t>aleatóri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3" name="Freeform 42"/>
          <p:cNvSpPr/>
          <p:nvPr/>
        </p:nvSpPr>
        <p:spPr>
          <a:xfrm>
            <a:off x="1981080" y="2467080"/>
            <a:ext cx="2936880" cy="1697040"/>
          </a:xfrm>
          <a:custGeom>
            <a:avLst/>
            <a:gdLst>
              <a:gd name="textAreaLeft" fmla="*/ 0 w 2936880"/>
              <a:gd name="textAreaRight" fmla="*/ 2936880 w 29368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1850" h="1069">
                <a:moveTo>
                  <a:pt x="0" y="990"/>
                </a:moveTo>
                <a:lnTo>
                  <a:pt x="99" y="1069"/>
                </a:lnTo>
                <a:lnTo>
                  <a:pt x="144" y="1038"/>
                </a:lnTo>
                <a:lnTo>
                  <a:pt x="192" y="942"/>
                </a:lnTo>
                <a:lnTo>
                  <a:pt x="240" y="798"/>
                </a:lnTo>
                <a:lnTo>
                  <a:pt x="336" y="606"/>
                </a:lnTo>
                <a:lnTo>
                  <a:pt x="432" y="222"/>
                </a:lnTo>
                <a:lnTo>
                  <a:pt x="476" y="104"/>
                </a:lnTo>
                <a:lnTo>
                  <a:pt x="541" y="28"/>
                </a:lnTo>
                <a:lnTo>
                  <a:pt x="596" y="28"/>
                </a:lnTo>
                <a:lnTo>
                  <a:pt x="672" y="78"/>
                </a:lnTo>
                <a:lnTo>
                  <a:pt x="720" y="126"/>
                </a:lnTo>
                <a:lnTo>
                  <a:pt x="781" y="164"/>
                </a:lnTo>
                <a:lnTo>
                  <a:pt x="857" y="82"/>
                </a:lnTo>
                <a:lnTo>
                  <a:pt x="960" y="30"/>
                </a:lnTo>
                <a:lnTo>
                  <a:pt x="1104" y="78"/>
                </a:lnTo>
                <a:lnTo>
                  <a:pt x="1200" y="30"/>
                </a:lnTo>
                <a:lnTo>
                  <a:pt x="1392" y="78"/>
                </a:lnTo>
                <a:lnTo>
                  <a:pt x="1488" y="30"/>
                </a:lnTo>
                <a:lnTo>
                  <a:pt x="1584" y="78"/>
                </a:lnTo>
                <a:lnTo>
                  <a:pt x="1697" y="0"/>
                </a:lnTo>
                <a:lnTo>
                  <a:pt x="1850" y="33"/>
                </a:lnTo>
              </a:path>
            </a:pathLst>
          </a:custGeom>
          <a:noFill/>
          <a:ln cap="sq"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4" name="Object 5"/>
              <p:cNvSpPr txBox="1"/>
              <p:nvPr/>
            </p:nvSpPr>
            <p:spPr>
              <a:xfrm>
                <a:off x="2857680" y="928800"/>
                <a:ext cx="560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Object 6"/>
              <p:cNvSpPr txBox="1"/>
              <p:nvPr/>
            </p:nvSpPr>
            <p:spPr>
              <a:xfrm>
                <a:off x="1362240" y="1523880"/>
                <a:ext cx="5601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Object 7"/>
              <p:cNvSpPr txBox="1"/>
              <p:nvPr/>
            </p:nvSpPr>
            <p:spPr>
              <a:xfrm>
                <a:off x="5002200" y="2297160"/>
                <a:ext cx="560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72BF-F0AA-4754-9645-B7EFCA5AAEF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0" name="Text Box 6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xemplo :-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udas de Sequóia, Califórnia. Dados representam 62 mudas distribuídas numa região de 23km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3" name="Picture 28" descr="Confetes pequenos"/>
          <p:cNvPicPr/>
          <p:nvPr/>
        </p:nvPicPr>
        <p:blipFill>
          <a:blip r:embed="rId1"/>
          <a:stretch/>
        </p:blipFill>
        <p:spPr>
          <a:xfrm>
            <a:off x="304920" y="2865600"/>
            <a:ext cx="3047760" cy="2993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844" name="Picture 29" descr="Confetes pequenos"/>
          <p:cNvPicPr/>
          <p:nvPr/>
        </p:nvPicPr>
        <p:blipFill>
          <a:blip r:embed="rId2"/>
          <a:stretch/>
        </p:blipFill>
        <p:spPr>
          <a:xfrm>
            <a:off x="4191120" y="2625840"/>
            <a:ext cx="4495680" cy="3446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845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7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BFB1-9FE4-4B0A-A8B2-0B2495BBAD3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8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9" name="Text Box 2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ULA PRÁTICA NO SISTEMA SP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ANCOS DE DADOS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160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-1800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RTO ALEGRE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ventos de violência (homicídios, acidentes de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ransito e suicídios) na cidade de Porto Alegr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2" name="CaixaDeTexto 7"/>
          <p:cNvSpPr/>
          <p:nvPr/>
        </p:nvSpPr>
        <p:spPr>
          <a:xfrm>
            <a:off x="495720" y="2928960"/>
            <a:ext cx="863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Bairros_SP: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ercentual de idosos (mais que 70 anos) na cidade de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, agregados por bairr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FD0A-29A7-40A7-BFAD-98A843BDFAF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7" name="Freeform 166"/>
          <p:cNvSpPr/>
          <p:nvPr/>
        </p:nvSpPr>
        <p:spPr>
          <a:xfrm>
            <a:off x="3254400" y="2603520"/>
            <a:ext cx="3146400" cy="33098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3309840"/>
              <a:gd name="textAreaBottom" fmla="*/ 3310200 h 3309840"/>
            </a:gdLst>
            <a:ahLst/>
            <a:rect l="textAreaLeft" t="textAreaTop" r="textAreaRight" b="textAreaBottom"/>
            <a:pathLst>
              <a:path w="1982" h="2085">
                <a:moveTo>
                  <a:pt x="998" y="7"/>
                </a:moveTo>
                <a:cubicBezTo>
                  <a:pt x="871" y="14"/>
                  <a:pt x="744" y="19"/>
                  <a:pt x="616" y="23"/>
                </a:cubicBezTo>
                <a:cubicBezTo>
                  <a:pt x="551" y="28"/>
                  <a:pt x="489" y="37"/>
                  <a:pt x="425" y="51"/>
                </a:cubicBezTo>
                <a:cubicBezTo>
                  <a:pt x="413" y="59"/>
                  <a:pt x="410" y="76"/>
                  <a:pt x="398" y="83"/>
                </a:cubicBezTo>
                <a:cubicBezTo>
                  <a:pt x="386" y="90"/>
                  <a:pt x="323" y="100"/>
                  <a:pt x="310" y="100"/>
                </a:cubicBezTo>
                <a:cubicBezTo>
                  <a:pt x="223" y="103"/>
                  <a:pt x="135" y="103"/>
                  <a:pt x="48" y="105"/>
                </a:cubicBezTo>
                <a:cubicBezTo>
                  <a:pt x="34" y="110"/>
                  <a:pt x="8" y="112"/>
                  <a:pt x="5" y="133"/>
                </a:cubicBezTo>
                <a:cubicBezTo>
                  <a:pt x="0" y="170"/>
                  <a:pt x="10" y="159"/>
                  <a:pt x="27" y="182"/>
                </a:cubicBezTo>
                <a:cubicBezTo>
                  <a:pt x="39" y="198"/>
                  <a:pt x="43" y="220"/>
                  <a:pt x="54" y="236"/>
                </a:cubicBezTo>
                <a:cubicBezTo>
                  <a:pt x="75" y="267"/>
                  <a:pt x="65" y="239"/>
                  <a:pt x="81" y="269"/>
                </a:cubicBezTo>
                <a:cubicBezTo>
                  <a:pt x="119" y="342"/>
                  <a:pt x="82" y="282"/>
                  <a:pt x="108" y="323"/>
                </a:cubicBezTo>
                <a:cubicBezTo>
                  <a:pt x="104" y="375"/>
                  <a:pt x="91" y="423"/>
                  <a:pt x="103" y="476"/>
                </a:cubicBezTo>
                <a:cubicBezTo>
                  <a:pt x="108" y="499"/>
                  <a:pt x="139" y="506"/>
                  <a:pt x="152" y="525"/>
                </a:cubicBezTo>
                <a:cubicBezTo>
                  <a:pt x="179" y="566"/>
                  <a:pt x="221" y="596"/>
                  <a:pt x="261" y="623"/>
                </a:cubicBezTo>
                <a:cubicBezTo>
                  <a:pt x="275" y="661"/>
                  <a:pt x="261" y="721"/>
                  <a:pt x="250" y="760"/>
                </a:cubicBezTo>
                <a:cubicBezTo>
                  <a:pt x="243" y="817"/>
                  <a:pt x="248" y="879"/>
                  <a:pt x="228" y="934"/>
                </a:cubicBezTo>
                <a:cubicBezTo>
                  <a:pt x="240" y="957"/>
                  <a:pt x="255" y="977"/>
                  <a:pt x="267" y="1000"/>
                </a:cubicBezTo>
                <a:cubicBezTo>
                  <a:pt x="265" y="1047"/>
                  <a:pt x="269" y="1124"/>
                  <a:pt x="250" y="1174"/>
                </a:cubicBezTo>
                <a:cubicBezTo>
                  <a:pt x="246" y="1213"/>
                  <a:pt x="248" y="1227"/>
                  <a:pt x="228" y="1256"/>
                </a:cubicBezTo>
                <a:cubicBezTo>
                  <a:pt x="215" y="1298"/>
                  <a:pt x="232" y="1341"/>
                  <a:pt x="256" y="1376"/>
                </a:cubicBezTo>
                <a:cubicBezTo>
                  <a:pt x="252" y="1401"/>
                  <a:pt x="248" y="1424"/>
                  <a:pt x="239" y="1447"/>
                </a:cubicBezTo>
                <a:cubicBezTo>
                  <a:pt x="246" y="1480"/>
                  <a:pt x="247" y="1523"/>
                  <a:pt x="283" y="1534"/>
                </a:cubicBezTo>
                <a:cubicBezTo>
                  <a:pt x="357" y="1608"/>
                  <a:pt x="340" y="1589"/>
                  <a:pt x="468" y="1594"/>
                </a:cubicBezTo>
                <a:cubicBezTo>
                  <a:pt x="487" y="1601"/>
                  <a:pt x="501" y="1605"/>
                  <a:pt x="518" y="1616"/>
                </a:cubicBezTo>
                <a:cubicBezTo>
                  <a:pt x="537" y="1701"/>
                  <a:pt x="619" y="1673"/>
                  <a:pt x="698" y="1676"/>
                </a:cubicBezTo>
                <a:cubicBezTo>
                  <a:pt x="719" y="1743"/>
                  <a:pt x="719" y="1813"/>
                  <a:pt x="725" y="1883"/>
                </a:cubicBezTo>
                <a:cubicBezTo>
                  <a:pt x="731" y="1951"/>
                  <a:pt x="706" y="2040"/>
                  <a:pt x="779" y="2063"/>
                </a:cubicBezTo>
                <a:cubicBezTo>
                  <a:pt x="871" y="2060"/>
                  <a:pt x="957" y="2050"/>
                  <a:pt x="1047" y="2058"/>
                </a:cubicBezTo>
                <a:cubicBezTo>
                  <a:pt x="1068" y="2064"/>
                  <a:pt x="1080" y="2079"/>
                  <a:pt x="1101" y="2085"/>
                </a:cubicBezTo>
                <a:cubicBezTo>
                  <a:pt x="1131" y="2081"/>
                  <a:pt x="1160" y="2078"/>
                  <a:pt x="1188" y="2069"/>
                </a:cubicBezTo>
                <a:cubicBezTo>
                  <a:pt x="1220" y="2037"/>
                  <a:pt x="1217" y="2035"/>
                  <a:pt x="1238" y="2003"/>
                </a:cubicBezTo>
                <a:cubicBezTo>
                  <a:pt x="1246" y="1966"/>
                  <a:pt x="1261" y="1957"/>
                  <a:pt x="1298" y="1949"/>
                </a:cubicBezTo>
                <a:cubicBezTo>
                  <a:pt x="1385" y="1963"/>
                  <a:pt x="1472" y="1975"/>
                  <a:pt x="1559" y="1987"/>
                </a:cubicBezTo>
                <a:cubicBezTo>
                  <a:pt x="1577" y="1985"/>
                  <a:pt x="1597" y="1987"/>
                  <a:pt x="1614" y="1981"/>
                </a:cubicBezTo>
                <a:cubicBezTo>
                  <a:pt x="1630" y="1976"/>
                  <a:pt x="1633" y="1952"/>
                  <a:pt x="1647" y="1943"/>
                </a:cubicBezTo>
                <a:cubicBezTo>
                  <a:pt x="1665" y="1932"/>
                  <a:pt x="1692" y="1930"/>
                  <a:pt x="1712" y="1927"/>
                </a:cubicBezTo>
                <a:cubicBezTo>
                  <a:pt x="1758" y="1895"/>
                  <a:pt x="1735" y="1903"/>
                  <a:pt x="1777" y="1894"/>
                </a:cubicBezTo>
                <a:cubicBezTo>
                  <a:pt x="1791" y="1853"/>
                  <a:pt x="1795" y="1818"/>
                  <a:pt x="1799" y="1774"/>
                </a:cubicBezTo>
                <a:cubicBezTo>
                  <a:pt x="1804" y="1610"/>
                  <a:pt x="1791" y="1621"/>
                  <a:pt x="1816" y="1529"/>
                </a:cubicBezTo>
                <a:cubicBezTo>
                  <a:pt x="1824" y="1460"/>
                  <a:pt x="1808" y="1389"/>
                  <a:pt x="1777" y="1327"/>
                </a:cubicBezTo>
                <a:cubicBezTo>
                  <a:pt x="1773" y="1308"/>
                  <a:pt x="1767" y="1290"/>
                  <a:pt x="1761" y="1272"/>
                </a:cubicBezTo>
                <a:cubicBezTo>
                  <a:pt x="1767" y="1134"/>
                  <a:pt x="1737" y="1081"/>
                  <a:pt x="1865" y="1032"/>
                </a:cubicBezTo>
                <a:cubicBezTo>
                  <a:pt x="1879" y="1014"/>
                  <a:pt x="1895" y="1000"/>
                  <a:pt x="1903" y="978"/>
                </a:cubicBezTo>
                <a:cubicBezTo>
                  <a:pt x="1899" y="910"/>
                  <a:pt x="1894" y="825"/>
                  <a:pt x="1870" y="760"/>
                </a:cubicBezTo>
                <a:cubicBezTo>
                  <a:pt x="1873" y="707"/>
                  <a:pt x="1872" y="630"/>
                  <a:pt x="1887" y="574"/>
                </a:cubicBezTo>
                <a:cubicBezTo>
                  <a:pt x="1893" y="550"/>
                  <a:pt x="1930" y="514"/>
                  <a:pt x="1930" y="514"/>
                </a:cubicBezTo>
                <a:cubicBezTo>
                  <a:pt x="1939" y="488"/>
                  <a:pt x="1948" y="466"/>
                  <a:pt x="1963" y="443"/>
                </a:cubicBezTo>
                <a:cubicBezTo>
                  <a:pt x="1960" y="379"/>
                  <a:pt x="1982" y="306"/>
                  <a:pt x="1947" y="253"/>
                </a:cubicBezTo>
                <a:cubicBezTo>
                  <a:pt x="1916" y="205"/>
                  <a:pt x="1871" y="200"/>
                  <a:pt x="1816" y="193"/>
                </a:cubicBezTo>
                <a:cubicBezTo>
                  <a:pt x="1706" y="179"/>
                  <a:pt x="1593" y="170"/>
                  <a:pt x="1483" y="165"/>
                </a:cubicBezTo>
                <a:cubicBezTo>
                  <a:pt x="1472" y="131"/>
                  <a:pt x="1459" y="109"/>
                  <a:pt x="1428" y="89"/>
                </a:cubicBezTo>
                <a:cubicBezTo>
                  <a:pt x="1395" y="91"/>
                  <a:pt x="1362" y="87"/>
                  <a:pt x="1330" y="94"/>
                </a:cubicBezTo>
                <a:cubicBezTo>
                  <a:pt x="1317" y="97"/>
                  <a:pt x="1298" y="116"/>
                  <a:pt x="1298" y="116"/>
                </a:cubicBezTo>
                <a:cubicBezTo>
                  <a:pt x="1293" y="142"/>
                  <a:pt x="1296" y="169"/>
                  <a:pt x="1287" y="193"/>
                </a:cubicBezTo>
                <a:cubicBezTo>
                  <a:pt x="1260" y="268"/>
                  <a:pt x="1139" y="243"/>
                  <a:pt x="1090" y="247"/>
                </a:cubicBezTo>
                <a:cubicBezTo>
                  <a:pt x="1073" y="264"/>
                  <a:pt x="1070" y="274"/>
                  <a:pt x="1063" y="296"/>
                </a:cubicBezTo>
                <a:cubicBezTo>
                  <a:pt x="1058" y="335"/>
                  <a:pt x="1048" y="355"/>
                  <a:pt x="1008" y="367"/>
                </a:cubicBezTo>
                <a:cubicBezTo>
                  <a:pt x="960" y="362"/>
                  <a:pt x="938" y="364"/>
                  <a:pt x="921" y="318"/>
                </a:cubicBezTo>
                <a:cubicBezTo>
                  <a:pt x="923" y="297"/>
                  <a:pt x="932" y="211"/>
                  <a:pt x="954" y="193"/>
                </a:cubicBezTo>
                <a:cubicBezTo>
                  <a:pt x="974" y="177"/>
                  <a:pt x="1000" y="168"/>
                  <a:pt x="1019" y="149"/>
                </a:cubicBezTo>
                <a:cubicBezTo>
                  <a:pt x="1031" y="116"/>
                  <a:pt x="1043" y="64"/>
                  <a:pt x="1019" y="34"/>
                </a:cubicBezTo>
                <a:cubicBezTo>
                  <a:pt x="992" y="0"/>
                  <a:pt x="1010" y="46"/>
                  <a:pt x="998" y="7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5400000"/>
          </a:gradFill>
          <a:ln cap="sq" w="12600">
            <a:solidFill>
              <a:srgbClr val="ffcc00"/>
            </a:solidFill>
            <a:round/>
          </a:ln>
          <a:effectLst>
            <a:outerShdw dist="36147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400" y="914040"/>
            <a:ext cx="9200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ribuição pontual: é um conjunto de localizações pontuais, contidos numa área de estudo,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que estão associados a eventos de interesse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0" name="Text Box 155"/>
          <p:cNvSpPr/>
          <p:nvPr/>
        </p:nvSpPr>
        <p:spPr>
          <a:xfrm>
            <a:off x="1467720" y="38091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Área de Estu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1" name="Line 156"/>
          <p:cNvSpPr/>
          <p:nvPr/>
        </p:nvSpPr>
        <p:spPr>
          <a:xfrm>
            <a:off x="2349360" y="4267080"/>
            <a:ext cx="121932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2" name="Text Box 157"/>
          <p:cNvSpPr/>
          <p:nvPr/>
        </p:nvSpPr>
        <p:spPr>
          <a:xfrm>
            <a:off x="3568680" y="2883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3" name="Text Box 158"/>
          <p:cNvSpPr/>
          <p:nvPr/>
        </p:nvSpPr>
        <p:spPr>
          <a:xfrm>
            <a:off x="3676680" y="454464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4" name="Text Box 159"/>
          <p:cNvSpPr/>
          <p:nvPr/>
        </p:nvSpPr>
        <p:spPr>
          <a:xfrm>
            <a:off x="4863960" y="4255560"/>
            <a:ext cx="8067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5" name="Text Box 160"/>
          <p:cNvSpPr/>
          <p:nvPr/>
        </p:nvSpPr>
        <p:spPr>
          <a:xfrm>
            <a:off x="3676680" y="385884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6" name="Text Box 161"/>
          <p:cNvSpPr/>
          <p:nvPr/>
        </p:nvSpPr>
        <p:spPr>
          <a:xfrm>
            <a:off x="4483080" y="34617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7" name="Text Box 162"/>
          <p:cNvSpPr/>
          <p:nvPr/>
        </p:nvSpPr>
        <p:spPr>
          <a:xfrm>
            <a:off x="5289480" y="2883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8" name="Text Box 163"/>
          <p:cNvSpPr/>
          <p:nvPr/>
        </p:nvSpPr>
        <p:spPr>
          <a:xfrm>
            <a:off x="5289480" y="49413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9" name="Text Box 164"/>
          <p:cNvSpPr/>
          <p:nvPr/>
        </p:nvSpPr>
        <p:spPr>
          <a:xfrm>
            <a:off x="5442120" y="36921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0" name="Text Box 165"/>
          <p:cNvSpPr/>
          <p:nvPr/>
        </p:nvSpPr>
        <p:spPr>
          <a:xfrm>
            <a:off x="4375080" y="5169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E77E-B4A6-4DCB-943B-BA67655F6A1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4024440" y="430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localizações não estão associadas a valores,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mas apenas a ocorrência dos evento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mensão das medidas é zero. Medidas válidas na distribuição de pontos são o número de ocorrências no padrão e as localizações geográficas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área que contém os eventos não é uma medida válida apesar de ocupar espaç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tidades geográficas representadas como pontos no mapa são considerados de mesma qualidade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8760" y="853560"/>
            <a:ext cx="81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istribuições pontuais tem as seguintes características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FB1D-08FF-47A0-8979-5D5915E6117D}" type="slidenum"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2" name="Text Box 128"/>
          <p:cNvSpPr/>
          <p:nvPr/>
        </p:nvSpPr>
        <p:spPr>
          <a:xfrm>
            <a:off x="-144360" y="1144080"/>
            <a:ext cx="95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tribuição de características pontuais pode ser descrita pela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3" name="Text Box 129"/>
          <p:cNvSpPr/>
          <p:nvPr/>
        </p:nvSpPr>
        <p:spPr>
          <a:xfrm>
            <a:off x="833400" y="1827000"/>
            <a:ext cx="313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requência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nsidade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entro Geométrico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persão Espacial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E76C-18C7-48E9-AC8F-C6BBB679615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Text Box 1027"/>
          <p:cNvSpPr/>
          <p:nvPr/>
        </p:nvSpPr>
        <p:spPr>
          <a:xfrm>
            <a:off x="76320" y="530280"/>
            <a:ext cx="9067680" cy="59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Frequência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número de características pontuais que ocorrem no map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Nota:-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comparação de dois padrões de pontos pode ser enganosa, se amb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ão contidos em áreas distintas. Neste caso, é aconselhável compará-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os pela densidad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Densidade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Frequência / Áre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Centro Geométrico e Dispersão Espacial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são medidas que caracterizam as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opriedades geográfica de um padrão de pont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Centro Geométric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= média das coordenadas de localização X e Y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Dispersã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= desvio padrão de cada média (X e Y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5F85-0B9F-413D-B3DF-3292DCC1FCF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228600" y="7610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figura abaixo apresenta quatro padrões de pontos (A, B, C e D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4" name="Text Box 76"/>
          <p:cNvSpPr/>
          <p:nvPr/>
        </p:nvSpPr>
        <p:spPr>
          <a:xfrm>
            <a:off x="5625360" y="1382040"/>
            <a:ext cx="31982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L  O  C  A  L  I  Z  A  Ç  Õ  E  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A 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2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3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2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3,4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3,10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5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4,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5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5,2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7,11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8,5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8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9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9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0,2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0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1,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2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1,10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4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3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6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9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7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3,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665" name="Group 4"/>
          <p:cNvGrpSpPr/>
          <p:nvPr/>
        </p:nvGrpSpPr>
        <p:grpSpPr>
          <a:xfrm>
            <a:off x="431640" y="1828800"/>
            <a:ext cx="2089440" cy="1981080"/>
            <a:chOff x="431640" y="1828800"/>
            <a:chExt cx="2089440" cy="1981080"/>
          </a:xfrm>
        </p:grpSpPr>
        <p:grpSp>
          <p:nvGrpSpPr>
            <p:cNvPr id="666" name="Group 5"/>
            <p:cNvGrpSpPr/>
            <p:nvPr/>
          </p:nvGrpSpPr>
          <p:grpSpPr>
            <a:xfrm>
              <a:off x="691200" y="2171160"/>
              <a:ext cx="784800" cy="867600"/>
              <a:chOff x="691200" y="2171160"/>
              <a:chExt cx="784800" cy="867600"/>
            </a:xfrm>
          </p:grpSpPr>
          <p:sp>
            <p:nvSpPr>
              <p:cNvPr id="667" name="Oval 6"/>
              <p:cNvSpPr/>
              <p:nvPr/>
            </p:nvSpPr>
            <p:spPr>
              <a:xfrm>
                <a:off x="691200" y="2556720"/>
                <a:ext cx="10476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68" name="Oval 7"/>
              <p:cNvSpPr/>
              <p:nvPr/>
            </p:nvSpPr>
            <p:spPr>
              <a:xfrm>
                <a:off x="900360" y="294228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69" name="Oval 8"/>
              <p:cNvSpPr/>
              <p:nvPr/>
            </p:nvSpPr>
            <p:spPr>
              <a:xfrm>
                <a:off x="90036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0" name="Oval 9"/>
              <p:cNvSpPr/>
              <p:nvPr/>
            </p:nvSpPr>
            <p:spPr>
              <a:xfrm>
                <a:off x="90036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1" name="Oval 10"/>
              <p:cNvSpPr/>
              <p:nvPr/>
            </p:nvSpPr>
            <p:spPr>
              <a:xfrm>
                <a:off x="90036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2" name="Oval 11"/>
              <p:cNvSpPr/>
              <p:nvPr/>
            </p:nvSpPr>
            <p:spPr>
              <a:xfrm>
                <a:off x="110988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3" name="Oval 12"/>
              <p:cNvSpPr/>
              <p:nvPr/>
            </p:nvSpPr>
            <p:spPr>
              <a:xfrm>
                <a:off x="110988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4" name="Oval 13"/>
              <p:cNvSpPr/>
              <p:nvPr/>
            </p:nvSpPr>
            <p:spPr>
              <a:xfrm>
                <a:off x="110988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5" name="Oval 14"/>
              <p:cNvSpPr/>
              <p:nvPr/>
            </p:nvSpPr>
            <p:spPr>
              <a:xfrm>
                <a:off x="137160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6" name="Oval 15"/>
              <p:cNvSpPr/>
              <p:nvPr/>
            </p:nvSpPr>
            <p:spPr>
              <a:xfrm>
                <a:off x="137160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7" name="Oval 16"/>
              <p:cNvSpPr/>
              <p:nvPr/>
            </p:nvSpPr>
            <p:spPr>
              <a:xfrm>
                <a:off x="137160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8" name="Oval 17"/>
              <p:cNvSpPr/>
              <p:nvPr/>
            </p:nvSpPr>
            <p:spPr>
              <a:xfrm>
                <a:off x="1371600" y="217116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679" name="Rectangle 18"/>
            <p:cNvSpPr/>
            <p:nvPr/>
          </p:nvSpPr>
          <p:spPr>
            <a:xfrm>
              <a:off x="431640" y="1828800"/>
              <a:ext cx="208944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680" name="Group 64"/>
          <p:cNvGrpSpPr/>
          <p:nvPr/>
        </p:nvGrpSpPr>
        <p:grpSpPr>
          <a:xfrm>
            <a:off x="2897280" y="1828800"/>
            <a:ext cx="2089080" cy="1981080"/>
            <a:chOff x="2897280" y="1828800"/>
            <a:chExt cx="2089080" cy="1981080"/>
          </a:xfrm>
        </p:grpSpPr>
        <p:sp>
          <p:nvSpPr>
            <p:cNvPr id="681" name="Oval 20"/>
            <p:cNvSpPr/>
            <p:nvPr/>
          </p:nvSpPr>
          <p:spPr>
            <a:xfrm>
              <a:off x="3512880" y="2944800"/>
              <a:ext cx="112320" cy="982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951000" y="27464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3" name="Oval 25"/>
            <p:cNvSpPr/>
            <p:nvPr/>
          </p:nvSpPr>
          <p:spPr>
            <a:xfrm>
              <a:off x="333036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4" name="Oval 26"/>
            <p:cNvSpPr/>
            <p:nvPr/>
          </p:nvSpPr>
          <p:spPr>
            <a:xfrm>
              <a:off x="350028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5" name="Oval 27"/>
            <p:cNvSpPr/>
            <p:nvPr/>
          </p:nvSpPr>
          <p:spPr>
            <a:xfrm>
              <a:off x="350028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6" name="Oval 28"/>
            <p:cNvSpPr/>
            <p:nvPr/>
          </p:nvSpPr>
          <p:spPr>
            <a:xfrm>
              <a:off x="372564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7" name="Oval 29"/>
            <p:cNvSpPr/>
            <p:nvPr/>
          </p:nvSpPr>
          <p:spPr>
            <a:xfrm>
              <a:off x="372564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8" name="Oval 30"/>
            <p:cNvSpPr/>
            <p:nvPr/>
          </p:nvSpPr>
          <p:spPr>
            <a:xfrm>
              <a:off x="372564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9" name="Oval 31"/>
            <p:cNvSpPr/>
            <p:nvPr/>
          </p:nvSpPr>
          <p:spPr>
            <a:xfrm>
              <a:off x="3725640" y="25574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0" name="Oval 32"/>
            <p:cNvSpPr/>
            <p:nvPr/>
          </p:nvSpPr>
          <p:spPr>
            <a:xfrm>
              <a:off x="395100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1" name="Oval 33"/>
            <p:cNvSpPr/>
            <p:nvPr/>
          </p:nvSpPr>
          <p:spPr>
            <a:xfrm>
              <a:off x="395100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2" name="Oval 34"/>
            <p:cNvSpPr/>
            <p:nvPr/>
          </p:nvSpPr>
          <p:spPr>
            <a:xfrm>
              <a:off x="423360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3" name="Rectangle 35"/>
            <p:cNvSpPr/>
            <p:nvPr/>
          </p:nvSpPr>
          <p:spPr>
            <a:xfrm>
              <a:off x="2897280" y="1828800"/>
              <a:ext cx="208908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694" name="Oval 38"/>
          <p:cNvSpPr/>
          <p:nvPr/>
        </p:nvSpPr>
        <p:spPr>
          <a:xfrm>
            <a:off x="1012680" y="5891040"/>
            <a:ext cx="127080" cy="13176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5" name="Oval 39"/>
          <p:cNvSpPr/>
          <p:nvPr/>
        </p:nvSpPr>
        <p:spPr>
          <a:xfrm>
            <a:off x="689040" y="560556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6" name="Oval 40"/>
          <p:cNvSpPr/>
          <p:nvPr/>
        </p:nvSpPr>
        <p:spPr>
          <a:xfrm>
            <a:off x="1008000" y="5005440"/>
            <a:ext cx="1080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7" name="Oval 41"/>
          <p:cNvSpPr/>
          <p:nvPr/>
        </p:nvSpPr>
        <p:spPr>
          <a:xfrm>
            <a:off x="1274760" y="455616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8" name="Oval 42"/>
          <p:cNvSpPr/>
          <p:nvPr/>
        </p:nvSpPr>
        <p:spPr>
          <a:xfrm>
            <a:off x="1487520" y="545616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9" name="Oval 43"/>
          <p:cNvSpPr/>
          <p:nvPr/>
        </p:nvSpPr>
        <p:spPr>
          <a:xfrm>
            <a:off x="148752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0" name="Oval 44"/>
          <p:cNvSpPr/>
          <p:nvPr/>
        </p:nvSpPr>
        <p:spPr>
          <a:xfrm>
            <a:off x="1646280" y="590544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1" name="Oval 45"/>
          <p:cNvSpPr/>
          <p:nvPr/>
        </p:nvSpPr>
        <p:spPr>
          <a:xfrm>
            <a:off x="180504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2" name="Oval 46"/>
          <p:cNvSpPr/>
          <p:nvPr/>
        </p:nvSpPr>
        <p:spPr>
          <a:xfrm>
            <a:off x="2071800" y="590544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3" name="Oval 47"/>
          <p:cNvSpPr/>
          <p:nvPr/>
        </p:nvSpPr>
        <p:spPr>
          <a:xfrm>
            <a:off x="2284560" y="5305320"/>
            <a:ext cx="106200" cy="1018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4" name="Oval 48"/>
          <p:cNvSpPr/>
          <p:nvPr/>
        </p:nvSpPr>
        <p:spPr>
          <a:xfrm>
            <a:off x="228456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5" name="Rectangle 49"/>
          <p:cNvSpPr/>
          <p:nvPr/>
        </p:nvSpPr>
        <p:spPr>
          <a:xfrm>
            <a:off x="431640" y="4226040"/>
            <a:ext cx="2089440" cy="198108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6" name="Text Box 65"/>
          <p:cNvSpPr/>
          <p:nvPr/>
        </p:nvSpPr>
        <p:spPr>
          <a:xfrm>
            <a:off x="93600" y="377784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0,0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7" name="Text Box 66"/>
          <p:cNvSpPr/>
          <p:nvPr/>
        </p:nvSpPr>
        <p:spPr>
          <a:xfrm>
            <a:off x="2021040" y="1447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14, 1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8" name="Line 68"/>
          <p:cNvSpPr/>
          <p:nvPr/>
        </p:nvSpPr>
        <p:spPr>
          <a:xfrm flipV="1">
            <a:off x="304920" y="3124080"/>
            <a:ext cx="0" cy="519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9" name="Line 69"/>
          <p:cNvSpPr/>
          <p:nvPr/>
        </p:nvSpPr>
        <p:spPr>
          <a:xfrm>
            <a:off x="776160" y="3962520"/>
            <a:ext cx="5209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0" name="Text Box 77"/>
          <p:cNvSpPr/>
          <p:nvPr/>
        </p:nvSpPr>
        <p:spPr>
          <a:xfrm>
            <a:off x="438480" y="184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1" name="Text Box 78"/>
          <p:cNvSpPr/>
          <p:nvPr/>
        </p:nvSpPr>
        <p:spPr>
          <a:xfrm>
            <a:off x="2890080" y="1842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2" name="Text Box 79"/>
          <p:cNvSpPr/>
          <p:nvPr/>
        </p:nvSpPr>
        <p:spPr>
          <a:xfrm>
            <a:off x="455040" y="4225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713" name="Group 81"/>
          <p:cNvGrpSpPr/>
          <p:nvPr/>
        </p:nvGrpSpPr>
        <p:grpSpPr>
          <a:xfrm>
            <a:off x="2895480" y="4225320"/>
            <a:ext cx="2090880" cy="1981800"/>
            <a:chOff x="2895480" y="4225320"/>
            <a:chExt cx="2090880" cy="1981800"/>
          </a:xfrm>
        </p:grpSpPr>
        <p:sp>
          <p:nvSpPr>
            <p:cNvPr id="714" name="Oval 51"/>
            <p:cNvSpPr/>
            <p:nvPr/>
          </p:nvSpPr>
          <p:spPr>
            <a:xfrm>
              <a:off x="3014640" y="552456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5" name="Oval 52"/>
            <p:cNvSpPr/>
            <p:nvPr/>
          </p:nvSpPr>
          <p:spPr>
            <a:xfrm>
              <a:off x="3338640" y="4572000"/>
              <a:ext cx="9036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6" name="Oval 53"/>
            <p:cNvSpPr/>
            <p:nvPr/>
          </p:nvSpPr>
          <p:spPr>
            <a:xfrm>
              <a:off x="3379680" y="4995720"/>
              <a:ext cx="889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7" name="Oval 54"/>
            <p:cNvSpPr/>
            <p:nvPr/>
          </p:nvSpPr>
          <p:spPr>
            <a:xfrm>
              <a:off x="3495600" y="5869080"/>
              <a:ext cx="9072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8" name="Oval 55"/>
            <p:cNvSpPr/>
            <p:nvPr/>
          </p:nvSpPr>
          <p:spPr>
            <a:xfrm>
              <a:off x="3817800" y="4556160"/>
              <a:ext cx="9072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9" name="Oval 56"/>
            <p:cNvSpPr/>
            <p:nvPr/>
          </p:nvSpPr>
          <p:spPr>
            <a:xfrm>
              <a:off x="3817800" y="5194440"/>
              <a:ext cx="907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0" name="Oval 57"/>
            <p:cNvSpPr/>
            <p:nvPr/>
          </p:nvSpPr>
          <p:spPr>
            <a:xfrm>
              <a:off x="3800520" y="552456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1" name="Oval 58"/>
            <p:cNvSpPr/>
            <p:nvPr/>
          </p:nvSpPr>
          <p:spPr>
            <a:xfrm>
              <a:off x="4299120" y="5869080"/>
              <a:ext cx="8856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2" name="Oval 59"/>
            <p:cNvSpPr/>
            <p:nvPr/>
          </p:nvSpPr>
          <p:spPr>
            <a:xfrm>
              <a:off x="4459320" y="509904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3" name="Oval 60"/>
            <p:cNvSpPr/>
            <p:nvPr/>
          </p:nvSpPr>
          <p:spPr>
            <a:xfrm>
              <a:off x="4459320" y="4402080"/>
              <a:ext cx="9036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4" name="Oval 61"/>
            <p:cNvSpPr/>
            <p:nvPr/>
          </p:nvSpPr>
          <p:spPr>
            <a:xfrm>
              <a:off x="4778280" y="5524560"/>
              <a:ext cx="907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5" name="Oval 62"/>
            <p:cNvSpPr/>
            <p:nvPr/>
          </p:nvSpPr>
          <p:spPr>
            <a:xfrm>
              <a:off x="4778280" y="4703760"/>
              <a:ext cx="9072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6" name="Rectangle 63"/>
            <p:cNvSpPr/>
            <p:nvPr/>
          </p:nvSpPr>
          <p:spPr>
            <a:xfrm>
              <a:off x="2895480" y="4226040"/>
              <a:ext cx="209088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7" name="Text Box 80"/>
            <p:cNvSpPr/>
            <p:nvPr/>
          </p:nvSpPr>
          <p:spPr>
            <a:xfrm>
              <a:off x="2899080" y="42253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728" name="Oval 42"/>
          <p:cNvSpPr/>
          <p:nvPr/>
        </p:nvSpPr>
        <p:spPr>
          <a:xfrm>
            <a:off x="1898640" y="5356080"/>
            <a:ext cx="10476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9:34:51Z</dcterms:created>
  <dc:creator>Proarco</dc:creator>
  <dc:description/>
  <dc:language>en-US</dc:language>
  <cp:lastModifiedBy>user1</cp:lastModifiedBy>
  <cp:lastPrinted>2001-03-26T18:04:29Z</cp:lastPrinted>
  <dcterms:modified xsi:type="dcterms:W3CDTF">2009-11-25T11:38:52Z</dcterms:modified>
  <cp:revision>461</cp:revision>
  <dc:subject/>
  <dc:title>Estatística Espacial</dc:title>
</cp:coreProperties>
</file>