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83400" cy="9169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8528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5636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1420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8528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5636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214200" y="443880"/>
            <a:ext cx="878688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42920" y="-1806840"/>
            <a:ext cx="88581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14200" y="443880"/>
            <a:ext cx="878688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18528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56360" y="85716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21420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18528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56360" y="3673440"/>
            <a:ext cx="282924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42920" y="-1806840"/>
            <a:ext cx="8858160" cy="621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87640" algn="ctr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7080" y="367344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420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7080" y="857160"/>
            <a:ext cx="428796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14200" y="3673440"/>
            <a:ext cx="8786880" cy="257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03444560">
              <a:spcBef>
                <a:spcPts val="601"/>
              </a:spcBef>
              <a:buClr>
                <a:srgbClr val="3369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79" descr="logo_lvc"/>
          <p:cNvPicPr/>
          <p:nvPr/>
        </p:nvPicPr>
        <p:blipFill>
          <a:blip r:embed="rId2">
            <a:grayscl/>
          </a:blip>
          <a:stretch/>
        </p:blipFill>
        <p:spPr>
          <a:xfrm>
            <a:off x="8405640" y="6357960"/>
            <a:ext cx="562320" cy="365040"/>
          </a:xfrm>
          <a:prstGeom prst="rect">
            <a:avLst/>
          </a:prstGeom>
          <a:ln w="0">
            <a:noFill/>
          </a:ln>
        </p:spPr>
      </p:pic>
      <p:pic>
        <p:nvPicPr>
          <p:cNvPr id="3" name="Picture 80" descr="logo_lvc_name"/>
          <p:cNvPicPr/>
          <p:nvPr/>
        </p:nvPicPr>
        <p:blipFill>
          <a:blip r:embed="rId3">
            <a:grayscl/>
          </a:blip>
          <a:stretch/>
        </p:blipFill>
        <p:spPr>
          <a:xfrm>
            <a:off x="6727680" y="6515280"/>
            <a:ext cx="1651320" cy="191880"/>
          </a:xfrm>
          <a:prstGeom prst="rect">
            <a:avLst/>
          </a:prstGeom>
          <a:ln w="0">
            <a:noFill/>
          </a:ln>
        </p:spPr>
      </p:pic>
      <p:pic>
        <p:nvPicPr>
          <p:cNvPr id="4" name="Picture 2" descr=""/>
          <p:cNvPicPr/>
          <p:nvPr/>
        </p:nvPicPr>
        <p:blipFill>
          <a:blip r:embed="rId4"/>
          <a:stretch/>
        </p:blipFill>
        <p:spPr>
          <a:xfrm>
            <a:off x="571680" y="6429240"/>
            <a:ext cx="620640" cy="357480"/>
          </a:xfrm>
          <a:prstGeom prst="rect">
            <a:avLst/>
          </a:prstGeom>
          <a:ln w="0">
            <a:noFill/>
          </a:ln>
        </p:spPr>
      </p:pic>
      <p:pic>
        <p:nvPicPr>
          <p:cNvPr id="5" name="Picture 3" descr=""/>
          <p:cNvPicPr/>
          <p:nvPr/>
        </p:nvPicPr>
        <p:blipFill>
          <a:blip r:embed="rId5"/>
          <a:stretch/>
        </p:blipFill>
        <p:spPr>
          <a:xfrm>
            <a:off x="142920" y="6286680"/>
            <a:ext cx="419040" cy="466560"/>
          </a:xfrm>
          <a:prstGeom prst="rect">
            <a:avLst/>
          </a:prstGeom>
          <a:ln w="0">
            <a:noFill/>
          </a:ln>
        </p:spPr>
      </p:pic>
      <p:sp>
        <p:nvSpPr>
          <p:cNvPr id="6" name="Rectangle 10"/>
          <p:cNvSpPr/>
          <p:nvPr/>
        </p:nvSpPr>
        <p:spPr>
          <a:xfrm>
            <a:off x="0" y="0"/>
            <a:ext cx="9144000" cy="714240"/>
          </a:xfrm>
          <a:prstGeom prst="rect">
            <a:avLst/>
          </a:prstGeom>
          <a:solidFill>
            <a:srgbClr val="477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8" name="Rectangle 11"/>
          <p:cNvSpPr/>
          <p:nvPr/>
        </p:nvSpPr>
        <p:spPr>
          <a:xfrm>
            <a:off x="76320" y="5842080"/>
            <a:ext cx="132084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0" descr="inpe_logo1"/>
          <p:cNvPicPr/>
          <p:nvPr/>
        </p:nvPicPr>
        <p:blipFill>
          <a:blip r:embed="rId6"/>
          <a:stretch/>
        </p:blipFill>
        <p:spPr>
          <a:xfrm>
            <a:off x="233280" y="6230880"/>
            <a:ext cx="590760" cy="500040"/>
          </a:xfrm>
          <a:prstGeom prst="rect">
            <a:avLst/>
          </a:prstGeom>
          <a:ln w="0">
            <a:noFill/>
          </a:ln>
        </p:spPr>
      </p:pic>
      <p:sp>
        <p:nvSpPr>
          <p:cNvPr id="10" name="Text Box 12"/>
          <p:cNvSpPr/>
          <p:nvPr/>
        </p:nvSpPr>
        <p:spPr>
          <a:xfrm>
            <a:off x="8401320" y="-7920"/>
            <a:ext cx="1054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C586-94CD-4100-BBDB-C68E38E0F43F}" type="slidenum">
              <a:rPr b="0" lang="pt-BR" sz="1400" spc="-1" strike="noStrike">
                <a:solidFill>
                  <a:srgbClr val="dddddd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0"/>
          <p:cNvSpPr/>
          <p:nvPr/>
        </p:nvSpPr>
        <p:spPr>
          <a:xfrm>
            <a:off x="0" y="3505320"/>
            <a:ext cx="9144000" cy="114300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0" y="1000080"/>
            <a:ext cx="9144000" cy="2643120"/>
          </a:xfrm>
          <a:prstGeom prst="rect">
            <a:avLst/>
          </a:prstGeom>
          <a:solidFill>
            <a:srgbClr val="477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0" y="4646520"/>
            <a:ext cx="9144000" cy="27000"/>
          </a:xfrm>
          <a:prstGeom prst="rect">
            <a:avLst/>
          </a:prstGeom>
          <a:solidFill>
            <a:srgbClr val="4773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285840" y="214200"/>
            <a:ext cx="1049400" cy="1857600"/>
          </a:xfrm>
          <a:prstGeom prst="rect">
            <a:avLst/>
          </a:prstGeom>
          <a:ln w="9360">
            <a:solidFill>
              <a:srgbClr val="595959"/>
            </a:solidFill>
            <a:miter/>
          </a:ln>
        </p:spPr>
      </p:pic>
      <p:pic>
        <p:nvPicPr>
          <p:cNvPr id="51" name="Picture 79" descr="logo_lvc"/>
          <p:cNvPicPr/>
          <p:nvPr/>
        </p:nvPicPr>
        <p:blipFill>
          <a:blip r:embed="rId3">
            <a:grayscl/>
          </a:blip>
          <a:stretch/>
        </p:blipFill>
        <p:spPr>
          <a:xfrm>
            <a:off x="8215200" y="6072120"/>
            <a:ext cx="642960" cy="417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0" descr="logo_lvc_name"/>
          <p:cNvPicPr/>
          <p:nvPr/>
        </p:nvPicPr>
        <p:blipFill>
          <a:blip r:embed="rId4">
            <a:grayscl/>
          </a:blip>
          <a:stretch/>
        </p:blipFill>
        <p:spPr>
          <a:xfrm>
            <a:off x="7215120" y="6500880"/>
            <a:ext cx="1650960" cy="19188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214200" y="857160"/>
            <a:ext cx="8786880" cy="539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103444560">
              <a:spcBef>
                <a:spcPts val="601"/>
              </a:spcBef>
              <a:buClr>
                <a:srgbClr val="3369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50920">
              <a:spcBef>
                <a:spcPts val="601"/>
              </a:spcBef>
              <a:buClr>
                <a:srgbClr val="47737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509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ddddd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600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a0a0a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A49A5-03B8-47D7-8493-27ECEDE1894A}" type="datetime">
              <a:rPr b="0" lang="pt-BR" sz="2400" spc="-1" strike="noStrike">
                <a:solidFill>
                  <a:srgbClr val="a0a0a0"/>
                </a:solidFill>
                <a:latin typeface="Calibri"/>
              </a:rPr>
              <a:t>28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695400"/>
            <a:ext cx="855828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dddddd"/>
                </a:solidFill>
                <a:latin typeface="Arial Black"/>
              </a:rPr>
              <a:t>InterIMAGE Workshop – Exercícios</a:t>
            </a:r>
            <a:br>
              <a:rPr sz="2200"/>
            </a:br>
            <a:r>
              <a:rPr b="0" lang="pt-BR" sz="2200" spc="-1" strike="noStrike">
                <a:solidFill>
                  <a:srgbClr val="dddddd"/>
                </a:solidFill>
                <a:latin typeface="Arial Black"/>
              </a:rPr>
              <a:t>Dezembro de 2011</a:t>
            </a:r>
            <a:endParaRPr b="0" lang="en-US" sz="22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28600" y="4743360"/>
            <a:ext cx="6934320" cy="13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ilson A. O. P. Co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Rodrigo S. Ferrei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inpe_logo1"/>
          <p:cNvPicPr/>
          <p:nvPr/>
        </p:nvPicPr>
        <p:blipFill>
          <a:blip r:embed="rId1"/>
          <a:stretch/>
        </p:blipFill>
        <p:spPr>
          <a:xfrm>
            <a:off x="297000" y="5918040"/>
            <a:ext cx="860400" cy="729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"/>
          <p:cNvPicPr/>
          <p:nvPr/>
        </p:nvPicPr>
        <p:blipFill>
          <a:blip r:embed="rId2"/>
          <a:stretch/>
        </p:blipFill>
        <p:spPr>
          <a:xfrm>
            <a:off x="6300720" y="-177840"/>
            <a:ext cx="286704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4 – Classificação supervisionada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17440" y="1122120"/>
            <a:ext cx="878688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0960" indent="-457200">
              <a:spcBef>
                <a:spcPts val="2999"/>
              </a:spcBef>
              <a:buClr>
                <a:srgbClr val="336699"/>
              </a:buClr>
              <a:buSzPct val="130000"/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lecionar (clicar no)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e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999"/>
              </a:spcBef>
              <a:buClr>
                <a:srgbClr val="336699"/>
              </a:buClr>
              <a:buSzPct val="130000"/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letar amostras a partir d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amples Edito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usando para a segmentação o operador TopDown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_Baatz_Segmen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cale Parame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70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999"/>
              </a:spcBef>
              <a:buClr>
                <a:srgbClr val="336699"/>
              </a:buClr>
              <a:buSzPct val="130000"/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shapefile com amostras para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mostras.shp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c00000"/>
                </a:solidFill>
                <a:latin typeface="Arial"/>
              </a:rPr>
              <a:t>sem fechar 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amples Edito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exportando os atributos como mostra a figu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999"/>
              </a:spcBef>
              <a:buClr>
                <a:srgbClr val="336699"/>
              </a:buClr>
              <a:buSzPct val="130000"/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999"/>
              </a:spcBef>
              <a:buClr>
                <a:srgbClr val="336699"/>
              </a:buClr>
              <a:buSzPct val="130000"/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999"/>
              </a:spcBef>
              <a:buClr>
                <a:srgbClr val="336699"/>
              </a:buClr>
              <a:buSzPct val="130000"/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o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shapefil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mostras.shp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aos recursos do projeto com o nom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most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999"/>
              </a:spcBef>
              <a:buClr>
                <a:srgbClr val="336699"/>
              </a:buClr>
              <a:buSzPct val="130000"/>
              <a:buFont typeface="Arial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"/>
          <p:cNvPicPr/>
          <p:nvPr/>
        </p:nvPicPr>
        <p:blipFill>
          <a:blip r:embed="rId1"/>
          <a:stretch/>
        </p:blipFill>
        <p:spPr>
          <a:xfrm>
            <a:off x="2517840" y="3200400"/>
            <a:ext cx="4591080" cy="14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4 – Classificação supervisionada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17440" y="1122120"/>
            <a:ext cx="878688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0960" indent="-457200">
              <a:spcBef>
                <a:spcPts val="2999"/>
              </a:spcBef>
              <a:buClr>
                <a:srgbClr val="336699"/>
              </a:buClr>
              <a:buSzPct val="130000"/>
              <a:buFont typeface="Arial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a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nstruçõe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o operador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TopDow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C45_Classifie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configurando os atributos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raining Set Fil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Input Shape Fil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most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999"/>
              </a:spcBef>
              <a:buClr>
                <a:srgbClr val="336699"/>
              </a:buClr>
              <a:buSzPct val="130000"/>
              <a:buFont typeface="Arial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arcar o operador com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Multi-Clas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999"/>
              </a:spcBef>
              <a:buClr>
                <a:srgbClr val="336699"/>
              </a:buClr>
              <a:buSzPct val="130000"/>
              <a:buFont typeface="Arial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 e 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999"/>
              </a:spcBef>
              <a:buClr>
                <a:srgbClr val="336699"/>
              </a:buClr>
              <a:buSzPct val="130000"/>
              <a:buFont typeface="Arial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aminar o resultado d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999"/>
              </a:spcBef>
              <a:buClr>
                <a:srgbClr val="336699"/>
              </a:buClr>
              <a:buSzPct val="130000"/>
              <a:buFont typeface="Arial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letar mais amostras a partir d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amples Edito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as classes com maior confus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999"/>
              </a:spcBef>
              <a:buClr>
                <a:srgbClr val="336699"/>
              </a:buClr>
              <a:buSzPct val="130000"/>
              <a:buFont typeface="Arial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shapefil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com amostras (sobrescrever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mostras.shp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999"/>
              </a:spcBef>
              <a:buClr>
                <a:srgbClr val="336699"/>
              </a:buClr>
              <a:buSzPct val="130000"/>
              <a:buFont typeface="Arial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 e 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5 – Limiarização (1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217440" y="1122120"/>
            <a:ext cx="8786880" cy="36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projeto de interpretação adicionando a imag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ijuca.t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rede semântica com os nós: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Não_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o operador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TopDow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Arithmetic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m os seguintes atribut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3281400" y="2230560"/>
            <a:ext cx="1638360" cy="923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5" descr=""/>
          <p:cNvPicPr/>
          <p:nvPr/>
        </p:nvPicPr>
        <p:blipFill>
          <a:blip r:embed="rId2"/>
          <a:stretch/>
        </p:blipFill>
        <p:spPr>
          <a:xfrm>
            <a:off x="2690640" y="3936960"/>
            <a:ext cx="31244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5 – Limiarização (1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17440" y="1122120"/>
            <a:ext cx="878688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arcar o operador com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Multi-Clas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 e 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vestigar os result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lterar os limiares (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hreshold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 do operador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Arithmet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 e re-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6 – Limiarização (2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217440" y="1122120"/>
            <a:ext cx="878688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b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à rede semântica do exercício anteri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smarcar o atribut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Multi-Clas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limpar o atributo</a:t>
            </a:r>
            <a:br>
              <a:rPr sz="1600"/>
            </a:b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Non-Class nam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alterar o valor do atribut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Reliability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0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b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o operador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TopDow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Arithmetic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m os seguintes atribut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6696000" y="1177920"/>
            <a:ext cx="1629000" cy="12477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"/>
          <p:cNvPicPr/>
          <p:nvPr/>
        </p:nvPicPr>
        <p:blipFill>
          <a:blip r:embed="rId2"/>
          <a:stretch/>
        </p:blipFill>
        <p:spPr>
          <a:xfrm>
            <a:off x="2768760" y="3921120"/>
            <a:ext cx="313344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6 – Limiarização (2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217440" y="1122120"/>
            <a:ext cx="8786880" cy="47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71240" indent="-447840">
              <a:spcBef>
                <a:spcPts val="1800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, executar a interpretação e observar os result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1240" indent="-447840">
              <a:spcBef>
                <a:spcPts val="1800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lterar o atribut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Reliability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0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1240" indent="-447840">
              <a:spcBef>
                <a:spcPts val="1800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, executar a interpretação e observar os result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1240" indent="-447840">
              <a:spcBef>
                <a:spcPts val="1800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o layer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braTD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conforme a figura abaix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1240" indent="-447840">
              <a:spcBef>
                <a:spcPts val="1800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1240" indent="-447840">
              <a:spcBef>
                <a:spcPts val="1800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1240" indent="-447840">
              <a:spcBef>
                <a:spcPts val="1800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1240" indent="-447840">
              <a:spcBef>
                <a:spcPts val="1800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1240" indent="-447840">
              <a:spcBef>
                <a:spcPts val="1800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1240" indent="-447840">
              <a:spcBef>
                <a:spcPts val="1800"/>
              </a:spcBef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Visualizar o layer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mbraTD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2708280" y="3056040"/>
            <a:ext cx="340992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7 – Depuração e Exploração de Atributos (1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17440" y="1122120"/>
            <a:ext cx="878688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projeto de interpretação adicionando a imag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ijuca.t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shapefil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com uma pequena área 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 interesse (ROI) sobre uma região da 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magem com 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hapefile Edito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shapefile como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oi.shp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adicioná-lo aos recursos do projeto com o nom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oi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4905360" y="2128680"/>
            <a:ext cx="3049560" cy="28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7 – Depuração e Exploração de Atributos (1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17440" y="1122120"/>
            <a:ext cx="878688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rede semântica com os nós: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OI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ROI o operador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TopDow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ShapeFile_Import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com os seguintes atributos: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hape File Nam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=roi;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Label Image Resolutio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=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o operador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TopDown</a:t>
            </a:r>
            <a:br>
              <a:rPr sz="1600"/>
            </a:b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NDVI_Segmente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com os seguintes atribut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ditar a regra de decisão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TopDow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 adicionar a class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selecionar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Merge Al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 e 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6157800" y="1122480"/>
            <a:ext cx="1428840" cy="8762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"/>
          <p:cNvPicPr/>
          <p:nvPr/>
        </p:nvPicPr>
        <p:blipFill>
          <a:blip r:embed="rId2"/>
          <a:stretch/>
        </p:blipFill>
        <p:spPr>
          <a:xfrm>
            <a:off x="5643720" y="2752560"/>
            <a:ext cx="276192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7 – Depuração e Exploração de Atributos (1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7440" y="1122120"/>
            <a:ext cx="878688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à rede semântica, como filhos do </a:t>
            </a: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os nós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rbóre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astei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lterar o valor do atribut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Breakpoint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rbóre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opDow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a associar ao nó o operador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Baatz_Segmente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com os seguintes atributo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buClr>
                <a:srgbClr val="336699"/>
              </a:buClr>
              <a:buSzPct val="130000"/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ditar a regra de decisão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TopDow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rbóre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 adicionar a class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rbóre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75920" indent="-452520">
              <a:spcBef>
                <a:spcPts val="1199"/>
              </a:spcBef>
              <a:buClr>
                <a:srgbClr val="3366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4957920" y="1195560"/>
            <a:ext cx="1590480" cy="14857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2"/>
          <a:stretch/>
        </p:blipFill>
        <p:spPr>
          <a:xfrm>
            <a:off x="2975040" y="3490920"/>
            <a:ext cx="294300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7 – Depuração e Exploração de Atributos (1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17440" y="1122120"/>
            <a:ext cx="878688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esabilitar 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astei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essionar o bot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Debug Mod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executar o projeto de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uando a interpretação pausar, abrir 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Analysis Explore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"/>
          <p:cNvPicPr/>
          <p:nvPr/>
        </p:nvPicPr>
        <p:blipFill>
          <a:blip r:embed="rId1"/>
          <a:stretch/>
        </p:blipFill>
        <p:spPr>
          <a:xfrm>
            <a:off x="3510000" y="1168560"/>
            <a:ext cx="1466640" cy="1419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"/>
          <p:cNvPicPr/>
          <p:nvPr/>
        </p:nvPicPr>
        <p:blipFill>
          <a:blip r:embed="rId2"/>
          <a:stretch/>
        </p:blipFill>
        <p:spPr>
          <a:xfrm>
            <a:off x="2752560" y="3967200"/>
            <a:ext cx="297180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1 – Segmentação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17440" y="1122120"/>
            <a:ext cx="878688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projeto de interpretação adicionando a imag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ijuca.t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vestigar as possibilidades de visualização da imagem (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pa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zoom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mudança de composição de core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rede com um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gment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gment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um operador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TopDow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e segmentaçã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216000">
              <a:spcBef>
                <a:spcPts val="60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TA_Baatz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216000">
              <a:spcBef>
                <a:spcPts val="60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TA_Region_Growing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216000">
              <a:spcBef>
                <a:spcPts val="60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TA_Checkerboard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216000"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982800" indent="-216000"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 e 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4657680" y="2817720"/>
            <a:ext cx="137160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7 – Depuração e Exploração de Atributos (1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217440" y="1122120"/>
            <a:ext cx="878688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à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Decision Tre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os atributos: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ntropyLayer4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atioLayer4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;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reaArb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como na figura abaix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essionar o bot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o painel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Control Pane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essionar o bot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Attribute View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o painel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Control Pane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selecionar um dos novos atributos e pressionar o botão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Apply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 Repetir a operação para outros atribu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8" descr=""/>
          <p:cNvPicPr/>
          <p:nvPr/>
        </p:nvPicPr>
        <p:blipFill>
          <a:blip r:embed="rId1"/>
          <a:stretch/>
        </p:blipFill>
        <p:spPr>
          <a:xfrm>
            <a:off x="3263760" y="3560760"/>
            <a:ext cx="1524240" cy="14097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9" descr=""/>
          <p:cNvPicPr/>
          <p:nvPr/>
        </p:nvPicPr>
        <p:blipFill>
          <a:blip r:embed="rId2"/>
          <a:stretch/>
        </p:blipFill>
        <p:spPr>
          <a:xfrm>
            <a:off x="2701800" y="1677960"/>
            <a:ext cx="36482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7 – Depuração e Exploração de Atributos (1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17440" y="1122120"/>
            <a:ext cx="878688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essionar o bot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Analysis Tools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o painel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Control Pane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gerar o histograma para um dos atributos e investigar limiares de seleção (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election Threshold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. Repetir a operação para outros atribu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Gerar um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scatter plot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ara dois atributos e investigar linhas de seleção (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election Lin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um critério de seleção como na figura abaixo à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Decision Tre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1" descr=""/>
          <p:cNvPicPr/>
          <p:nvPr/>
        </p:nvPicPr>
        <p:blipFill>
          <a:blip r:embed="rId1"/>
          <a:stretch/>
        </p:blipFill>
        <p:spPr>
          <a:xfrm>
            <a:off x="2836800" y="3616200"/>
            <a:ext cx="36482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7 – Depuração e Exploração de Atributos (1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17440" y="1122120"/>
            <a:ext cx="878688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0960" indent="-457200">
              <a:spcBef>
                <a:spcPts val="2401"/>
              </a:spcBef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essionar o bot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election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o painel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Control Panel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 depois o botão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 Ru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401"/>
              </a:spcBef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401"/>
              </a:spcBef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401"/>
              </a:spcBef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aminar visualmente os objetos que fazem parte d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Input Laye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d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Output Laye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401"/>
              </a:spcBef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lterar os critérios de seleção na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Decision Tre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pressionar o bot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Control Pane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401"/>
              </a:spcBef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uando satisfeito com os resultados, pressionar o bot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2401"/>
              </a:spcBef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ressionar o bot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Continu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continuar a interpretação e avaliar os result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2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1"/>
          <a:stretch/>
        </p:blipFill>
        <p:spPr>
          <a:xfrm>
            <a:off x="2751120" y="5235480"/>
            <a:ext cx="2914560" cy="733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0" descr=""/>
          <p:cNvPicPr/>
          <p:nvPr/>
        </p:nvPicPr>
        <p:blipFill>
          <a:blip r:embed="rId2"/>
          <a:stretch/>
        </p:blipFill>
        <p:spPr>
          <a:xfrm>
            <a:off x="2373480" y="1577880"/>
            <a:ext cx="376236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7 – Depuração e Exploração de Atributos (1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17440" y="1122120"/>
            <a:ext cx="8786880" cy="29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47120" indent="-425160">
              <a:buClr>
                <a:srgbClr val="336699"/>
              </a:buClr>
              <a:buSzPct val="130000"/>
              <a:buFont typeface="Arial"/>
              <a:buAutoNum type="arabicParenR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Habilitar 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astei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na rede semân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buClr>
                <a:srgbClr val="336699"/>
              </a:buClr>
              <a:buSzPct val="130000"/>
              <a:buFont typeface="Arial"/>
              <a:buAutoNum type="arabicParenR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buClr>
                <a:srgbClr val="336699"/>
              </a:buClr>
              <a:buSzPct val="130000"/>
              <a:buFont typeface="Arial"/>
              <a:buAutoNum type="arabicParenR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buClr>
                <a:srgbClr val="336699"/>
              </a:buClr>
              <a:buSzPct val="130000"/>
              <a:buFont typeface="Arial"/>
              <a:buAutoNum type="arabicParenR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buClr>
                <a:srgbClr val="336699"/>
              </a:buClr>
              <a:buSzPct val="130000"/>
              <a:buFont typeface="Arial"/>
              <a:buAutoNum type="arabicParenR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buClr>
                <a:srgbClr val="336699"/>
              </a:buClr>
              <a:buSzPct val="130000"/>
              <a:buFont typeface="Arial"/>
              <a:buAutoNum type="arabicParenR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buClr>
                <a:srgbClr val="336699"/>
              </a:buClr>
              <a:buSzPct val="130000"/>
              <a:buFont typeface="Arial"/>
              <a:buAutoNum type="arabicParenR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buClr>
                <a:srgbClr val="336699"/>
              </a:buClr>
              <a:buSzPct val="130000"/>
              <a:buFont typeface="Arial"/>
              <a:buAutoNum type="arabicParenR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ir do modo de depuração, despressionando o bot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Debug Mod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buClr>
                <a:srgbClr val="336699"/>
              </a:buClr>
              <a:buSzPct val="130000"/>
              <a:buFont typeface="Arial"/>
              <a:buAutoNum type="arabicParenR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buClr>
                <a:srgbClr val="336699"/>
              </a:buClr>
              <a:buSzPct val="130000"/>
              <a:buFont typeface="Arial"/>
              <a:buAutoNum type="arabicParenR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120" indent="-425160">
              <a:buClr>
                <a:srgbClr val="336699"/>
              </a:buClr>
              <a:buSzPct val="130000"/>
              <a:buFont typeface="Arial"/>
              <a:buAutoNum type="arabicParenR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 e 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4957920" y="1195560"/>
            <a:ext cx="15904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8 – Depuração e Exploração de Atributos (2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217440" y="1122480"/>
            <a:ext cx="878688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lterar o projeto de interpretação criado no exercício anterior:</a:t>
            </a:r>
            <a:br>
              <a:rPr sz="1600"/>
            </a:br>
            <a:br>
              <a:rPr sz="1600"/>
            </a:b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tilizando 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Analysis Explore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efinir uma regra de decisão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TopDow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iferente da usada no Exercício 7 (usando outros atributos) para 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rbóre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6" descr=""/>
          <p:cNvPicPr/>
          <p:nvPr/>
        </p:nvPicPr>
        <p:blipFill>
          <a:blip r:embed="rId1"/>
          <a:stretch/>
        </p:blipFill>
        <p:spPr>
          <a:xfrm>
            <a:off x="2701800" y="2557440"/>
            <a:ext cx="364824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9 – Investigação de um projeto complexo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17440" y="1122480"/>
            <a:ext cx="878688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brir o projeto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laudo_tessio_landcover.gap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examinar operadores, regras de decisão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BottomUp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TopDow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associados aos diferentes nós da rede semân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"/>
          <p:cNvPicPr/>
          <p:nvPr/>
        </p:nvPicPr>
        <p:blipFill>
          <a:blip r:embed="rId1"/>
          <a:stretch/>
        </p:blipFill>
        <p:spPr>
          <a:xfrm>
            <a:off x="1446120" y="1957320"/>
            <a:ext cx="6051600" cy="42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240" y="3695400"/>
            <a:ext cx="8558280" cy="93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dddddd"/>
                </a:solidFill>
                <a:latin typeface="Arial Black"/>
              </a:rPr>
              <a:t>InterIMAGE Workshop – Exercícios</a:t>
            </a:r>
            <a:br>
              <a:rPr sz="2200"/>
            </a:br>
            <a:r>
              <a:rPr b="0" lang="pt-BR" sz="2200" spc="-1" strike="noStrike">
                <a:solidFill>
                  <a:srgbClr val="dddddd"/>
                </a:solidFill>
                <a:latin typeface="Arial Black"/>
              </a:rPr>
              <a:t>Dezembro de 2011</a:t>
            </a:r>
            <a:endParaRPr b="0" lang="en-US" sz="22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228600" y="4743360"/>
            <a:ext cx="6934320" cy="130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Gilson A. O. P. Co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alibri"/>
              </a:rPr>
              <a:t>Rodrigo S. Ferrei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inpe_logo1"/>
          <p:cNvPicPr/>
          <p:nvPr/>
        </p:nvPicPr>
        <p:blipFill>
          <a:blip r:embed="rId1"/>
          <a:stretch/>
        </p:blipFill>
        <p:spPr>
          <a:xfrm>
            <a:off x="297000" y="5918040"/>
            <a:ext cx="860400" cy="729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"/>
          <p:cNvPicPr/>
          <p:nvPr/>
        </p:nvPicPr>
        <p:blipFill>
          <a:blip r:embed="rId2"/>
          <a:stretch/>
        </p:blipFill>
        <p:spPr>
          <a:xfrm>
            <a:off x="6300720" y="-177840"/>
            <a:ext cx="286704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1 – Segmentação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17440" y="1122120"/>
            <a:ext cx="878688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vestigar as possibilidades de visualização do resultado da segmentação através do painel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Layer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(cor da borda, opacidad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lterar os parâmetros do operador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TopDow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e segmen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 e 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lecionar outro operador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TopDow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e segmen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 e 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1 – Segmentação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17440" y="1122120"/>
            <a:ext cx="878688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0960" indent="-457200">
              <a:spcBef>
                <a:spcPts val="601"/>
              </a:spcBef>
              <a:buClr>
                <a:srgbClr val="336699"/>
              </a:buClr>
              <a:buSzPct val="130000"/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portar o resultado (segmentos) para um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shapefil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601"/>
              </a:spcBef>
              <a:buClr>
                <a:srgbClr val="336699"/>
              </a:buClr>
              <a:buSzPct val="130000"/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601"/>
              </a:spcBef>
              <a:buClr>
                <a:srgbClr val="336699"/>
              </a:buClr>
              <a:buSzPct val="130000"/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o shapefile aos recursos do projeto (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File/Edit Project...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601"/>
              </a:spcBef>
              <a:buClr>
                <a:srgbClr val="336699"/>
              </a:buClr>
              <a:buSzPct val="130000"/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601"/>
              </a:spcBef>
              <a:buClr>
                <a:srgbClr val="336699"/>
              </a:buClr>
              <a:buSzPct val="130000"/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Visualizar o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shapefil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através do InterIMAGE – criar uma camada do tip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hap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através do painel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Layer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601"/>
              </a:spcBef>
              <a:buClr>
                <a:srgbClr val="336699"/>
              </a:buClr>
              <a:buSzPct val="130000"/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601"/>
              </a:spcBef>
              <a:buClr>
                <a:srgbClr val="336699"/>
              </a:buClr>
              <a:buSzPct val="130000"/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vestigar as possibilidades de visualização do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shapefil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através do painel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Layer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(cor da borda, preenchimento, opacidad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601"/>
              </a:spcBef>
              <a:buClr>
                <a:srgbClr val="336699"/>
              </a:buClr>
              <a:buSzPct val="130000"/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601"/>
              </a:spcBef>
              <a:buClr>
                <a:srgbClr val="336699"/>
              </a:buClr>
              <a:buSzPct val="130000"/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portar o resultado resultado (segmentos) para um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shapefil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novamente, mas dessa vez, marcar a opçã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Merge Neighbour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601"/>
              </a:spcBef>
              <a:buClr>
                <a:srgbClr val="336699"/>
              </a:buClr>
              <a:buSzPct val="130000"/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601"/>
              </a:spcBef>
              <a:buClr>
                <a:srgbClr val="336699"/>
              </a:buClr>
              <a:buSzPct val="130000"/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o novo shapefile aos recursos do projeto e criar uma nova camada do tip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hap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através do painel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Layer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Calibri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2 – Segmentação intra-regiões (1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17440" y="1122120"/>
            <a:ext cx="878688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projeto de interpretação adicionando a imag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ijuca.tif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 o shapefile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quadras.shp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camada do tipo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Shap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através do painel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Layer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ara o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shapefil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e quad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vestigar as possibilidades de visualização do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shapefil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e quadras (cor da borda, preenchimento, opacidade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Tornar invisível o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shapefil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e quad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rede com os nós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d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gment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1600"/>
            </a:br>
            <a:br>
              <a:rPr sz="1600"/>
            </a:br>
            <a:r>
              <a:rPr b="0" lang="pt-BR" sz="1600" spc="-1" strike="noStrike">
                <a:solidFill>
                  <a:srgbClr val="c00000"/>
                </a:solidFill>
                <a:latin typeface="Arial"/>
              </a:rPr>
              <a:t>Atenção: recursos do projeto não podem ter o mesmo</a:t>
            </a:r>
            <a:br>
              <a:rPr sz="1600"/>
            </a:br>
            <a:r>
              <a:rPr b="0" lang="pt-BR" sz="1600" spc="-1" strike="noStrike">
                <a:solidFill>
                  <a:srgbClr val="c00000"/>
                </a:solidFill>
                <a:latin typeface="Arial"/>
              </a:rPr>
              <a:t>               nome que os nós da rede semântica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6126120" y="4514760"/>
            <a:ext cx="1581120" cy="9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2 – Segmentação intra-regiões (1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217440" y="1122120"/>
            <a:ext cx="878688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0960" indent="-457200">
              <a:spcBef>
                <a:spcPts val="1199"/>
              </a:spcBef>
              <a:buClr>
                <a:srgbClr val="336699"/>
              </a:buClr>
              <a:buSzPct val="130000"/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d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o operador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TopDow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TA_ShapeFile_Import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com os seguintes atributo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74600" indent="-30780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>
                <a:solidFill>
                  <a:srgbClr val="000000"/>
                </a:solidFill>
                <a:latin typeface="Arial"/>
              </a:rPr>
              <a:t>Shape File Name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= quadr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074600" indent="-30780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>
                <a:solidFill>
                  <a:srgbClr val="000000"/>
                </a:solidFill>
                <a:latin typeface="Arial"/>
              </a:rPr>
              <a:t>Shape File Attribute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= CODI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074600" indent="-30780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>
                <a:solidFill>
                  <a:srgbClr val="000000"/>
                </a:solidFill>
                <a:latin typeface="Arial"/>
              </a:rPr>
              <a:t>Label Image Resolution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= 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074600" indent="-30780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sociar a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gment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um operador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TopDow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e segmentaçã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74600" indent="-30780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>
                <a:solidFill>
                  <a:srgbClr val="000000"/>
                </a:solidFill>
                <a:latin typeface="Arial"/>
              </a:rPr>
              <a:t>TA_Baatz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074600" indent="-30780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>
                <a:solidFill>
                  <a:srgbClr val="000000"/>
                </a:solidFill>
                <a:latin typeface="Arial"/>
              </a:rPr>
              <a:t>TA_Checkerboard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074600" indent="-307800">
              <a:spcBef>
                <a:spcPts val="751"/>
              </a:spcBef>
              <a:buClr>
                <a:srgbClr val="3366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500" spc="-1" strike="noStrike">
                <a:solidFill>
                  <a:srgbClr val="000000"/>
                </a:solidFill>
                <a:latin typeface="Arial"/>
              </a:rPr>
              <a:t>TA_Region_Growing_Segment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ecutar a interpretação, observando os contadores de processos ao lado dos nós da rede semân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2 – Segmentação intra-regiões (1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17440" y="1122120"/>
            <a:ext cx="8786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Visualizar os resultados d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lapsar 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d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observar os atributos dos objetos no painel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Object Informatio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ditar a regra de decisão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TopDow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d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d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 adicionar a classe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d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selecionar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Merge Al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ecutar a interpretação, observando os contadores de processos ao lado dos nós da rede semânt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lapsar 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dr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observar os atributos dos objetos no painel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Object Informatio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Calibri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3 – Segmentação intra-regiões (2)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17440" y="1122120"/>
            <a:ext cx="878688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icionar o nó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ua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à rede semântica do exercício anterio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 e executar a interpreta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Visualizar o result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portar o resultado para um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shapefil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601"/>
              </a:spcBef>
              <a:buClr>
                <a:srgbClr val="3366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colher a opção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quando selecionar a classe de objetos a export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601"/>
              </a:spcBef>
              <a:buClr>
                <a:srgbClr val="3366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serir uma expressão para calcular o brilho dos obje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601"/>
              </a:spcBef>
              <a:buClr>
                <a:srgbClr val="3366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601"/>
              </a:spcBef>
              <a:buClr>
                <a:srgbClr val="3366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601"/>
              </a:spcBef>
              <a:buClr>
                <a:srgbClr val="3366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brir o 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shapefil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m um SIG e visualizar a sua tabela de atribu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buClr>
                <a:srgbClr val="336699"/>
              </a:buClr>
              <a:buSzPct val="130000"/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601"/>
              </a:spcBef>
              <a:buClr>
                <a:srgbClr val="3366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392880" y="1122480"/>
            <a:ext cx="1504800" cy="1199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"/>
          <p:cNvPicPr/>
          <p:nvPr/>
        </p:nvPicPr>
        <p:blipFill>
          <a:blip r:embed="rId2"/>
          <a:stretch/>
        </p:blipFill>
        <p:spPr>
          <a:xfrm>
            <a:off x="2949480" y="4649760"/>
            <a:ext cx="24577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2920" y="142560"/>
            <a:ext cx="885816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dddddd"/>
                </a:solidFill>
                <a:latin typeface="Arial Black"/>
              </a:rPr>
              <a:t>Exercício 4 – Classificação supervisionada</a:t>
            </a:r>
            <a:endParaRPr b="0" lang="en-US" sz="2000" spc="-1" strike="noStrike">
              <a:solidFill>
                <a:srgbClr val="dddddd"/>
              </a:solidFill>
              <a:latin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217440" y="1122120"/>
            <a:ext cx="8786880" cy="539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 projeto de interpretação adicionando a imag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ijuca.t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rede semântica com os nós: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nstruçõe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elhado_Cerâmic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eget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riar uma nova composição colorida da imagem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ijuca.tif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(R4,G1,B2) através do painel </a:t>
            </a:r>
            <a:r>
              <a:rPr b="1" i="1" lang="pt-BR" sz="1600" spc="-1" strike="noStrike">
                <a:solidFill>
                  <a:srgbClr val="000000"/>
                </a:solidFill>
                <a:latin typeface="Arial"/>
              </a:rPr>
              <a:t>Layer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80960" indent="-457200">
              <a:spcBef>
                <a:spcPts val="799"/>
              </a:spcBef>
              <a:buClr>
                <a:srgbClr val="336699"/>
              </a:buClr>
              <a:buSzPct val="13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alvar o proje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3476520" y="2330280"/>
            <a:ext cx="17719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6T20:37:11Z</dcterms:created>
  <dc:creator/>
  <dc:description/>
  <dc:language>en-US</dc:language>
  <cp:lastModifiedBy/>
  <dcterms:modified xsi:type="dcterms:W3CDTF">2011-11-30T18:36:20Z</dcterms:modified>
  <cp:revision>294</cp:revision>
  <dc:subject/>
  <dc:title>SISTEMAS NEURO-FUZZY PARA CLASSIFICACAO DE IMAGENS DE SENSORES REMOTO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LCID">
    <vt:r8>1046</vt:r8>
  </property>
  <property fmtid="{D5CDD505-2E9C-101B-9397-08002B2CF9AE}" pid="3" name="_Version">
    <vt:lpwstr>12.0.4518</vt:lpwstr>
  </property>
</Properties>
</file>