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344456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9" descr="logo_lvc"/>
          <p:cNvPicPr/>
          <p:nvPr/>
        </p:nvPicPr>
        <p:blipFill>
          <a:blip r:embed="rId2">
            <a:grayscl/>
          </a:blip>
          <a:stretch/>
        </p:blipFill>
        <p:spPr>
          <a:xfrm>
            <a:off x="8405640" y="6357960"/>
            <a:ext cx="562320" cy="365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0" descr="logo_lvc_name"/>
          <p:cNvPicPr/>
          <p:nvPr/>
        </p:nvPicPr>
        <p:blipFill>
          <a:blip r:embed="rId3">
            <a:grayscl/>
          </a:blip>
          <a:stretch/>
        </p:blipFill>
        <p:spPr>
          <a:xfrm>
            <a:off x="6727680" y="6515280"/>
            <a:ext cx="1651320" cy="19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571680" y="6429240"/>
            <a:ext cx="620640" cy="3574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"/>
          <p:cNvPicPr/>
          <p:nvPr/>
        </p:nvPicPr>
        <p:blipFill>
          <a:blip r:embed="rId5"/>
          <a:stretch/>
        </p:blipFill>
        <p:spPr>
          <a:xfrm>
            <a:off x="142920" y="6286680"/>
            <a:ext cx="419040" cy="466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76320" y="5842080"/>
            <a:ext cx="13208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0" descr="inpe_logo1"/>
          <p:cNvPicPr/>
          <p:nvPr/>
        </p:nvPicPr>
        <p:blipFill>
          <a:blip r:embed="rId6"/>
          <a:stretch/>
        </p:blipFill>
        <p:spPr>
          <a:xfrm>
            <a:off x="233280" y="6230880"/>
            <a:ext cx="590760" cy="500040"/>
          </a:xfrm>
          <a:prstGeom prst="rect">
            <a:avLst/>
          </a:prstGeom>
          <a:ln w="0">
            <a:noFill/>
          </a:ln>
        </p:spPr>
      </p:pic>
      <p:sp>
        <p:nvSpPr>
          <p:cNvPr id="10" name="Text Box 12"/>
          <p:cNvSpPr/>
          <p:nvPr/>
        </p:nvSpPr>
        <p:spPr>
          <a:xfrm>
            <a:off x="8401320" y="-792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DC26-34F4-42AE-9248-0B99BD077A55}" type="slidenum">
              <a:rPr b="0" lang="pt-BR" sz="1400" spc="-1" strike="noStrike">
                <a:solidFill>
                  <a:srgbClr val="dddddd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350532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1000080"/>
            <a:ext cx="9144000" cy="264312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4646520"/>
            <a:ext cx="9144000" cy="2700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049400" cy="1857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1" name="Picture 79" descr="logo_lvc"/>
          <p:cNvPicPr/>
          <p:nvPr/>
        </p:nvPicPr>
        <p:blipFill>
          <a:blip r:embed="rId3">
            <a:grayscl/>
          </a:blip>
          <a:stretch/>
        </p:blipFill>
        <p:spPr>
          <a:xfrm>
            <a:off x="8215200" y="6072120"/>
            <a:ext cx="642960" cy="41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0" descr="logo_lvc_name"/>
          <p:cNvPicPr/>
          <p:nvPr/>
        </p:nvPicPr>
        <p:blipFill>
          <a:blip r:embed="rId4">
            <a:grayscl/>
          </a:blip>
          <a:stretch/>
        </p:blipFill>
        <p:spPr>
          <a:xfrm>
            <a:off x="7215120" y="6500880"/>
            <a:ext cx="1650960" cy="191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344456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a0a0a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B033-4AF8-4DAB-BE80-1C34CF49FB0C}" type="datetime">
              <a:rPr b="0" lang="pt-BR" sz="2400" spc="-1" strike="noStrike">
                <a:solidFill>
                  <a:srgbClr val="a0a0a0"/>
                </a:solidFill>
                <a:latin typeface="Calibri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pt-BR" sz="2200" spc="-1" strike="noStrike">
                <a:solidFill>
                  <a:srgbClr val="dddddd"/>
                </a:solidFill>
                <a:latin typeface="Arial Black"/>
              </a:rPr>
              <a:t>Dezembro de 2011</a:t>
            </a:r>
            <a:endParaRPr b="0" lang="en-US" sz="22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inpe_logo1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lecionar (clicar no)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e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sando para a segmentação o operador Top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_Baatz_Segmen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cale Parame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7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shapefile com amostras par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c00000"/>
                </a:solidFill>
                <a:latin typeface="Arial"/>
              </a:rPr>
              <a:t>sem fecha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exportando os atributos como mostra a figu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os recursos do projeto com o nom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2517840" y="3200400"/>
            <a:ext cx="45910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truçõe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C45_Classifi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configurando os atributos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raining Set 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nput Shape 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arcar o operador com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ulti-Clas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aminar o resultado d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mais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as classes com maior confus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amostras (sobrescrev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5 – Limiarização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17440" y="1122120"/>
            <a:ext cx="878688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ão_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281400" y="2230560"/>
            <a:ext cx="1638360" cy="923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690640" y="3936960"/>
            <a:ext cx="3124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5 – Limiarização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arcar o operador com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ulti-Clas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limiares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hreshol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 do operado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re-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6 –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 do exercício anteri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marcar 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ulti-Clas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limpar o atributo</a:t>
            </a:r>
            <a:br>
              <a:rPr sz="1600"/>
            </a:b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Non-Class nam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696000" y="1177920"/>
            <a:ext cx="1629000" cy="1247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2768760" y="3921120"/>
            <a:ext cx="31334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6 –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17440" y="1122120"/>
            <a:ext cx="8786880" cy="47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, 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, 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nforme a figura abaix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2708280" y="3056040"/>
            <a:ext cx="34099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uma pequena área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interesse (ROI) sobre uma região da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agem com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file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shapefile com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oi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adicioná-lo aos recursos do projeto com o nom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o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4905360" y="2128680"/>
            <a:ext cx="3049560" cy="28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O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ROI 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ShapeFile_Impor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 File Nam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roi;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bel Image Resolu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br>
              <a:rPr sz="1600"/>
            </a:b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NDVI_Segment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eleciona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erge 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6157800" y="1122480"/>
            <a:ext cx="1428840" cy="876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2"/>
          <a:stretch/>
        </p:blipFill>
        <p:spPr>
          <a:xfrm>
            <a:off x="5643720" y="2752560"/>
            <a:ext cx="27619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à rede semântica, como filhos do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st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Breakpoin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 associar ao nó o operado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spcBef>
                <a:spcPts val="11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957920" y="1195560"/>
            <a:ext cx="1590480" cy="1485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2975040" y="3490920"/>
            <a:ext cx="29430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abilit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st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bug Mod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executar o projeto de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ndo a interpretação pausar, abri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nalysis Explor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3510000" y="1168560"/>
            <a:ext cx="1466640" cy="1419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2752560" y="3967200"/>
            <a:ext cx="2971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1 – Segmentaçã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a imagem (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pa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zoom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mudança de composição de cor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um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657680" y="2817720"/>
            <a:ext cx="13716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à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cision Tre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s atributo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tropyLayer4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tioLayer4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eaArb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como na figura abaix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ttribute View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selecionar um dos novos atributos e pressionar o botão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ppl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Repetir a operação para outros atrib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1"/>
          <a:stretch/>
        </p:blipFill>
        <p:spPr>
          <a:xfrm>
            <a:off x="3263760" y="3560760"/>
            <a:ext cx="1524240" cy="1409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2"/>
          <a:stretch/>
        </p:blipFill>
        <p:spPr>
          <a:xfrm>
            <a:off x="2701800" y="1677960"/>
            <a:ext cx="36482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nalysis Tool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gerar o histograma para um dos atributos e investigar limiares de seleção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election Threshol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 Repetir a operação para outros atrib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erar um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catter plot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dois atributos e investigar linhas de seleção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election 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um critério de seleção como na figura abaixo à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cision Tre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"/>
          <p:cNvPicPr/>
          <p:nvPr/>
        </p:nvPicPr>
        <p:blipFill>
          <a:blip r:embed="rId1"/>
          <a:stretch/>
        </p:blipFill>
        <p:spPr>
          <a:xfrm>
            <a:off x="2836800" y="3616200"/>
            <a:ext cx="36482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2401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depois o botão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 Ru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401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401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401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aminar visualmente os objetos que fazem parte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nput Lay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utput Lay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401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critérios de seleção na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cision Tre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401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ndo satisfeito com os resultados, 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401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inu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continuar a interpretação e avali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2751120" y="5235480"/>
            <a:ext cx="2914560" cy="733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2"/>
          <a:stretch/>
        </p:blipFill>
        <p:spPr>
          <a:xfrm>
            <a:off x="2373480" y="1577880"/>
            <a:ext cx="37623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7440" y="1122120"/>
            <a:ext cx="878688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abilit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st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n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ir do modo de depuração, despressionando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bug Mod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4957920" y="1195560"/>
            <a:ext cx="15904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8 – Depuração e Exploração de Atributos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17440" y="1122480"/>
            <a:ext cx="87868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 projeto de interpretação criado no exercício anterior: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ando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nalysis Explor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finir uma regra de decisã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iferente da usada no Exercício 7 (usando outros atributos) para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2701800" y="2557440"/>
            <a:ext cx="36482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9 – Investigação de um projeto complex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17440" y="1122480"/>
            <a:ext cx="87868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brir o projet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audo_tessio_landcover.ga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examinar operadores, regras de decisã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BottomU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ssociados aos diferente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446120" y="1957320"/>
            <a:ext cx="60516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pt-BR" sz="2200" spc="-1" strike="noStrike">
                <a:solidFill>
                  <a:srgbClr val="dddddd"/>
                </a:solidFill>
                <a:latin typeface="Arial Black"/>
              </a:rPr>
              <a:t>Dezembro de 2011</a:t>
            </a:r>
            <a:endParaRPr b="0" lang="en-US" sz="22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inpe_logo1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1 – Segmentaçã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resultado da segmentação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cor da borda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parâmetros d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segmen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lecionar outr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segmen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1 – Segmentaçã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 resultado (segmentos) para um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shapefile aos recursos do projeto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File/Edit Project..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través do InterIMAGE – criar uma camada do tip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 resultado resultado (segmentos) para um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novamente, mas dessa vez, marcar a opç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erge Neighbou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ovo shapefile aos recursos do projeto e criar uma nova camada do tip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Calibri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Segmentação intra-regiõe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o shapefile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quad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camada do tip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quad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quadras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ornar invisível 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quad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c00000"/>
                </a:solidFill>
                <a:latin typeface="Arial"/>
              </a:rPr>
              <a:t>Atenção: recursos do projeto não podem ter o mesmo</a:t>
            </a:r>
            <a:br>
              <a:rPr sz="1600"/>
            </a:br>
            <a:r>
              <a:rPr b="0" lang="pt-BR" sz="1600" spc="-1" strike="noStrike">
                <a:solidFill>
                  <a:srgbClr val="c00000"/>
                </a:solidFill>
                <a:latin typeface="Arial"/>
              </a:rPr>
              <a:t>               nome que os nós da rede semântic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6126120" y="4514760"/>
            <a:ext cx="15811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Segmentação intra-regiõe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ShapeFile_Impor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078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Shape File Name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= quadr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078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Shape File Attribute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= CODI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078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Label Image Resolution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078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078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078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078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Segmentação intra-regiõe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7440" y="1122120"/>
            <a:ext cx="8786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s resultados d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eleciona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erge 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Calibri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3 – Segmentação intra-regiões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u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 do exercício anteri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resul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 resultado para um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colher a opçã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quando selecionar a classe de objetos a export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erir uma expressão para calcular o brilho dos obje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brir 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m um SIG e visualizar a sua tabela de atrib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392880" y="1122480"/>
            <a:ext cx="1504800" cy="119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2949480" y="4649760"/>
            <a:ext cx="2457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truçõe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lhado_Cerâm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nova composição colorida d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R4,G1,B2)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3476520" y="2330280"/>
            <a:ext cx="1771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20:37:11Z</dcterms:created>
  <dc:creator/>
  <dc:description/>
  <dc:language>en-US</dc:language>
  <cp:lastModifiedBy/>
  <dcterms:modified xsi:type="dcterms:W3CDTF">2011-11-30T18:36:20Z</dcterms:modified>
  <cp:revision>294</cp:revision>
  <dc:subject/>
  <dc:title>SISTEMAS NEURO-FUZZY PARA CLASSIFICACAO DE IMAGENS DE SENSORES REMO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6</vt:r8>
  </property>
  <property fmtid="{D5CDD505-2E9C-101B-9397-08002B2CF9AE}" pid="3" name="_Version">
    <vt:lpwstr>12.0.4518</vt:lpwstr>
  </property>
</Properties>
</file>